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CBE8-0485-4BF9-BE88-5FB56A4204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4CC8-E4C5-4A14-9A6A-113A13987F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31F2-43CA-4E65-8DDD-6626E08B25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E44B-EA5F-436B-BD3E-0156475688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9EC9-EBFF-4115-B1B1-B484B3E30D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CAA-0B15-494C-B586-B08CE8A4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DFD-C1D0-4872-8FDE-70E8E492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60B-A428-40F7-A4DE-14F6A3CF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EF8-E739-4A6C-A039-546EB981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571-77B0-436B-8CE6-6E6193C3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834-0C51-4EF6-B574-00417FF4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C87-B0A2-40B7-BD84-8920D988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0DF-19D8-4BC3-84EE-10BB5D1D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F79-027D-43BE-9476-3C0C2BA2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261-5872-415E-AF57-F920D27E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75F-2C24-4D8E-974C-D754F716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14A-4E34-435D-B4E2-65ABB41D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5EFA-6875-4BC9-A5B4-1119E37C7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МБДОУ «Детский сад № 1 п. Верховье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14680" y="1642680"/>
            <a:ext cx="70005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Физкультурно-оздоровительная работа с детьми  старшего дошкольного возраст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в контексте ФГ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 Narrow"/>
              </a:rPr>
              <a:t>Воспитатель Ответчикова Е.С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2643120" y="457200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824ac61b9fbc2cb9f90bfd72eea0816d"/>
          <p:cNvPicPr/>
          <p:nvPr/>
        </p:nvPicPr>
        <p:blipFill>
          <a:blip r:embed="rId2"/>
          <a:stretch/>
        </p:blipFill>
        <p:spPr>
          <a:xfrm>
            <a:off x="3571920" y="4643280"/>
            <a:ext cx="285732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99800" y="213840"/>
            <a:ext cx="5715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3.Формирование у детей начальных представлений о ЗОЖ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43080" y="1571400"/>
            <a:ext cx="67867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Формировать представление детей об особенностях строения и функционирования организма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Воспитывать  ценностное  отношение детей к здоровью и человеческой жизни, формировать потребности в гигиене и  бережном отношении к своему здоровью, желание вести ЗО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Учить детей управлять своим телом, чувствами, эмоциями посредством корригирующих упражнений, релаксации, ауто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2286000" y="61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643040" y="285840"/>
            <a:ext cx="6985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1643040" y="285840"/>
            <a:ext cx="698508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грация образовательной области «Физическое развити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другими обла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бразовательной деятельности по физическому развитию следует обращать внимание на одновременное решение задач других образовательных област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«Социально-коммуникативное развитие»</a:t>
            </a:r>
            <a:r>
              <a:rPr b="0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 процессе образовательной деятельности по физическому развитию педагогических ситуаций и ситуаций морального выбора, развитие нравственных качеств, поощрение проявлений смелости, находчивости, взаимовыручки, выдержки, побуждение детей к самооценке и оценке действий и поведения сверстников; привлечение детей к расстановке и уборке физкультурного инвентаря и оборуд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</a:t>
            </a: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Познавательное развитие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мышления детей (через самостоятельный выбор игры, оборудования, пересчет мячей), организация специальных упражнений на ориентировку в пространстве, подвижных игр и упражнений, закрепляющих знания об окружающем (имитация движения животных, труда взрослы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«Речевое развитие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ение детей к проговариванию действий и называнию упражнений, поощрение речевой активности в процессе двигательной деятельности, обсуждение пользы закаливания и занятий физической культурой; организация игр и упражнений под тексты стихотворений, потешек, считалок; сюжетных физкультурных занятий на темы прочитанных сказок и поте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«Художественно-эстетическое развитие»:</a:t>
            </a: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внимания дошкольников к эстетической стороне внешнего вида детей и инструктора по физической культуре, оформления спортивного зала; использование в процессе непосредственно образовательной деятельности изготовленных детьми элементарных физкультурных пособий (флажки, картинки, мишени для метания), рисование мелом разметки для подвижных игр; организация ритмической гимнастики, игр и упражнений под музыку, пение; проведение спортивных игр и соревнований под музыкальное сопровождение; развитие артистических способностей в подвижных играх имитационного характ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0"/>
          <p:cNvSpPr/>
          <p:nvPr/>
        </p:nvSpPr>
        <p:spPr>
          <a:xfrm>
            <a:off x="2143080" y="171468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Интеграция образовательной области «Физическое развит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с другими образовательными обла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2286000" y="61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2071800" y="428760"/>
            <a:ext cx="6556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2143080" y="1285920"/>
            <a:ext cx="6572160" cy="50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активизация мышления детей через самостоятельный выбор игры,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работа по карточ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организация специальных упражнений на ориентировку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организация подвижных игр с правилами и упражнений, закрепляющих знания об окружающем (имитация движения животных, труда взрослых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занятия на тему: «Твое здоровь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857680" y="571680"/>
            <a:ext cx="53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«Познавательное развит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2286000" y="61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2000160" y="0"/>
            <a:ext cx="6627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2071800" y="857160"/>
            <a:ext cx="6858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выполнение упражнений по словесной инстр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побуждение детей к проговариванию действий, правил игры и называнию упражнений, поощрение речевой активности в процессе двигательной деятельност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организация игр и упражнений под тексты стихотворений, поте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использование считалок, стихотворений, пе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проведение сюжетных физкультурных занятий на темы прочитанных сказок и поте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3714840" y="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«Речевое развит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2286000" y="61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1643040" y="285840"/>
            <a:ext cx="6985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1643040" y="285840"/>
            <a:ext cx="698508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грация образовательной области «Физическое развити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другими обла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бразовательной деятельности по физическому развитию следует обращать внимание на одновременное решение задач других образовательных област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«Социально-коммуникативное развитие»</a:t>
            </a:r>
            <a:r>
              <a:rPr b="0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 процессе образовательной деятельности по физическому развитию педагогических ситуаций и ситуаций морального выбора, развитие нравственных качеств, поощрение проявлений смелости, находчивости, взаимовыручки, выдержки, побуждение детей к самооценке и оценке действий и поведения сверстников; привлечение детей к расстановке и уборке физкультурного инвентаря и оборуд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</a:t>
            </a: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Познавательное развитие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мышления детей (через самостоятельный выбор игры, оборудования, пересчет мячей), организация специальных упражнений на ориентировку в пространстве, подвижных игр и упражнений, закрепляющих знания об окружающем (имитация движения животных, труда взрослы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«Речевое развитие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ение детей к проговариванию действий и называнию упражнений, поощрение речевой активности в процессе двигательной деятельности, обсуждение пользы закаливания и занятий физической культурой; организация игр и упражнений под тексты стихотворений, потешек, считалок; сюжетных физкультурных занятий на темы прочитанных сказок и поте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«Художественно-эстетическое развитие»:</a:t>
            </a: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внимания дошкольников к эстетической стороне внешнего вида детей и инструктора по физической культуре, оформления спортивного зала; использование в процессе непосредственно образовательной деятельности изготовленных детьми элементарных физкультурных пособий (флажки, картинки, мишени для метания), рисование мелом разметки для подвижных игр; организация ритмической гимнастики, игр и упражнений под музыку, пение; проведение спортивных игр и соревнований под музыкальное сопровождение; развитие артистических способностей в подвижных играх имитационного характ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2"/>
          <p:cNvSpPr/>
          <p:nvPr/>
        </p:nvSpPr>
        <p:spPr>
          <a:xfrm>
            <a:off x="2071800" y="1071720"/>
            <a:ext cx="7072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создание в процессе образовательной деятельности по физическому развитию педагогических ситуаций и ситуаций морального выб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развитие нравствен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поощрение проявлений смелости, находчивости, взаимовыручки, вы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побуждение детей к самооценке и оценке действий и поведения сверст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привлечение детей к расстановке и уборке физкультурного инвентаря и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2643120" y="28584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«Социально-коммуникативное развит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-711360"/>
            <a:ext cx="9786960" cy="7569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42760" y="-78588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«Художественно-эстетическое развит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71840" y="356760"/>
            <a:ext cx="65721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влечение внимания дошкольников к эстетической стороне внешнего вида  людей, занимающихся спорт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изготовление и использование  детьми элементарных физкультурных пособий (флажки, картинки, мишени для метания, шапочек для подвижных игр и 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рисование на спортивную темати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рисование мелом разметки для подвижных иг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организация ритмической гимнастики, игр и упражнений под музыку, п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развитие артистических способностей в подвижных играх имитационного характ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2286000" y="61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1643040" y="-857160"/>
            <a:ext cx="6985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1928880" y="928800"/>
            <a:ext cx="6770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Формы образовательной деятельности по приобщению детей  к физической культур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999800" y="928440"/>
            <a:ext cx="692964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Занятия по физическому развит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Эмоционально-стимулирующая утренняя гимна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Оздоровительная  гимнастика  пробуждения после дневного сна с включением 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Пальчиковая, дыхательная  гимна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Подвижные игры и физические упражнения на прогулке и в помещ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Самостоятельная двигательная деятельность детей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Физкультурная мину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Физкультурная пауз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Самомассаж  (  массажные шарики, мячики, дорож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</a:rPr>
              <a:t>Релаксация (игры с сенсорным оборудованием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Культурно-досуговая деятельность (физкультурные досуги, праздники, развлече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1f497d"/>
                </a:solidFill>
                <a:latin typeface="Georgia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42680" y="714240"/>
            <a:ext cx="6643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%D0%A4%D0%B8%D0%B7%D0%B8%D1%87%D0%B5%D1%81%D0%BA%D0%BE%D0%B5%20%D0%B2%D0%BE%D1%81%D0%BF%D0%B8%D1%82%D0%B0%D0%BD%D0%B8%D0%B5"/>
          <p:cNvPicPr/>
          <p:nvPr/>
        </p:nvPicPr>
        <p:blipFill>
          <a:blip r:embed="rId1"/>
          <a:stretch/>
        </p:blipFill>
        <p:spPr>
          <a:xfrm>
            <a:off x="5786280" y="4143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6"/>
          <p:cNvSpPr/>
          <p:nvPr/>
        </p:nvSpPr>
        <p:spPr>
          <a:xfrm>
            <a:off x="2571840" y="1071720"/>
            <a:ext cx="657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 Narrow"/>
              </a:rPr>
              <a:t>Таким образом, применение комплексной системы воспитательно-оздоровительной работы в дошкольном образовательном учреждении дает возможность  совместными усилиями  педагогического персонала  и родителей , опираясь на эффективные  педагогические и здоровьесберегающие  технологии, успешно решать задачи по формированию, укреплению и сохранению здоровья детей - будущего здоровья нации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http://images.myshared.ru/4/212330/slide_5.jpg"/>
          <p:cNvPicPr/>
          <p:nvPr/>
        </p:nvPicPr>
        <p:blipFill>
          <a:blip r:embed="rId1"/>
          <a:srcRect l="5085" t="0" r="5085" b="107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77933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4"/>
          <p:cNvSpPr/>
          <p:nvPr/>
        </p:nvSpPr>
        <p:spPr>
          <a:xfrm>
            <a:off x="2571840" y="0"/>
            <a:ext cx="4000320" cy="278604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Georgia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Georgia"/>
                <a:ea typeface="Times New Roman"/>
              </a:rPr>
              <a:t>состояние любого живого организма, при котором он в целом и все его органы способны полностью выполнять свои функции; отсутствие недуга, боле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6"/>
          <p:cNvSpPr/>
          <p:nvPr/>
        </p:nvSpPr>
        <p:spPr>
          <a:xfrm>
            <a:off x="2214720" y="2857680"/>
            <a:ext cx="3786120" cy="400032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4000320"/>
              <a:gd name="textAreaBottom" fmla="*/ 3815640 h 4000320"/>
            </a:gdLst>
            <a:ahLst/>
            <a:rect l="textAreaLeft" t="textAreaTop" r="textAreaRight" b="textAreaBottom"/>
            <a:pathLst>
              <a:path w="21600" h="22822">
                <a:moveTo>
                  <a:pt x="3600" y="0"/>
                </a:moveTo>
                <a:arcTo wR="3600" hR="3600" stAng="16200000" swAng="-5400000"/>
                <a:lnTo>
                  <a:pt x="0" y="19222"/>
                </a:lnTo>
                <a:arcTo wR="3600" hR="3600" stAng="10800000" swAng="-5400000"/>
                <a:lnTo>
                  <a:pt x="18000" y="22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Психическое здоровье</a:t>
            </a:r>
            <a:r>
              <a:rPr b="1" lang="ru-RU" sz="1800" spc="-1" strike="noStrike">
                <a:solidFill>
                  <a:srgbClr val="00b050"/>
                </a:solidFill>
                <a:latin typeface="Arial Narro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(духовное, душевное, ментальное здоровье) —это состояние благополучия, при котором человек может реализовать свой собственный потенциал, справляться с обычными жизненными  стрессами, продуктивно и плодотворно работать, а также вносить вклад в жизнь своего со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7"/>
          <p:cNvSpPr/>
          <p:nvPr/>
        </p:nvSpPr>
        <p:spPr>
          <a:xfrm>
            <a:off x="6072120" y="2286000"/>
            <a:ext cx="3071880" cy="4214880"/>
          </a:xfrm>
          <a:custGeom>
            <a:avLst/>
            <a:gdLst>
              <a:gd name="textAreaLeft" fmla="*/ 199800 w 3071880"/>
              <a:gd name="textAreaRight" fmla="*/ 2872080 w 3071880"/>
              <a:gd name="textAreaTop" fmla="*/ 199800 h 4214880"/>
              <a:gd name="textAreaBottom" fmla="*/ 4015080 h 4214880"/>
            </a:gdLst>
            <a:ahLst/>
            <a:rect l="textAreaLeft" t="textAreaTop" r="textAreaRight" b="textAreaBottom"/>
            <a:pathLst>
              <a:path w="21600" h="29636">
                <a:moveTo>
                  <a:pt x="4802" y="0"/>
                </a:moveTo>
                <a:arcTo wR="4802" hR="4802" stAng="16200000" swAng="-5400000"/>
                <a:lnTo>
                  <a:pt x="0" y="24834"/>
                </a:lnTo>
                <a:arcTo wR="4802" hR="4802" stAng="10800000" swAng="-5400000"/>
                <a:lnTo>
                  <a:pt x="16798" y="29636"/>
                </a:lnTo>
                <a:arcTo wR="4802" hR="4802" stAng="5400000" swAng="-5400000"/>
                <a:lnTo>
                  <a:pt x="21600" y="4802"/>
                </a:lnTo>
                <a:arcTo wR="4802" hR="4802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Социальное здоровье </a:t>
            </a:r>
            <a:r>
              <a:rPr b="1" lang="ru-RU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– </a:t>
            </a:r>
            <a:r>
              <a:rPr b="1" lang="ru-RU" sz="16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состояние организма, определяющее способность человека контактировать с социумом. Социальное здоровье складывается под влиянием родителей, друзей, коллег по рабо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обычными жизненными  стрессами, продуктивно и плодотворно работать, а также вносить вклад в жизнь своего сообщ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Штриховая стрелка вправо 11"/>
          <p:cNvSpPr/>
          <p:nvPr/>
        </p:nvSpPr>
        <p:spPr>
          <a:xfrm rot="2008800">
            <a:off x="6338880" y="1995120"/>
            <a:ext cx="415800" cy="5716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Штриховая стрелка вправо 12"/>
          <p:cNvSpPr/>
          <p:nvPr/>
        </p:nvSpPr>
        <p:spPr>
          <a:xfrm rot="5400000">
            <a:off x="4178880" y="2607120"/>
            <a:ext cx="500040" cy="5716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13"/>
          <p:cNvSpPr/>
          <p:nvPr/>
        </p:nvSpPr>
        <p:spPr>
          <a:xfrm flipV="1" rot="10800000">
            <a:off x="6572160" y="-1080"/>
            <a:ext cx="2571840" cy="14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Всемирная организация здравоо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214200" y="0"/>
            <a:ext cx="2210040" cy="350028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3500280"/>
              <a:gd name="textAreaBottom" fmla="*/ 3392640 h 3500280"/>
            </a:gdLst>
            <a:ahLst/>
            <a:rect l="textAreaLeft" t="textAreaTop" r="textAreaRight" b="textAreaBottom"/>
            <a:pathLst>
              <a:path w="21600" h="34208">
                <a:moveTo>
                  <a:pt x="3600" y="0"/>
                </a:moveTo>
                <a:arcTo wR="3600" hR="3600" stAng="16200000" swAng="-5400000"/>
                <a:lnTo>
                  <a:pt x="0" y="30608"/>
                </a:lnTo>
                <a:arcTo wR="3600" hR="3600" stAng="10800000" swAng="-5400000"/>
                <a:lnTo>
                  <a:pt x="18000" y="342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Физическое здоровье </a:t>
            </a:r>
            <a:r>
              <a:rPr b="1" lang="ru-RU" sz="16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это естественное состояние организма, обусловленное нормальным функционированием всех его органов и сист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Штриховая стрелка вправо 10"/>
          <p:cNvSpPr/>
          <p:nvPr/>
        </p:nvSpPr>
        <p:spPr>
          <a:xfrm rot="8264400">
            <a:off x="2354040" y="1846080"/>
            <a:ext cx="401400" cy="5713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85600" y="135720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Физкультурно-оздоровительная работ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это комплекс мероприятий, проводимых сотрудниками образовательного учреждения, направленных на укрепление и  сохранение физического и психического здоровья и оздоровление организма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824ac61b9fbc2cb9f90bfd72eea0816d"/>
          <p:cNvPicPr/>
          <p:nvPr/>
        </p:nvPicPr>
        <p:blipFill>
          <a:blip r:embed="rId1"/>
          <a:stretch/>
        </p:blipFill>
        <p:spPr>
          <a:xfrm>
            <a:off x="3571920" y="4761000"/>
            <a:ext cx="2857320" cy="2097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-285840" y="-214200"/>
            <a:ext cx="9429840" cy="7072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14320" y="0"/>
            <a:ext cx="697212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3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376092"/>
                </a:solidFill>
                <a:latin typeface="Arial Narrow"/>
              </a:rPr>
              <a:t>охрана и укрепление здоровья ребенка, формирование привычки к ЗОЖ, развитие его физических качеств и совершенствование двигательных навыков на основе индивидуально-дифференцированного подход</a:t>
            </a:r>
            <a:r>
              <a:rPr b="1" lang="ru-RU" sz="3100" spc="-1" strike="noStrike">
                <a:solidFill>
                  <a:srgbClr val="376092"/>
                </a:solidFill>
                <a:latin typeface="Calibri"/>
              </a:rPr>
              <a:t>а</a:t>
            </a:r>
            <a:r>
              <a:rPr b="0" lang="ru-RU" sz="31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56880" y="3142800"/>
            <a:ext cx="664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В соответствии с ФГОС ДО цель физкультурно–оздоровительной работы реализуется в процессе разнообразных видов детской деятельности: двигательной, игровой, художественной, труд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42760" y="-214200"/>
            <a:ext cx="59295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 Narrow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142720" y="571680"/>
            <a:ext cx="65437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.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Создание условий для охраны и укрепления здоровья детей, обеспечение их физической и психологической безопасности, эмоционального благополуч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2.Формирование общей культуры личности детей, в том числе  ценностей ЗОЖ (гигиенических навыков, приемов закалива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3. Развитие основных физических качеств ребенка (скорости, гибкости,силы, выносливости, ловкост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4.Развитие инициативности, самостоятельности и ответственности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5.Воспитание воли, смелости, настойчивости и дисциплинированност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6.Формирование предпосылок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2286000" y="61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 flipV="1">
            <a:off x="2214720" y="284760"/>
            <a:ext cx="634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14720" y="214200"/>
            <a:ext cx="6472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Целевые ориентиры физического развития дошкольников</a:t>
            </a: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857240" y="1142640"/>
            <a:ext cx="6500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Ребенок имеет представление о ценности здоровья; сформировано желание вести ЗОЖ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Ребенок имеет представление о том, что утренняя зарядка, игры, физические упражнения вызывают хорошее настроение, с помощью сна восстанавливаются си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У ребенка развита крупная и мелкая  моторика, он подвижен, вынослив, владеет основными движениями, может контролировать свои движения и управлять 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Ребенок может создавать условия для двигательной деятельности, организовывать подвижные игры и физические уп</a:t>
            </a: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жнения</a:t>
            </a: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%D0%A4%D0%B8%D0%B7%D0%B8%D1%87%D0%B5%D1%81%D0%BA%D0%BE%D0%B5%20%D0%B2%D0%BE%D1%81%D0%BF%D0%B8%D1%82%D0%B0%D0%BD%D0%B8%D0%B5"/>
          <p:cNvPicPr/>
          <p:nvPr/>
        </p:nvPicPr>
        <p:blipFill>
          <a:blip r:embed="rId2"/>
          <a:stretch/>
        </p:blipFill>
        <p:spPr>
          <a:xfrm>
            <a:off x="7858080" y="557208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57280" y="499680"/>
            <a:ext cx="6329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Основные принципы физкультурно-оздоровительной работы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5640" y="1499760"/>
            <a:ext cx="6643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психологической комфор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  целос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 минимак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 твор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вариа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непрерывности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00040" y="500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14320" y="357120"/>
            <a:ext cx="6972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Основные направления   образовательной  деятельности  по физическому развитию детей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71480" y="1428840"/>
            <a:ext cx="6357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Создание условий для охраны и укрепления здоровь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Организовывать разнообразную двигательную  активность детей в разных формах (утренняя гимнастика, физкультурные занятия, подвижные игры и д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Систематически проводить мероприятия, способствующие сохранению здоровья детей, закаливанию, повышению защитных сил орган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Формировать у детей правильную осан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5286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2. Приобщение детей к физической культу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28880" y="1428840"/>
            <a:ext cx="59148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</a:rPr>
              <a:t>Совершенствовать технику выполнения детьми основных дви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</a:rPr>
              <a:t>Развивать у детей физические качества в процессе игр и занятий физической культур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</a:rPr>
              <a:t>Совершенствовать у детей навыки самостоятельного  регулирования  двигательной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</a:rPr>
              <a:t>Развивать у детей ориентировку в пространст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13:33:32Z</dcterms:created>
  <dc:creator>admin</dc:creator>
  <dc:description/>
  <dc:language>en-US</dc:language>
  <cp:lastModifiedBy>Admin</cp:lastModifiedBy>
  <dcterms:modified xsi:type="dcterms:W3CDTF">2020-03-31T09:56:15Z</dcterms:modified>
  <cp:revision>594</cp:revision>
  <dc:subject/>
  <dc:title>Слайд 1</dc:title>
</cp:coreProperties>
</file>