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C9DA-97EB-4E95-86B4-DC63B61A2F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387B-05AB-4121-9677-72F3C0F1BD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8436-343B-4882-A3E3-D20863AA26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8C4F-BF83-458F-B4BA-8DE3A0E7FF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2ED0-C7A3-4C20-838F-AA6DD758E9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DA88-8535-4BAE-86F0-7A2CB636B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2C5A-24CB-48EE-90F1-BF3DBE86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20A3-3796-40F0-AEFD-DC9B252AB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349A-D0A0-498F-94D3-EC52B4267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EAB3-40F5-4F4F-AB3D-C0CC22BE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B9FE-9E16-4DD3-A05E-0F8D6EAE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CBF3-52BB-4E05-96F2-08F4EB06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547C-3A4A-4DB1-A962-A0FF6DB6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7026-81C8-4C7B-A013-B3030D49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0CDC-7FDB-4E7C-AEB2-C8406107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DF3F-716E-4CFC-BCB8-42B30C20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BA82-839D-4A46-B3F6-64647D09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32B3-B872-4CAE-8E55-6791C334F3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Arial Narrow"/>
                <a:ea typeface="Times New Roman"/>
              </a:rPr>
              <a:t>МБДОУ «Детский сад № 1 п. Верховье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14680" y="1642680"/>
            <a:ext cx="700056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Физкультурно-оздоровительная работа с детьми  старшего дошкольного возраста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в контексте ФГО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7375e"/>
                </a:solidFill>
                <a:latin typeface="Arial Narrow"/>
              </a:rPr>
              <a:t>Воспитатель Ответчикова Е.С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2643120" y="4572000"/>
            <a:ext cx="5072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824ac61b9fbc2cb9f90bfd72eea0816d"/>
          <p:cNvPicPr/>
          <p:nvPr/>
        </p:nvPicPr>
        <p:blipFill>
          <a:blip r:embed="rId2"/>
          <a:stretch/>
        </p:blipFill>
        <p:spPr>
          <a:xfrm>
            <a:off x="3571920" y="4643280"/>
            <a:ext cx="2857320" cy="20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99800" y="213840"/>
            <a:ext cx="57150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3.Формирование у детей начальных представлений о ЗОЖ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143080" y="1571400"/>
            <a:ext cx="678672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Arial Narrow"/>
              </a:rPr>
              <a:t>Формировать представление детей об особенностях строения и функционирования организма челове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Narrow"/>
              </a:rPr>
              <a:t>Воспитывать  ценностное  отношение детей к здоровью и человеческой жизни, формировать потребности в гигиене и  бережном отношении к своему здоровью, желание вести ЗО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Narrow"/>
              </a:rPr>
              <a:t>Учить детей управлять своим телом, чувствами, эмоциями посредством корригирующих упражнений, релаксации, аутотренин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4"/>
          <p:cNvSpPr/>
          <p:nvPr/>
        </p:nvSpPr>
        <p:spPr>
          <a:xfrm>
            <a:off x="2286000" y="6127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5"/>
          <p:cNvSpPr/>
          <p:nvPr/>
        </p:nvSpPr>
        <p:spPr>
          <a:xfrm>
            <a:off x="1643040" y="285840"/>
            <a:ext cx="6985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9"/>
          <p:cNvSpPr/>
          <p:nvPr/>
        </p:nvSpPr>
        <p:spPr>
          <a:xfrm>
            <a:off x="1643040" y="285840"/>
            <a:ext cx="6985080" cy="61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еграция образовательной области «Физическое развитие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другими област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образовательной деятельности по физическому развитию следует обращать внимание на одновременное решение задач других образовательных областе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«Социально-коммуникативное развитие»</a:t>
            </a:r>
            <a:r>
              <a:rPr b="0" lang="ru-RU" sz="1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в процессе образовательной деятельности по физическому развитию педагогических ситуаций и ситуаций морального выбора, развитие нравственных качеств, поощрение проявлений смелости, находчивости, взаимовыручки, выдержки, побуждение детей к самооценке и оценке действий и поведения сверстников; привлечение детей к расстановке и уборке физкультурного инвентаря и оборуд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«</a:t>
            </a:r>
            <a:r>
              <a:rPr b="1" lang="ru-RU" sz="14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Познавательное развитие»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изация мышления детей (через самостоятельный выбор игры, оборудования, пересчет мячей), организация специальных упражнений на ориентировку в пространстве, подвижных игр и упражнений, закрепляющих знания об окружающем (имитация движения животных, труда взрослых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«Речевое развитие»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уждение детей к проговариванию действий и называнию упражнений, поощрение речевой активности в процессе двигательной деятельности, обсуждение пользы закаливания и занятий физической культурой; организация игр и упражнений под тексты стихотворений, потешек, считалок; сюжетных физкультурных занятий на темы прочитанных сказок и потеш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«Художественно-эстетическое развитие»:</a:t>
            </a:r>
            <a:r>
              <a:rPr b="1" lang="ru-RU" sz="1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ение внимания дошкольников к эстетической стороне внешнего вида детей и инструктора по физической культуре, оформления спортивного зала; использование в процессе непосредственно образовательной деятельности изготовленных детьми элементарных физкультурных пособий (флажки, картинки, мишени для метания), рисование мелом разметки для подвижных игр; организация ритмической гимнастики, игр и упражнений под музыку, пение; проведение спортивных игр и соревнований под музыкальное сопровождение; развитие артистических способностей в подвижных играх имитационного характе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-50760" y="0"/>
            <a:ext cx="9347040" cy="7010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10"/>
          <p:cNvSpPr/>
          <p:nvPr/>
        </p:nvSpPr>
        <p:spPr>
          <a:xfrm>
            <a:off x="2143080" y="1714680"/>
            <a:ext cx="678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Интеграция образовательной области «Физическое развитие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с другими образовательными област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5076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4"/>
          <p:cNvSpPr/>
          <p:nvPr/>
        </p:nvSpPr>
        <p:spPr>
          <a:xfrm>
            <a:off x="2286000" y="6127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5"/>
          <p:cNvSpPr/>
          <p:nvPr/>
        </p:nvSpPr>
        <p:spPr>
          <a:xfrm>
            <a:off x="2071800" y="428760"/>
            <a:ext cx="65563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9"/>
          <p:cNvSpPr/>
          <p:nvPr/>
        </p:nvSpPr>
        <p:spPr>
          <a:xfrm>
            <a:off x="2143080" y="1285920"/>
            <a:ext cx="6572160" cy="50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 Narrow"/>
                <a:ea typeface="Times New Roman"/>
              </a:rPr>
              <a:t>активизация мышления детей через самостоятельный выбор игры, обору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 Narrow"/>
                <a:ea typeface="Times New Roman"/>
              </a:rPr>
              <a:t>работа по карточк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 Narrow"/>
                <a:ea typeface="Times New Roman"/>
              </a:rPr>
              <a:t>организация специальных упражнений на ориентировку в простран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 Narrow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376092"/>
                </a:solidFill>
                <a:latin typeface="Arial Narrow"/>
                <a:ea typeface="Times New Roman"/>
              </a:rPr>
              <a:t>организация подвижных игр с правилами и упражнений, закрепляющих знания об окружающем (имитация движения животных, труда взрослых и т.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 Narrow"/>
                <a:ea typeface="Times New Roman"/>
              </a:rPr>
              <a:t>занятия на тему: «Твое здоровь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2857680" y="571680"/>
            <a:ext cx="53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«Познавательное развитие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-21420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4"/>
          <p:cNvSpPr/>
          <p:nvPr/>
        </p:nvSpPr>
        <p:spPr>
          <a:xfrm>
            <a:off x="2286000" y="6127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5"/>
          <p:cNvSpPr/>
          <p:nvPr/>
        </p:nvSpPr>
        <p:spPr>
          <a:xfrm>
            <a:off x="2000160" y="0"/>
            <a:ext cx="66279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9"/>
          <p:cNvSpPr/>
          <p:nvPr/>
        </p:nvSpPr>
        <p:spPr>
          <a:xfrm>
            <a:off x="2071800" y="857160"/>
            <a:ext cx="6858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 Narrow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376092"/>
                </a:solidFill>
                <a:latin typeface="Arial Narrow"/>
                <a:ea typeface="Times New Roman"/>
              </a:rPr>
              <a:t>выполнение упражнений по словесной инстру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 Narrow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376092"/>
                </a:solidFill>
                <a:latin typeface="Arial Narrow"/>
                <a:ea typeface="Times New Roman"/>
              </a:rPr>
              <a:t>побуждение детей к проговариванию действий, правил игры и называнию упражнений, поощрение речевой активности в процессе двигательной деятельност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 Narrow"/>
                <a:ea typeface="Times New Roman"/>
              </a:rPr>
              <a:t>организация игр и упражнений под тексты стихотворений, потеш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 Narrow"/>
                <a:ea typeface="Times New Roman"/>
              </a:rPr>
              <a:t>использование считалок, стихотворений, пес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 Narrow"/>
                <a:ea typeface="Times New Roman"/>
              </a:rPr>
              <a:t>проведение сюжетных физкультурных занятий на темы прочитанных сказок и потеш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8"/>
          <p:cNvSpPr/>
          <p:nvPr/>
        </p:nvSpPr>
        <p:spPr>
          <a:xfrm>
            <a:off x="3714840" y="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«Речевое развитие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4"/>
          <p:cNvSpPr/>
          <p:nvPr/>
        </p:nvSpPr>
        <p:spPr>
          <a:xfrm>
            <a:off x="2286000" y="6127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5"/>
          <p:cNvSpPr/>
          <p:nvPr/>
        </p:nvSpPr>
        <p:spPr>
          <a:xfrm>
            <a:off x="1643040" y="285840"/>
            <a:ext cx="6985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9"/>
          <p:cNvSpPr/>
          <p:nvPr/>
        </p:nvSpPr>
        <p:spPr>
          <a:xfrm>
            <a:off x="1643040" y="285840"/>
            <a:ext cx="6985080" cy="61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еграция образовательной области «Физическое развитие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другими област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образовательной деятельности по физическому развитию следует обращать внимание на одновременное решение задач других образовательных областе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«Социально-коммуникативное развитие»</a:t>
            </a:r>
            <a:r>
              <a:rPr b="0" lang="ru-RU" sz="1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в процессе образовательной деятельности по физическому развитию педагогических ситуаций и ситуаций морального выбора, развитие нравственных качеств, поощрение проявлений смелости, находчивости, взаимовыручки, выдержки, побуждение детей к самооценке и оценке действий и поведения сверстников; привлечение детей к расстановке и уборке физкультурного инвентаря и оборуд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«</a:t>
            </a:r>
            <a:r>
              <a:rPr b="1" lang="ru-RU" sz="14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Познавательное развитие»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изация мышления детей (через самостоятельный выбор игры, оборудования, пересчет мячей), организация специальных упражнений на ориентировку в пространстве, подвижных игр и упражнений, закрепляющих знания об окружающем (имитация движения животных, труда взрослых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«Речевое развитие»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уждение детей к проговариванию действий и называнию упражнений, поощрение речевой активности в процессе двигательной деятельности, обсуждение пользы закаливания и занятий физической культурой; организация игр и упражнений под тексты стихотворений, потешек, считалок; сюжетных физкультурных занятий на темы прочитанных сказок и потеш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«Художественно-эстетическое развитие»:</a:t>
            </a:r>
            <a:r>
              <a:rPr b="1" lang="ru-RU" sz="1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ение внимания дошкольников к эстетической стороне внешнего вида детей и инструктора по физической культуре, оформления спортивного зала; использование в процессе непосредственно образовательной деятельности изготовленных детьми элементарных физкультурных пособий (флажки, картинки, мишени для метания), рисование мелом разметки для подвижных игр; организация ритмической гимнастики, игр и упражнений под музыку, пение; проведение спортивных игр и соревнований под музыкальное сопровождение; развитие артистических способностей в подвижных играх имитационного характе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12"/>
          <p:cNvSpPr/>
          <p:nvPr/>
        </p:nvSpPr>
        <p:spPr>
          <a:xfrm>
            <a:off x="2071800" y="1071720"/>
            <a:ext cx="7072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 Narrow"/>
                <a:ea typeface="Times New Roman"/>
              </a:rPr>
              <a:t>создание в процессе образовательной деятельности по физическому развитию педагогических ситуаций и ситуаций морального выбо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 Narrow"/>
                <a:ea typeface="Times New Roman"/>
              </a:rPr>
              <a:t>развитие нравственных кач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 Narrow"/>
                <a:ea typeface="Times New Roman"/>
              </a:rPr>
              <a:t>поощрение проявлений смелости, находчивости, взаимовыручки, выдерж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 Narrow"/>
                <a:ea typeface="Times New Roman"/>
              </a:rPr>
              <a:t>побуждение детей к самооценке и оценке действий и поведения сверстни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 Narrow"/>
                <a:ea typeface="Times New Roman"/>
              </a:rPr>
              <a:t>привлечение детей к расстановке и уборке физкультурного инвентаря и обору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14"/>
          <p:cNvSpPr/>
          <p:nvPr/>
        </p:nvSpPr>
        <p:spPr>
          <a:xfrm>
            <a:off x="2643120" y="285840"/>
            <a:ext cx="65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«Социально-коммуникативное развит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0" y="-711360"/>
            <a:ext cx="9786960" cy="75693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642760" y="-785880"/>
            <a:ext cx="62866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«Художественно-эстетическое развити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571840" y="356760"/>
            <a:ext cx="657216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привлечение внимания дошкольников к эстетической стороне внешнего вида  людей, занимающихся спорто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изготовление и использование  детьми элементарных физкультурных пособий (флажки, картинки, мишени для метания, шапочек для подвижных игр и  др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рисование на спортивную темати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рисование мелом разметки для подвижных иг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организация ритмической гимнастики, игр и упражнений под музыку, пен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развитие артистических способностей в подвижных играх имитационного характе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4"/>
          <p:cNvSpPr/>
          <p:nvPr/>
        </p:nvSpPr>
        <p:spPr>
          <a:xfrm>
            <a:off x="2286000" y="6127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5"/>
          <p:cNvSpPr/>
          <p:nvPr/>
        </p:nvSpPr>
        <p:spPr>
          <a:xfrm>
            <a:off x="1643040" y="-857160"/>
            <a:ext cx="6985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9"/>
          <p:cNvSpPr/>
          <p:nvPr/>
        </p:nvSpPr>
        <p:spPr>
          <a:xfrm>
            <a:off x="1928880" y="928800"/>
            <a:ext cx="67705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85920" y="0"/>
            <a:ext cx="78580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Формы образовательной деятельности по приобщению детей  к физической культуре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999800" y="928440"/>
            <a:ext cx="6929640" cy="57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 Narrow"/>
                <a:ea typeface="Times New Roman"/>
              </a:rPr>
              <a:t>Занятия по физическому развити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 Narrow"/>
                <a:ea typeface="Times New Roman"/>
              </a:rPr>
              <a:t>Эмоционально-стимулирующая утренняя гимнаст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 Narrow"/>
                <a:ea typeface="Times New Roman"/>
              </a:rPr>
              <a:t>Оздоровительная  гимнастика  пробуждения после дневного сна с включением ОР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 Narrow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f497d"/>
                </a:solidFill>
                <a:latin typeface="Arial Narrow"/>
                <a:ea typeface="Times New Roman"/>
              </a:rPr>
              <a:t>Пальчиковая, дыхательная  гимнаст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 Narrow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f497d"/>
                </a:solidFill>
                <a:latin typeface="Arial Narrow"/>
                <a:ea typeface="Times New Roman"/>
              </a:rPr>
              <a:t>Подвижные игры и физические упражнения на прогулке и в помещен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 Narrow"/>
                <a:ea typeface="Times New Roman"/>
              </a:rPr>
              <a:t>Самостоятельная двигательная деятельность детей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 Narrow"/>
                <a:ea typeface="Times New Roman"/>
              </a:rPr>
              <a:t>Физкультурная минут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 Narrow"/>
                <a:ea typeface="Times New Roman"/>
              </a:rPr>
              <a:t>Физкультурная пауз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 Narrow"/>
                <a:ea typeface="Times New Roman"/>
              </a:rPr>
              <a:t>Самомассаж  (  массажные шарики, мячики, дорожк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 Narrow"/>
              </a:rPr>
              <a:t>Релаксация (игры с сенсорным оборудованием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 Narrow"/>
                <a:ea typeface="Times New Roman"/>
              </a:rPr>
              <a:t>Культурно-досуговая деятельность (физкультурные досуги, праздники, развлечения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 Narrow"/>
                <a:ea typeface="Times New Roman"/>
              </a:rPr>
              <a:t>                                      </a:t>
            </a:r>
            <a:r>
              <a:rPr b="1" lang="ru-RU" sz="2000" spc="-1" strike="noStrike">
                <a:solidFill>
                  <a:srgbClr val="1f497d"/>
                </a:solidFill>
                <a:latin typeface="Georgia"/>
                <a:ea typeface="Times New Roman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642680" y="714240"/>
            <a:ext cx="6643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%D0%A4%D0%B8%D0%B7%D0%B8%D1%87%D0%B5%D1%81%D0%BA%D0%BE%D0%B5%20%D0%B2%D0%BE%D1%81%D0%BF%D0%B8%D1%82%D0%B0%D0%BD%D0%B8%D0%B5"/>
          <p:cNvPicPr/>
          <p:nvPr/>
        </p:nvPicPr>
        <p:blipFill>
          <a:blip r:embed="rId1"/>
          <a:stretch/>
        </p:blipFill>
        <p:spPr>
          <a:xfrm>
            <a:off x="5786280" y="4143240"/>
            <a:ext cx="2714760" cy="2714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4"/>
          <a:stretch/>
        </p:blipFill>
        <p:spPr>
          <a:xfrm>
            <a:off x="142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6"/>
          <p:cNvSpPr/>
          <p:nvPr/>
        </p:nvSpPr>
        <p:spPr>
          <a:xfrm>
            <a:off x="2571840" y="1071720"/>
            <a:ext cx="6572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 Narrow"/>
              </a:rPr>
              <a:t>Таким образом, применение комплексной системы воспитательно-оздоровительной работы в дошкольном образовательном учреждении дает возможность  совместными усилиями  педагогического персонала  и родителей , опираясь на эффективные  педагогические и здоровьесберегающие  технологии, успешно решать задачи по формированию, укреплению и сохранению здоровья детей - будущего здоровья нации</a:t>
            </a:r>
            <a:r>
              <a:rPr b="1" i="1" lang="ru-RU" sz="2400" spc="-1" strike="noStrike">
                <a:solidFill>
                  <a:srgbClr val="0070c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Рисунок 3" descr="http://images.myshared.ru/4/212330/slide_5.jpg"/>
          <p:cNvPicPr/>
          <p:nvPr/>
        </p:nvPicPr>
        <p:blipFill>
          <a:blip r:embed="rId1"/>
          <a:srcRect l="5085" t="0" r="5085" b="1071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77933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867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42720" y="274320"/>
            <a:ext cx="654372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Овал 4"/>
          <p:cNvSpPr/>
          <p:nvPr/>
        </p:nvSpPr>
        <p:spPr>
          <a:xfrm>
            <a:off x="2571840" y="0"/>
            <a:ext cx="4000320" cy="2786040"/>
          </a:xfrm>
          <a:prstGeom prst="ellipse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Georgia"/>
                <a:ea typeface="Times New Roman"/>
              </a:rPr>
              <a:t>          </a:t>
            </a:r>
            <a:r>
              <a:rPr b="1" lang="ru-RU" sz="24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ЗДОРОВ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Georgia"/>
                <a:ea typeface="Times New Roman"/>
              </a:rPr>
              <a:t>состояние любого живого организма, при котором он в целом и все его органы способны полностью выполнять свои функции; отсутствие недуга, болезн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6"/>
          <p:cNvSpPr/>
          <p:nvPr/>
        </p:nvSpPr>
        <p:spPr>
          <a:xfrm>
            <a:off x="2214720" y="2857680"/>
            <a:ext cx="3786120" cy="4000320"/>
          </a:xfrm>
          <a:custGeom>
            <a:avLst/>
            <a:gdLst>
              <a:gd name="textAreaLeft" fmla="*/ 184680 w 3786120"/>
              <a:gd name="textAreaRight" fmla="*/ 3601440 w 3786120"/>
              <a:gd name="textAreaTop" fmla="*/ 184680 h 4000320"/>
              <a:gd name="textAreaBottom" fmla="*/ 3815640 h 4000320"/>
            </a:gdLst>
            <a:ahLst/>
            <a:rect l="textAreaLeft" t="textAreaTop" r="textAreaRight" b="textAreaBottom"/>
            <a:pathLst>
              <a:path w="21600" h="22822">
                <a:moveTo>
                  <a:pt x="3600" y="0"/>
                </a:moveTo>
                <a:arcTo wR="3600" hR="3600" stAng="16200000" swAng="-5400000"/>
                <a:lnTo>
                  <a:pt x="0" y="19222"/>
                </a:lnTo>
                <a:arcTo wR="3600" hR="3600" stAng="10800000" swAng="-5400000"/>
                <a:lnTo>
                  <a:pt x="18000" y="228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Психическое здоровье</a:t>
            </a:r>
            <a:r>
              <a:rPr b="1" lang="ru-RU" sz="1800" spc="-1" strike="noStrike">
                <a:solidFill>
                  <a:srgbClr val="00b050"/>
                </a:solidFill>
                <a:latin typeface="Arial Narrow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6092"/>
                </a:solidFill>
                <a:latin typeface="Arial Narrow"/>
                <a:ea typeface="Times New Roman"/>
              </a:rPr>
              <a:t>(духовное, душевное, ментальное здоровье) —это состояние благополучия, при котором человек может реализовать свой собственный потенциал, справляться с обычными жизненными  стрессами, продуктивно и плодотворно работать, а также вносить вклад в жизнь своего сообщ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7"/>
          <p:cNvSpPr/>
          <p:nvPr/>
        </p:nvSpPr>
        <p:spPr>
          <a:xfrm>
            <a:off x="6072120" y="2286000"/>
            <a:ext cx="3071880" cy="4214880"/>
          </a:xfrm>
          <a:custGeom>
            <a:avLst/>
            <a:gdLst>
              <a:gd name="textAreaLeft" fmla="*/ 199800 w 3071880"/>
              <a:gd name="textAreaRight" fmla="*/ 2872080 w 3071880"/>
              <a:gd name="textAreaTop" fmla="*/ 199800 h 4214880"/>
              <a:gd name="textAreaBottom" fmla="*/ 4015080 h 4214880"/>
            </a:gdLst>
            <a:ahLst/>
            <a:rect l="textAreaLeft" t="textAreaTop" r="textAreaRight" b="textAreaBottom"/>
            <a:pathLst>
              <a:path w="21600" h="29636">
                <a:moveTo>
                  <a:pt x="4802" y="0"/>
                </a:moveTo>
                <a:arcTo wR="4802" hR="4802" stAng="16200000" swAng="-5400000"/>
                <a:lnTo>
                  <a:pt x="0" y="24834"/>
                </a:lnTo>
                <a:arcTo wR="4802" hR="4802" stAng="10800000" swAng="-5400000"/>
                <a:lnTo>
                  <a:pt x="16798" y="29636"/>
                </a:lnTo>
                <a:arcTo wR="4802" hR="4802" stAng="5400000" swAng="-5400000"/>
                <a:lnTo>
                  <a:pt x="21600" y="4802"/>
                </a:lnTo>
                <a:arcTo wR="4802" hR="4802" stAng="0" swAng="-5400000"/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Социальное здоровье </a:t>
            </a:r>
            <a:r>
              <a:rPr b="1" lang="ru-RU" sz="16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– </a:t>
            </a:r>
            <a:r>
              <a:rPr b="1" lang="ru-RU" sz="1600" spc="-1" strike="noStrike">
                <a:solidFill>
                  <a:srgbClr val="376092"/>
                </a:solidFill>
                <a:latin typeface="Arial Narrow"/>
                <a:ea typeface="Times New Roman"/>
              </a:rPr>
              <a:t>состояние организма, определяющее способность человека контактировать с социумом. Социальное здоровье складывается под влиянием родителей, друзей, коллег по работ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6092"/>
                </a:solidFill>
                <a:latin typeface="Arial Narrow"/>
                <a:ea typeface="Times New Roman"/>
              </a:rPr>
              <a:t>обычными жизненными  стрессами, продуктивно и плодотворно работать, а также вносить вклад в жизнь своего сообще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Штриховая стрелка вправо 11"/>
          <p:cNvSpPr/>
          <p:nvPr/>
        </p:nvSpPr>
        <p:spPr>
          <a:xfrm rot="2008800">
            <a:off x="6338880" y="1995120"/>
            <a:ext cx="415800" cy="5716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Штриховая стрелка вправо 12"/>
          <p:cNvSpPr/>
          <p:nvPr/>
        </p:nvSpPr>
        <p:spPr>
          <a:xfrm rot="5400000">
            <a:off x="4178880" y="2607120"/>
            <a:ext cx="500040" cy="5716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13"/>
          <p:cNvSpPr/>
          <p:nvPr/>
        </p:nvSpPr>
        <p:spPr>
          <a:xfrm flipV="1" rot="10800000">
            <a:off x="6572160" y="-1080"/>
            <a:ext cx="2571840" cy="1428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 Narrow"/>
              </a:rPr>
              <a:t>Всемирная организация здравоохра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5"/>
          <p:cNvSpPr/>
          <p:nvPr/>
        </p:nvSpPr>
        <p:spPr>
          <a:xfrm>
            <a:off x="214200" y="0"/>
            <a:ext cx="2210040" cy="3500280"/>
          </a:xfrm>
          <a:custGeom>
            <a:avLst/>
            <a:gdLst>
              <a:gd name="textAreaLeft" fmla="*/ 107640 w 2210040"/>
              <a:gd name="textAreaRight" fmla="*/ 2102400 w 2210040"/>
              <a:gd name="textAreaTop" fmla="*/ 107640 h 3500280"/>
              <a:gd name="textAreaBottom" fmla="*/ 3392640 h 3500280"/>
            </a:gdLst>
            <a:ahLst/>
            <a:rect l="textAreaLeft" t="textAreaTop" r="textAreaRight" b="textAreaBottom"/>
            <a:pathLst>
              <a:path w="21600" h="34208">
                <a:moveTo>
                  <a:pt x="3600" y="0"/>
                </a:moveTo>
                <a:arcTo wR="3600" hR="3600" stAng="16200000" swAng="-5400000"/>
                <a:lnTo>
                  <a:pt x="0" y="30608"/>
                </a:lnTo>
                <a:arcTo wR="3600" hR="3600" stAng="10800000" swAng="-5400000"/>
                <a:lnTo>
                  <a:pt x="18000" y="342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Физическое здоровье </a:t>
            </a:r>
            <a:r>
              <a:rPr b="1" lang="ru-RU" sz="1600" spc="-1" strike="noStrike">
                <a:solidFill>
                  <a:srgbClr val="376092"/>
                </a:solidFill>
                <a:latin typeface="Arial Narrow"/>
                <a:ea typeface="Times New Roman"/>
              </a:rPr>
              <a:t>челове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6092"/>
                </a:solidFill>
                <a:latin typeface="Arial Narrow"/>
                <a:ea typeface="Times New Roman"/>
              </a:rPr>
              <a:t>это естественное состояние организма, обусловленное нормальным функционированием всех его органов и сист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Штриховая стрелка вправо 10"/>
          <p:cNvSpPr/>
          <p:nvPr/>
        </p:nvSpPr>
        <p:spPr>
          <a:xfrm rot="8264400">
            <a:off x="2354040" y="1846080"/>
            <a:ext cx="401400" cy="5713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785600" y="1357200"/>
            <a:ext cx="7000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Физкультурно-оздоровительная работа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-</a:t>
            </a:r>
            <a:r>
              <a:rPr b="1" lang="ru-RU" sz="24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376092"/>
                </a:solidFill>
                <a:latin typeface="Arial Narrow"/>
                <a:ea typeface="Times New Roman"/>
              </a:rPr>
              <a:t>это комплекс мероприятий, проводимых сотрудниками образовательного учреждения, направленных на укрепление и  сохранение физического и психического здоровья и оздоровление организма ребе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824ac61b9fbc2cb9f90bfd72eea0816d"/>
          <p:cNvPicPr/>
          <p:nvPr/>
        </p:nvPicPr>
        <p:blipFill>
          <a:blip r:embed="rId1"/>
          <a:stretch/>
        </p:blipFill>
        <p:spPr>
          <a:xfrm>
            <a:off x="3571920" y="4761000"/>
            <a:ext cx="2857320" cy="2097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-285840" y="-214200"/>
            <a:ext cx="9429840" cy="70722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14320" y="0"/>
            <a:ext cx="6972120" cy="30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Цель:</a:t>
            </a:r>
            <a:r>
              <a:rPr b="1" lang="ru-RU" sz="31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376092"/>
                </a:solidFill>
                <a:latin typeface="Arial Narrow"/>
              </a:rPr>
              <a:t>охрана и укрепление здоровья ребенка, формирование привычки к ЗОЖ, развитие его физических качеств и совершенствование двигательных навыков на основе индивидуально-дифференцированного подход</a:t>
            </a:r>
            <a:r>
              <a:rPr b="1" lang="ru-RU" sz="3100" spc="-1" strike="noStrike">
                <a:solidFill>
                  <a:srgbClr val="376092"/>
                </a:solidFill>
                <a:latin typeface="Calibri"/>
              </a:rPr>
              <a:t>а</a:t>
            </a:r>
            <a:r>
              <a:rPr b="0" lang="ru-RU" sz="3100" spc="-1" strike="noStrike">
                <a:solidFill>
                  <a:srgbClr val="4f81bd"/>
                </a:solidFill>
                <a:latin typeface="Calibri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856880" y="3142800"/>
            <a:ext cx="6643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Arial Narrow"/>
                <a:ea typeface="Times New Roman"/>
              </a:rPr>
              <a:t>В соответствии с ФГОС ДО цель физкультурно–оздоровительной работы реализуется в процессе разнообразных видов детской деятельности: двигательной, игровой, художественной, трудов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-21420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42760" y="-214200"/>
            <a:ext cx="592956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 Narrow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142720" y="571680"/>
            <a:ext cx="65437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</a:t>
            </a:r>
            <a:r>
              <a:rPr b="1" lang="ru-RU" sz="18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. </a:t>
            </a:r>
            <a:r>
              <a:rPr b="1" lang="ru-RU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Создание условий для охраны и укрепления здоровья детей, обеспечение их физической и психологической безопасности, эмоционального благополуч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2.Формирование общей культуры личности детей, в том числе  ценностей ЗОЖ (гигиенических навыков, приемов закаливания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3. Развитие основных физических качеств ребенка (скорости, гибкости,силы, выносливости, ловкости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4.Развитие инициативности, самостоятельности и ответственности ребен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5.Воспитание воли, смелости, настойчивости и дисциплинированности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6.Формирование предпосылок учебн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4"/>
          <p:cNvSpPr/>
          <p:nvPr/>
        </p:nvSpPr>
        <p:spPr>
          <a:xfrm>
            <a:off x="2286000" y="6127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5"/>
          <p:cNvSpPr/>
          <p:nvPr/>
        </p:nvSpPr>
        <p:spPr>
          <a:xfrm flipV="1">
            <a:off x="2214720" y="284760"/>
            <a:ext cx="63417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14720" y="214200"/>
            <a:ext cx="6472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Целевые ориентиры физического развития дошкольников</a:t>
            </a: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857240" y="1142640"/>
            <a:ext cx="6500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 Narrow"/>
                <a:ea typeface="Times New Roman"/>
              </a:rPr>
              <a:t>Ребенок имеет представление о ценности здоровья; сформировано желание вести ЗОЖ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 Narrow"/>
                <a:ea typeface="Times New Roman"/>
              </a:rPr>
              <a:t>Ребенок имеет представление о том, что утренняя зарядка, игры, физические упражнения вызывают хорошее настроение, с помощью сна восстанавливаются сил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 Narrow"/>
                <a:ea typeface="Times New Roman"/>
              </a:rPr>
              <a:t>У ребенка развита крупная и мелкая  моторика, он подвижен, вынослив, владеет основными движениями, может контролировать свои движения и управлять и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 Narrow"/>
                <a:ea typeface="Times New Roman"/>
              </a:rPr>
              <a:t>Ребенок может создавать условия для двигательной деятельности, организовывать подвижные игры и физические уп</a:t>
            </a:r>
            <a:r>
              <a:rPr b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ражнения</a:t>
            </a:r>
            <a:r>
              <a:rPr b="1" lang="ru-RU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%D0%A4%D0%B8%D0%B7%D0%B8%D1%87%D0%B5%D1%81%D0%BA%D0%BE%D0%B5%20%D0%B2%D0%BE%D1%81%D0%BF%D0%B8%D1%82%D0%B0%D0%BD%D0%B8%D0%B5"/>
          <p:cNvPicPr/>
          <p:nvPr/>
        </p:nvPicPr>
        <p:blipFill>
          <a:blip r:embed="rId2"/>
          <a:stretch/>
        </p:blipFill>
        <p:spPr>
          <a:xfrm>
            <a:off x="7858080" y="5572080"/>
            <a:ext cx="12859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357280" y="499680"/>
            <a:ext cx="63295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Основные принципы физкультурно-оздоровительной работы: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285640" y="1499760"/>
            <a:ext cx="66438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принцип психологической комфорт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принцип 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принцип   целост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принцип  минимак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принцип  творче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принцип вариатив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принцип непрерывности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500040" y="500040"/>
            <a:ext cx="46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14320" y="357120"/>
            <a:ext cx="697212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Основные направления   образовательной  деятельности  по физическому развитию детей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71480" y="1428840"/>
            <a:ext cx="63579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Создание условий для охраны и укрепления здоровья де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Организовывать разнообразную двигательную  активность детей в разных формах (утренняя гимнастика, физкультурные занятия, подвижные игры и др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Систематически проводить мероприятия, способствующие сохранению здоровья детей, закаливанию, повышению защитных сил организ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Формировать у детей правильную осан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28920" y="285480"/>
            <a:ext cx="52862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2. Приобщение детей к физической культур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28880" y="1428840"/>
            <a:ext cx="59148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 Narrow"/>
              </a:rPr>
              <a:t>Совершенствовать технику выполнения детьми основных движ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 Narrow"/>
              </a:rPr>
              <a:t>Развивать у детей физические качества в процессе игр и занятий физической культур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 Narrow"/>
              </a:rPr>
              <a:t>Совершенствовать у детей навыки самостоятельного  регулирования  двигательной актив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 Narrow"/>
              </a:rPr>
              <a:t>Развивать у детей ориентировку в пространств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9T13:33:32Z</dcterms:created>
  <dc:creator>admin</dc:creator>
  <dc:description/>
  <dc:language>en-US</dc:language>
  <cp:lastModifiedBy>Admin</cp:lastModifiedBy>
  <dcterms:modified xsi:type="dcterms:W3CDTF">2020-03-31T09:56:15Z</dcterms:modified>
  <cp:revision>594</cp:revision>
  <dc:subject/>
  <dc:title>Слайд 1</dc:title>
</cp:coreProperties>
</file>