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B7E-60A6-4146-8533-192E78A3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531-2154-40C4-B0E8-3219BE2A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1D2-ABBF-4868-A75A-8B002D1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CF5-F712-417E-9C2A-97AC354F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122-E28A-484B-A541-E8609ADA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E259-3C15-46EC-A6E6-4843E5C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3426-9D00-43A2-AF2A-8DEA1D6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664F-E347-49A5-B1B3-E67DF0C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6D4C-BE0E-4020-BDCC-FC67A03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409-10E1-44E8-8107-DAB36EE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A701-98BD-41CD-A00F-6BE4308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415-2B57-4BF0-B783-A4C7FC9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80F1-C908-4BE9-BEA0-EFE8567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8AF5-0177-46DB-B685-5DD900C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E6F7-95C3-442D-8310-EEAF4D8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C1BC-0D69-473C-BFC8-8442D26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59AC-C4A6-46B5-80BA-68F78BD5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ED30-D7FB-4BF0-A6CA-0D3BC32C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89EA-1645-49B5-9337-E5D2C6E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DF24-A226-4A96-AD08-BE7824C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37F7-29EF-4415-8D46-7ECE362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F9BF-D1BB-4892-AA3C-A80C999B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922-02FF-4F71-98B7-CB39709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C83D-2FF5-477A-BF46-809A274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0C99-E309-4B59-9B2C-1175DB7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BF2B-3EF4-49D9-9322-B0AC0B1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7899-29F0-49A4-8A4E-910BB5D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2C63-9B3F-4247-84F7-7080FED4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AA91-E4A8-4465-A046-DD03AEE9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CA7F-0914-415E-974B-6A4C3E53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D3A3-543A-4494-8FE5-C9ACB99B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5162-B5EA-4649-8853-DF23D917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76FC-E012-4752-9560-46A2CBD6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F2F-D2C9-4790-9302-800D233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17F2-2C54-4B7D-BF3E-958B1F82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B447-39BB-41F8-87DC-ECD7BE7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C7C0-49F5-48D1-B2B2-B7265C0C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3522-C147-450F-B4AD-6ED394B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7D19-390C-4277-8734-0CA49EB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4439-8647-400E-882B-15C70A7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3DB6-78AB-468C-896F-D17F332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2D40-3784-4BFA-8EF5-0067E953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69A7-44C6-4C43-AA66-70317B44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2628-614B-4889-8726-46E3A9AA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9B9-A332-495F-AC3E-A8693A66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458B-9B9A-4BCC-A57C-DDC678A5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091B0-D292-4F8E-8FE7-C31C7D86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B2FF3-1EEC-4AB9-8663-A6ACEE57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7A3E-5BF9-4F5C-A888-1C49BA0C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5019B-5699-4469-90FA-E62B9E0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DA3A-6429-462C-9456-3B78F72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84C1-F87C-4AB3-9866-349DF84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1386-6F03-4525-9C3F-0F72779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6A56-7E78-44F7-8AF1-03AC3C25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2B25-0FD6-425C-9CE0-2D9F9EBA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34F-A97B-4E26-A7FF-50F85D35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8EB0-6EF3-4582-BD09-EC1B77BE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4BD5-882D-4126-B149-B449D297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A3C9-ECB7-4974-BEE5-EEE35503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AC745-7910-4B15-8E35-1D965C9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40D8-9D1D-4EAD-BD11-4444DF66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53C7-AA89-4E63-9781-A72A9308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8746-4197-4531-90DD-1DEC84D3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E805-BDCF-4E9A-918B-54C9F0B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A1DE7-1D78-42F5-A5BD-8F9AAB53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496E-D772-4F7B-8860-9CEA701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C29-45FD-43D2-85D0-F1D3759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3A48-BF9D-4EA5-BE20-5235D79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D564-7EDA-4E6E-9FA6-9FE6630A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E087-F1DF-477C-ABA3-EA77992D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64FDB-E1D1-4124-BD8E-D65D5269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928C-38E5-4F14-8A60-28C43FE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6B9C1-56DA-4D3A-98A3-5BD613E4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34E6-CC23-48AF-B437-05E1307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7698-5C4F-4967-B761-7AB114FB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13EB-E5B0-4A89-9974-5E062F1B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FD9B-D116-4B27-A9FF-D506E91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F19-45E1-47B3-BB51-FFAE04D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6E19C-9443-458F-973D-429D1F3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C9B6F-3EEA-4BBC-8F4F-ACB29BF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E5C49-D734-4C1D-A624-061FCDE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E0CAD-3FE9-4ECC-BB6D-14355F93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512D-697A-4406-A249-43632D8C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48F-B8F9-4703-94DA-890DB8B2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E244-0911-4154-9DAA-40DB106365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5D1-5388-4A2F-98B1-00F4CE2AC9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A6E-8EE4-46D3-B3A6-DD9C0A4C09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305-67EA-4A93-B360-0A37203E83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D7B-4C04-4B4A-BFBC-7E485BE78A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9537-D158-45CE-A2A2-804E6824C7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3BED-1091-4131-B4D4-7CE34AD28E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0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22.xml"/><Relationship Id="rId4" Type="http://schemas.openxmlformats.org/officeDocument/2006/relationships/slide" Target="slide1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23640" y="2492280"/>
            <a:ext cx="5899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ение задач на тему: «Пропорци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42920" y="5516280"/>
            <a:ext cx="7407360" cy="108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Новоселова М.В. учитель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атематики и информати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https://www.soyuz.ru/public/uploads/files/36/5809203/950x950_2016080411472248c5072399.jpg"/>
          <p:cNvPicPr/>
          <p:nvPr/>
        </p:nvPicPr>
        <p:blipFill>
          <a:blip r:embed="rId1"/>
          <a:srcRect l="0" t="0" r="0" b="73730"/>
          <a:stretch/>
        </p:blipFill>
        <p:spPr>
          <a:xfrm>
            <a:off x="1547640" y="404640"/>
            <a:ext cx="6767640" cy="1778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http://fantasticbook.ru/pict/1019889034.jpg"/>
          <p:cNvPicPr/>
          <p:nvPr/>
        </p:nvPicPr>
        <p:blipFill>
          <a:blip r:embed="rId2"/>
          <a:srcRect l="73279" t="44611" r="0" b="19480"/>
          <a:stretch/>
        </p:blipFill>
        <p:spPr>
          <a:xfrm>
            <a:off x="7304040" y="3429000"/>
            <a:ext cx="164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дача 3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 1,6 ч мальчик прошел 6,4 км. Сколько километров пройдет мальчик за 2,8 ч при той же скорост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е зависим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1187280" y="4581360"/>
            <a:ext cx="194472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3564000" y="4581360"/>
            <a:ext cx="165564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право 6">
            <a:hlinkClick r:id="rId3" action="ppaction://hlinksldjump"/>
          </p:cNvPr>
          <p:cNvSpPr/>
          <p:nvPr/>
        </p:nvSpPr>
        <p:spPr>
          <a:xfrm>
            <a:off x="5867280" y="458136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право 7">
            <a:hlinkClick r:id="rId4" action="ppaction://hlinksldjump"/>
          </p:cNvPr>
          <p:cNvSpPr/>
          <p:nvPr/>
        </p:nvSpPr>
        <p:spPr>
          <a:xfrm>
            <a:off x="5867280" y="5805360"/>
            <a:ext cx="2233800" cy="863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5" descr="http://www.confetti.kz/otkp/025/66.263.jpg"/>
          <p:cNvPicPr/>
          <p:nvPr/>
        </p:nvPicPr>
        <p:blipFill>
          <a:blip r:embed="rId3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6" descr="C:\Documents and Settings\Админ\Мои документы\Мои рисунки\5a8a7c6713f85d8a113d29611e254fb8.png"/>
          <p:cNvPicPr/>
          <p:nvPr/>
        </p:nvPicPr>
        <p:blipFill>
          <a:blip r:embed="rId2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Решение:  прямая зависимость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,6ч — 6,4к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,8ч- х к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,6:2,8=6,4: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Х=2,8*6,4:1,6=11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вет: 11,2к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Стрелка вправо 3">
            <a:hlinkClick r:id="rId1" action="ppaction://hlinksldjump"/>
          </p:cNvPr>
          <p:cNvSpPr/>
          <p:nvPr/>
        </p:nvSpPr>
        <p:spPr>
          <a:xfrm>
            <a:off x="5867280" y="458136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4"/>
          <p:cNvSpPr/>
          <p:nvPr/>
        </p:nvSpPr>
        <p:spPr>
          <a:xfrm>
            <a:off x="1692360" y="5013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 action="ppaction://hlinksldjump"/>
              </a:rPr>
              <a:t>вернуться к зад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дача 4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заправочной станции 2 л бензина весят 1,6 кг. Сколько будут весить 5 л бензин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е зависим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187280" y="4545000"/>
            <a:ext cx="194472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3564000" y="4508640"/>
            <a:ext cx="1944720" cy="9363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право 5">
            <a:hlinkClick r:id="rId3" action="ppaction://hlinksldjump"/>
          </p:cNvPr>
          <p:cNvSpPr/>
          <p:nvPr/>
        </p:nvSpPr>
        <p:spPr>
          <a:xfrm>
            <a:off x="6012000" y="4508640"/>
            <a:ext cx="215892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право 6">
            <a:hlinkClick r:id="rId4" action="ppaction://hlinksldjump"/>
          </p:cNvPr>
          <p:cNvSpPr/>
          <p:nvPr/>
        </p:nvSpPr>
        <p:spPr>
          <a:xfrm>
            <a:off x="6012000" y="5661000"/>
            <a:ext cx="2232000" cy="8636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http://www.confetti.kz/otkp/025/66.263.jpg"/>
          <p:cNvPicPr/>
          <p:nvPr/>
        </p:nvPicPr>
        <p:blipFill>
          <a:blip r:embed="rId3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6" descr="C:\Documents and Settings\Админ\Мои документы\Мои рисунки\5a8a7c6713f85d8a113d29611e254fb8.png"/>
          <p:cNvPicPr/>
          <p:nvPr/>
        </p:nvPicPr>
        <p:blipFill>
          <a:blip r:embed="rId2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Решение:  прямая зависимость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л-1,6к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л-Хк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:5=1,6: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Х=5*1,6:2=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вет:4к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Стрелка вправо 3">
            <a:hlinkClick r:id="rId1" action="ppaction://hlinksldjump"/>
          </p:cNvPr>
          <p:cNvSpPr/>
          <p:nvPr/>
        </p:nvSpPr>
        <p:spPr>
          <a:xfrm>
            <a:off x="6012000" y="4508640"/>
            <a:ext cx="215892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183528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 action="ppaction://hlinksldjump"/>
              </a:rPr>
              <a:t>вернуться к зад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Задача 5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ва прямоугольника имеют одинаковую площадь. Длина первого прямоугольника 3,6 м, а ширина 2,4 м. Длина второго прямоугольника 4,8 м. Найдите ширину второго прямоугольн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е зависим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1403280" y="5157720"/>
            <a:ext cx="194472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3708360" y="5157720"/>
            <a:ext cx="201600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трелка вправо 5">
            <a:hlinkClick r:id="rId3" action="ppaction://hlinksldjump"/>
          </p:cNvPr>
          <p:cNvSpPr/>
          <p:nvPr/>
        </p:nvSpPr>
        <p:spPr>
          <a:xfrm>
            <a:off x="6372360" y="4941720"/>
            <a:ext cx="215892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право 6">
            <a:hlinkClick r:id="rId4" action="ppaction://hlinksldjump"/>
          </p:cNvPr>
          <p:cNvSpPr/>
          <p:nvPr/>
        </p:nvSpPr>
        <p:spPr>
          <a:xfrm>
            <a:off x="6300720" y="5877000"/>
            <a:ext cx="2232000" cy="8636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5" descr="http://www.confetti.kz/otkp/025/66.263.jpg"/>
          <p:cNvPicPr/>
          <p:nvPr/>
        </p:nvPicPr>
        <p:blipFill>
          <a:blip r:embed="rId3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1" descr="http://img0.liveinternet.ru/images/attach/c/5/87/87/87087940_3.jpg"/>
          <p:cNvPicPr/>
          <p:nvPr/>
        </p:nvPicPr>
        <p:blipFill>
          <a:blip r:embed="rId1"/>
          <a:stretch/>
        </p:blipFill>
        <p:spPr>
          <a:xfrm>
            <a:off x="6875640" y="1916280"/>
            <a:ext cx="2011320" cy="2658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дача 1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92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 3,2 кг товара заплатили 115,2 р. Сколько следует заплатить за 1,5 кг. этого товар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е зависим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Rectangle 4"/>
          <p:cNvSpPr/>
          <p:nvPr/>
        </p:nvSpPr>
        <p:spPr>
          <a:xfrm flipH="1">
            <a:off x="-477720" y="3284640"/>
            <a:ext cx="22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1187280" y="4545000"/>
            <a:ext cx="1944720" cy="97164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3492360" y="4581360"/>
            <a:ext cx="1871640" cy="9622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трелка вправо 2">
            <a:hlinkClick r:id="rId4" action="ppaction://hlinksldjump"/>
          </p:cNvPr>
          <p:cNvSpPr/>
          <p:nvPr/>
        </p:nvSpPr>
        <p:spPr>
          <a:xfrm>
            <a:off x="6516720" y="4581360"/>
            <a:ext cx="215892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право 7">
            <a:hlinkClick r:id="rId5" action="ppaction://hlinksldjump"/>
          </p:cNvPr>
          <p:cNvSpPr/>
          <p:nvPr/>
        </p:nvSpPr>
        <p:spPr>
          <a:xfrm>
            <a:off x="6443640" y="5732640"/>
            <a:ext cx="2158920" cy="863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6" descr="C:\Documents and Settings\Админ\Мои документы\Мои рисунки\5a8a7c6713f85d8a113d29611e254fb8.png"/>
          <p:cNvPicPr/>
          <p:nvPr/>
        </p:nvPicPr>
        <p:blipFill>
          <a:blip r:embed="rId2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4278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572314"/>
                </a:solidFill>
                <a:latin typeface="Corbel"/>
              </a:rPr>
              <a:t>Решение: обратная зависимость.</a:t>
            </a:r>
            <a:br>
              <a:rPr sz="3900"/>
            </a:b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 прямоугольник 3,6 м. -2,4 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 прямоугольник 4,8 м. -х 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х = 3,6*2,4 / 4,8= 1,8 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вет: 1,8 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Стрелка вправо 3">
            <a:hlinkClick r:id="rId1" action="ppaction://hlinksldjump"/>
          </p:cNvPr>
          <p:cNvSpPr/>
          <p:nvPr/>
        </p:nvSpPr>
        <p:spPr>
          <a:xfrm>
            <a:off x="6372360" y="4941720"/>
            <a:ext cx="215892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"/>
          <p:cNvSpPr/>
          <p:nvPr/>
        </p:nvSpPr>
        <p:spPr>
          <a:xfrm>
            <a:off x="1692360" y="508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 action="ppaction://hlinksldjump"/>
              </a:rPr>
              <a:t>вернуться к зад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дача 6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ля перевозки груза автомашине грузоподъемностью 7,5 т пришлось сделать 12 рейсов. Сколько рейсов придется сделать автомашине грузоподъемностью 9 т для перевозки этого же груза?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 зависимост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1187280" y="5229360"/>
            <a:ext cx="1944720" cy="9363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3348000" y="5229360"/>
            <a:ext cx="1913040" cy="9363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трелка вправо 5">
            <a:hlinkClick r:id="rId3" action="ppaction://hlinksldjump"/>
          </p:cNvPr>
          <p:cNvSpPr/>
          <p:nvPr/>
        </p:nvSpPr>
        <p:spPr>
          <a:xfrm>
            <a:off x="5867280" y="494172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трелка вправо 6"/>
          <p:cNvSpPr/>
          <p:nvPr/>
        </p:nvSpPr>
        <p:spPr>
          <a:xfrm>
            <a:off x="5796000" y="5877000"/>
            <a:ext cx="2232000" cy="8636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02920" y="141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нуться к задач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5" descr="http://www.confetti.kz/otkp/025/66.263.jpg"/>
          <p:cNvPicPr/>
          <p:nvPr/>
        </p:nvPicPr>
        <p:blipFill>
          <a:blip r:embed="rId1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нуться к задач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6" descr="C:\Documents and Settings\Админ\Мои документы\Мои рисунки\5a8a7c6713f85d8a113d29611e254fb8.png"/>
          <p:cNvPicPr/>
          <p:nvPr/>
        </p:nvPicPr>
        <p:blipFill>
          <a:blip r:embed="rId1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Решение: обратная зависимость.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5 т. -12 рей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т.- х рейсо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=7,5*12:9=10 рейс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вет: 10 рейсов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Стрелка вправо 3"/>
          <p:cNvSpPr/>
          <p:nvPr/>
        </p:nvSpPr>
        <p:spPr>
          <a:xfrm>
            <a:off x="5867280" y="494172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4"/>
          <p:cNvSpPr/>
          <p:nvPr/>
        </p:nvSpPr>
        <p:spPr>
          <a:xfrm>
            <a:off x="1547640" y="494172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зада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Задача 7.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дин велосипедист проехал расстояние 24 км со скоростью 12 км/ч. Какое расстояние проедет за это время другой велосипедист, скорость которого 10,5 км/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предели зависим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Прямоугольник 3"/>
          <p:cNvSpPr/>
          <p:nvPr/>
        </p:nvSpPr>
        <p:spPr>
          <a:xfrm>
            <a:off x="1476360" y="4508640"/>
            <a:ext cx="2479680" cy="9363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4"/>
          <p:cNvSpPr/>
          <p:nvPr/>
        </p:nvSpPr>
        <p:spPr>
          <a:xfrm>
            <a:off x="5021280" y="4529160"/>
            <a:ext cx="221472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rbel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право 5"/>
          <p:cNvSpPr/>
          <p:nvPr/>
        </p:nvSpPr>
        <p:spPr>
          <a:xfrm>
            <a:off x="6443640" y="5732640"/>
            <a:ext cx="2158920" cy="863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нуться к задач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9" name="Picture 5" descr="http://www.confetti.kz/otkp/025/66.263.jpg"/>
          <p:cNvPicPr/>
          <p:nvPr/>
        </p:nvPicPr>
        <p:blipFill>
          <a:blip r:embed="rId1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нуться к задач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C:\Documents and Settings\Админ\Мои документы\Мои рисунки\5a8a7c6713f85d8a113d29611e254fb8.png"/>
          <p:cNvPicPr/>
          <p:nvPr/>
        </p:nvPicPr>
        <p:blipFill>
          <a:blip r:embed="rId1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Решение: прямая зависимость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велосипедист 12 км/ч - 24 к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велосипедист 10,5 км/ч  - x к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2:10,5=24:x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= 10,5*24/12=2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21 к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619280" y="522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зада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5" descr="http://www.confetti.kz/otkp/025/66.263.jpg"/>
          <p:cNvPicPr/>
          <p:nvPr/>
        </p:nvPicPr>
        <p:blipFill>
          <a:blip r:embed="rId3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C:\Documents and Settings\Админ\Мои документы\Мои рисунки\5a8a7c6713f85d8a113d29611e254fb8.png"/>
          <p:cNvPicPr/>
          <p:nvPr/>
        </p:nvPicPr>
        <p:blipFill>
          <a:blip r:embed="rId2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Решение: прямая зависимость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908000" y="1628280"/>
            <a:ext cx="677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 покупка 3,2 кг - 115, 2 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 покупка 1,5 кг - х 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,2:1,5=115,2: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х=1,5∙115,2:3,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вет: 54 рубля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Стрелка вправо 3">
            <a:hlinkClick r:id="rId1" action="ppaction://hlinksldjump"/>
          </p:cNvPr>
          <p:cNvSpPr/>
          <p:nvPr/>
        </p:nvSpPr>
        <p:spPr>
          <a:xfrm>
            <a:off x="6516720" y="5300640"/>
            <a:ext cx="2158920" cy="8636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1692360" y="5445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 action="ppaction://hlinksldjump"/>
              </a:rPr>
              <a:t>вернуться к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Задача 2.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плоход прошёл расстояние между пристанями со средней скоростью 60 км/ч за 2,5 ч. За сколько времени пройдёт это расстояние теплоход, если будет идти со скоростью 50 км/ч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предели зависимость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1187280" y="4581360"/>
            <a:ext cx="201636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прям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"/>
          <p:cNvSpPr/>
          <p:nvPr/>
        </p:nvSpPr>
        <p:spPr>
          <a:xfrm>
            <a:off x="3708360" y="4581360"/>
            <a:ext cx="1800360" cy="936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брат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право 5">
            <a:hlinkClick r:id="rId3" action="ppaction://hlinksldjump"/>
          </p:cNvPr>
          <p:cNvSpPr/>
          <p:nvPr/>
        </p:nvSpPr>
        <p:spPr>
          <a:xfrm>
            <a:off x="6084720" y="580536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право 6">
            <a:hlinkClick r:id="rId5" action="ppaction://hlinksldjump"/>
          </p:cNvPr>
          <p:cNvSpPr/>
          <p:nvPr/>
        </p:nvSpPr>
        <p:spPr>
          <a:xfrm>
            <a:off x="6084720" y="465300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лодец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ы правильно определил зависимость. Составь пропорцию и реши задач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5" descr="http://www.confetti.kz/otkp/025/66.263.jpg"/>
          <p:cNvPicPr/>
          <p:nvPr/>
        </p:nvPicPr>
        <p:blipFill>
          <a:blip r:embed="rId3"/>
          <a:stretch/>
        </p:blipFill>
        <p:spPr>
          <a:xfrm>
            <a:off x="5435640" y="2637000"/>
            <a:ext cx="2773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читай задачу еще раз и рассужда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ернуться к задач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6" descr="C:\Documents and Settings\Админ\Мои документы\Мои рисунки\5a8a7c6713f85d8a113d29611e254fb8.png"/>
          <p:cNvPicPr/>
          <p:nvPr/>
        </p:nvPicPr>
        <p:blipFill>
          <a:blip r:embed="rId2"/>
          <a:stretch/>
        </p:blipFill>
        <p:spPr>
          <a:xfrm>
            <a:off x="529272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Решение:</a:t>
            </a:r>
            <a:r>
              <a:rPr b="0" i="1" lang="ru-RU" sz="3900" spc="-1" strike="noStrike">
                <a:solidFill>
                  <a:srgbClr val="572314"/>
                </a:solidFill>
                <a:latin typeface="Corbel"/>
              </a:rPr>
              <a:t> зависимость обратная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0 км/ч - 2,5 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50 км/ч - x ч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60:50 = x:2,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Х=60*2,5/5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вет: 3 ча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Стрелка вправо 3">
            <a:hlinkClick r:id="rId1" action="ppaction://hlinksldjump"/>
          </p:cNvPr>
          <p:cNvSpPr/>
          <p:nvPr/>
        </p:nvSpPr>
        <p:spPr>
          <a:xfrm>
            <a:off x="6084720" y="4653000"/>
            <a:ext cx="2159280" cy="863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дач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1771920" y="50133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 action="ppaction://hlinksldjump"/>
              </a:rPr>
              <a:t>вернуться к зада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5T11:04:42Z</dcterms:created>
  <dc:creator>ВСШ</dc:creator>
  <dc:description/>
  <dc:language>en-US</dc:language>
  <cp:lastModifiedBy>admin</cp:lastModifiedBy>
  <dcterms:modified xsi:type="dcterms:W3CDTF">2019-09-22T09:58:11Z</dcterms:modified>
  <cp:revision>18</cp:revision>
  <dc:subject/>
  <dc:title>Слайд 1</dc:title>
</cp:coreProperties>
</file>