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65F-B245-4213-A8F7-114673BF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04F-243B-4F7A-8CAD-67F58BC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8AF-7378-4AE3-B58B-8C112C9C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403-6D24-43F6-B699-A48828E3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75B5-697F-409E-85D7-61902D5E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4252-07BD-4102-8FFE-11ECE89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82BA-9151-4396-8FE6-A8FDA9D3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9281-FB22-42C2-B1B7-C6FDE85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C11B-5D9F-4765-9890-24D4DB8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D781-94EE-414E-9F28-B8E87A5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A3F-1D58-4D6F-B6B7-35C7137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F99-C4DC-4331-80A5-E1A9589B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D7E-5DB1-47D5-9702-9802011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4401-9D5A-4B9E-A2BD-A9F61DA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98BF-1FCF-4688-9314-30E2A0EF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E58-7E99-495C-809A-24EAE50F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BB57-0250-454D-8093-22AA853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040B-497D-4680-A21F-470E6E48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D56F-AE3A-4B7A-9476-5C9123D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B7BC-9D5E-4491-9E4B-0427C48D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9D50-0BC4-4426-9AA3-DE809E82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1B6E-7607-4D5E-8E82-3D2FDD9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F64-11DC-4A27-9417-8E820CE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CF12-74D5-4856-9A4E-8AC1845A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C62C-7A5E-441C-83D8-FBAAB36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FF18-1A58-49EB-A65F-FEEA3CE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732D8-7514-4446-A68F-428A4075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C250-1800-46CD-8CDC-CE49CBF7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F4A51-AC80-454E-ABC9-C3ABB88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B59D-2AC5-4530-955E-83BC520A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37A6-6065-42E4-80C5-5DCEE3F2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F62C-351B-4A56-BE11-BAF3E24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4DAF-9B23-431D-B723-565F3A19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269-B8C4-48D8-AD2A-CE23C6A4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1CBE5-EB95-422E-A072-09E578D8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5E96-92A3-4445-91AF-C4362E74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209D-1F90-4E78-B659-CE9E0C0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C7AC-84F9-499F-A00D-311B047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9A0B-3DBA-414F-BF1C-2E98D687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746B-C8A7-44FC-A6F0-9C90DCEE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BCC7-F9E1-4168-AD56-B0BD449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7893-93C0-4909-9BF2-9F6ACA25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7460-2769-4FC3-9CAD-D64E976D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04EB-539A-44B2-AFAD-165D1773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EB2-69A5-49EE-B2C1-8836FA5D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6799-7092-47EF-AC16-78A4ACC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FC5D-1424-4ECF-953A-9A8C54DC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CD76-7A47-4489-811F-5BE2F84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F70E-B1ED-4543-BC92-939FF7D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44AD-FD52-49FB-83D3-8C84841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9B9A-DDC4-4E62-BB58-77FAF35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6981-EFDD-4DCC-A237-A6DD77B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83BA-486D-45D5-9557-BAD89818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EA96-10C4-4ACB-AC27-7470C498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BE74-661A-4CBE-845F-5805201E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D0A-585E-457D-97D0-5CDBB38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8D087-A9C2-4692-980B-230A6023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C62C0-079B-4AB0-96F6-6C01C4E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8CCD6-18D5-47A4-BA7B-D966E09A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6F0D-B1EF-41FB-B23F-80FF32FD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416D-43DD-4F83-9D1D-146F089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019E-8D5F-4B9D-B834-CD1A0BC3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DDCA-02DC-4F9C-9DE6-08C79A2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15D3-A16C-4CB1-BB24-72EA7DC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47F2-CA0D-48D1-82E2-AE1ACA0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1132-F919-4A1C-BADA-DEF21C6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46E-2D6A-4075-9F60-EB9ADEB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4BA3E-1671-4EA0-B32B-296D1F75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3EBA-AB09-424F-B2CB-DCDE89D5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81F9-FC31-4C56-9AD8-228FA520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88C8-FFA1-4DAF-9A17-E7B5005B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4EB1-F851-465C-9600-B580CC36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A65F-C141-460B-BC8F-4C3FD2C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CA8DC-7BCF-4CE8-8B2C-FABD8F18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BB997-571B-4239-89BC-E9982FE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FEC5-C1F3-4AF0-8947-76DAAC1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C5274-24DD-4256-93CF-9543FB53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7AC-C99D-49C9-AE03-A024466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0919-B855-48F6-B0A6-C09941D0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1723-297D-4A71-B05E-6E1017B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6CD4-0129-4B82-BD79-72F1FBD4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A3B85-3364-4398-82E8-B39FA3F3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ABEC5-2CAF-4E29-95D9-3B204505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47B-3DA5-418D-B33C-2028DAF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8FD-3F6B-4491-9E25-EA2A6269F1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EAAF-DA12-473B-8616-4CB7779E50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B42F-401D-4EC7-8893-01855D5117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F0B-EA42-4561-B705-C47EB40C8F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026-F967-41A1-9989-324C9C159A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699-77B5-4A2D-9D9C-198CEEE16E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309-E669-41D7-8437-FD1994F9B3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427040" y="353880"/>
            <a:ext cx="7418520" cy="5675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Картинки по запросу бурятские узоры и орнаменты"/>
          <p:cNvPicPr/>
          <p:nvPr/>
        </p:nvPicPr>
        <p:blipFill>
          <a:blip r:embed="rId2"/>
          <a:stretch/>
        </p:blipFill>
        <p:spPr>
          <a:xfrm>
            <a:off x="3132000" y="1268280"/>
            <a:ext cx="3229200" cy="31687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2484360" y="476280"/>
            <a:ext cx="4751640" cy="459720"/>
          </a:xfrm>
          <a:prstGeom prst="rect">
            <a:avLst/>
          </a:prstGeom>
          <a:solidFill>
            <a:srgbClr val="feb80a"/>
          </a:solidFill>
          <a:ln w="478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icrosoft YaHei UI"/>
                <a:ea typeface="Microsoft YaHei UI"/>
              </a:rPr>
              <a:t>Тоорын дунда Һургу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4229280" y="6093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2020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2627280" y="1268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Бүлгэмэй нэр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Бүлгэмэй хэлэл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Бүлгэмэй ду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Бүлгэмэй гэшүүд нэрэ обогоо нэрлэн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789840" y="1341360"/>
            <a:ext cx="795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Түрүүшын асууд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Буряадай эпос Абай Гэсэрэй гол ню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Гэсэр багадаа ямар нэрэтэй байгаа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332000" y="5493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Түрүүшын асуу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Буряадай эпос Абай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Гэсэрэй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гол нюу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Гэсэр багадаа ямар нэрэтэй байгаа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2732400" y="3716280"/>
            <a:ext cx="521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rbel"/>
              </a:rPr>
              <a:t>Зуб харюу: нюҺата нюрг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1476360" y="8366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Балдан Насанович Ябжанов хэды ондо, хаана түрөө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1042920" y="907920"/>
            <a:ext cx="741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Балдан Насанович Ябжанов хэды ондо, хаана түрөө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rbel"/>
              </a:rPr>
              <a:t>Зуб харюу: Балдан Насанович Ябжанов майн 20,  1927 ондо Түнхэн аймагай Улбугай Һуурида түрө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1332000" y="126828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«Түрүүшын дуран» гэhэн дуу хэн бэшээ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Хүгжэмшэн хэды ондо, хаана түрөө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187280" y="128412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«Түрүүшын дуран» гэhэн дуу хэн бэшээ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Хүгжэмшэн хэды ондо, хаана түрөөб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Зуб харюу: Цырен Шойжинимаев Хэжэнгын аймагай Улзытэ нютагта мартын 26, 1966 ондо түрө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11:27:43Z</dcterms:created>
  <dc:creator>Пользователь Windows</dc:creator>
  <dc:description/>
  <dc:language>en-US</dc:language>
  <cp:lastModifiedBy>Пользователь Windows</cp:lastModifiedBy>
  <dcterms:modified xsi:type="dcterms:W3CDTF">2020-03-31T09:44:24Z</dcterms:modified>
  <cp:revision>13</cp:revision>
  <dc:subject/>
  <dc:title>Түмэн таабари</dc:title>
</cp:coreProperties>
</file>