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67F-D7A5-4A45-B51E-2934006D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5B7-F6BA-46DC-B193-013ACAA7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B04-6457-4A26-98D3-55697C1B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A2F-AF83-4330-B05F-0B78D468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026D-7833-4BE5-854A-BFE36657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7A9F-3965-442D-B7F8-C1DAED2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FDCC-3C1E-4037-AE5F-F30A8B8E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5243-88BB-41E7-ACA7-7F227FFF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A34D-1D2D-47C8-91B8-2AF2F4D9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009A-4297-4877-92AF-C6441BA6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2DFB-53FC-4F8A-9807-BCDDD9B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353-B94E-4B79-9565-41D4906B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C0B-B91F-41F3-A7EC-DA78174C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90E6-FF0C-4593-B6BE-220367E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2901-5F95-4F67-A543-869B829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59A-6F7C-44AE-9CEC-1A756BEF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13AF-69D3-4EFC-A919-6A20A474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22D-6FA2-4AF3-8210-647E63CF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10A-313F-4094-AB26-5267CB78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BC2-62FB-40E1-B15F-0A615411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8F4-5AAA-4BD0-AF7C-4B7F9BD4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10C-DB4D-490A-A0A3-7314D50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E16-839D-4808-904B-3ACFD5C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BAE-2635-46BF-BF48-C8DE5E4A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F736-7B2C-43EB-B068-31B44A4C5D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1789-20D4-4BE9-BC11-A28DEFE174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403280" y="2276640"/>
            <a:ext cx="60483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zvonok"/>
          <p:cNvPicPr/>
          <p:nvPr/>
        </p:nvPicPr>
        <p:blipFill>
          <a:blip r:embed="rId1"/>
          <a:stretch/>
        </p:blipFill>
        <p:spPr>
          <a:xfrm>
            <a:off x="1187280" y="4292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8"/>
          <p:cNvSpPr txBox="1"/>
          <p:nvPr/>
        </p:nvSpPr>
        <p:spPr>
          <a:xfrm>
            <a:off x="539640" y="220500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сотрудничеств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ознаком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определением смежных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теоремой о смежных углах и ее доказательст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о следствиями из теоремы о смежных уг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видами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аучиться решать задачи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900000" y="620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549360"/>
            <a:ext cx="639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 смежных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43280" y="1484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прямую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00720" y="191628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строим точку О, принадлежащую прямой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56000" y="2637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луч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916360" y="299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лучили </a:t>
            </a:r>
            <a:r>
              <a:rPr b="1" i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а 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84360" y="386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ы ОА и 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826920" y="4221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ОС и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ВОС – смежные уг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684360" y="1268280"/>
            <a:ext cx="3600360" cy="2232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9640" y="306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41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3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268360" y="2421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514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В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6443640" y="2997360"/>
            <a:ext cx="27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углы  у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500720" y="342900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б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3132000" y="3860640"/>
            <a:ext cx="52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дополнительные полу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7"/>
          <p:cNvSpPr txBox="1"/>
          <p:nvPr/>
        </p:nvSpPr>
        <p:spPr>
          <a:xfrm>
            <a:off x="611280" y="4653000"/>
            <a:ext cx="3057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468360" y="501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а угла, у которых одна сторона общая, а две другие являются дополнительными полупрямыми, называются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5"/>
          <p:cNvSpPr/>
          <p:nvPr/>
        </p:nvSpPr>
        <p:spPr>
          <a:xfrm>
            <a:off x="1971720" y="2406600"/>
            <a:ext cx="100080" cy="243000"/>
          </a:xfrm>
          <a:prstGeom prst="pie">
            <a:avLst/>
          </a:pr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0"/>
          <p:cNvSpPr/>
          <p:nvPr/>
        </p:nvSpPr>
        <p:spPr>
          <a:xfrm>
            <a:off x="2009880" y="2314440"/>
            <a:ext cx="453960" cy="5580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 flipH="1">
            <a:off x="684360" y="2492280"/>
            <a:ext cx="1584000" cy="1008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 flipV="1">
            <a:off x="2268360" y="1268280"/>
            <a:ext cx="1943280" cy="1224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2124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611280" y="404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орема о смежных углах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43280" y="333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умма смежных углов равна 180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611280" y="1628280"/>
            <a:ext cx="3097080" cy="18716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V="1">
            <a:off x="1908000" y="1341000"/>
            <a:ext cx="0" cy="13669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9640" y="33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492360" y="162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47640" y="134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284720" y="213372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284720" y="1989000"/>
            <a:ext cx="30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ас)  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вс) - см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1700280" y="2538360"/>
            <a:ext cx="203040" cy="298440"/>
          </a:xfrm>
          <a:prstGeom prst="pie">
            <a:avLst/>
          </a:prstGeom>
          <a:noFill/>
          <a:ln w="284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9"/>
          <p:cNvSpPr/>
          <p:nvPr/>
        </p:nvSpPr>
        <p:spPr>
          <a:xfrm>
            <a:off x="1922400" y="2538360"/>
            <a:ext cx="130320" cy="5544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0"/>
          <p:cNvSpPr/>
          <p:nvPr/>
        </p:nvSpPr>
        <p:spPr>
          <a:xfrm>
            <a:off x="1922400" y="2406600"/>
            <a:ext cx="204840" cy="14940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42764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572000" y="29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с)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+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) =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700360" y="3357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95280" y="3860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) – развер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3276720" y="3860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867280" y="38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611280" y="429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Луч с проходит между сторонами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ав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11280" y="472428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(ав)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=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4716360" y="47242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684360" y="5362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олучили, что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755640" y="620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916360" y="4221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1.  Если два угла равны, то смежные с ними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900000" y="1989000"/>
            <a:ext cx="2521080" cy="11527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826920" y="3357720"/>
            <a:ext cx="2808360" cy="13665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 flipV="1">
            <a:off x="539280" y="2133720"/>
            <a:ext cx="1584360" cy="433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H="1" flipV="1">
            <a:off x="1042560" y="3789360"/>
            <a:ext cx="1081080" cy="287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87708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1835280" y="2492280"/>
            <a:ext cx="1440" cy="2509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1863720" y="4000680"/>
            <a:ext cx="33480" cy="1825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4"/>
          <p:cNvSpPr/>
          <p:nvPr/>
        </p:nvSpPr>
        <p:spPr>
          <a:xfrm>
            <a:off x="1979640" y="2421000"/>
            <a:ext cx="365040" cy="9216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1920960" y="3849840"/>
            <a:ext cx="318960" cy="15084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979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54764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197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147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4140360" y="206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;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 – смежны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428472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4140360" y="306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 очевидно, что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428472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755640" y="549360"/>
            <a:ext cx="3887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64328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227640" y="197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651640" y="17002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 и  </a:t>
            </a:r>
            <a:r>
              <a:rPr b="1" i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2 смежны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64328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588000" y="2205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755640" y="2133720"/>
            <a:ext cx="3456000" cy="1295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 flipH="1" flipV="1">
            <a:off x="1618920" y="1267920"/>
            <a:ext cx="649080" cy="1584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H="1">
            <a:off x="1979640" y="2708280"/>
            <a:ext cx="216000" cy="730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1979640" y="2781360"/>
            <a:ext cx="71280" cy="1429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268360" y="2349360"/>
            <a:ext cx="7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61928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2165400" y="2633760"/>
            <a:ext cx="223920" cy="14760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268360" y="2997360"/>
            <a:ext cx="65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2.  Если один из смежных углов прямой, то и другой тоже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539640" y="4076640"/>
            <a:ext cx="82076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1187280" y="450864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3.  Если угол не развернутый, то его градусная мера меньше 180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684360" y="549360"/>
            <a:ext cx="3456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219640" y="184464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А =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332000" y="1628640"/>
            <a:ext cx="86364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2195640" y="1628640"/>
            <a:ext cx="223200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195640" y="2924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2050920" y="2707920"/>
            <a:ext cx="289080" cy="144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2340000" y="2708280"/>
            <a:ext cx="144360" cy="216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4643280" y="24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А -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468360" y="3284640"/>
            <a:ext cx="82803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148360" y="328464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В мен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 flipV="1">
            <a:off x="971640" y="3357360"/>
            <a:ext cx="237636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971640" y="3789360"/>
            <a:ext cx="194472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75564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4643280" y="3933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В – ост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468360" y="4581360"/>
            <a:ext cx="8207280" cy="730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5076720" y="4653000"/>
            <a:ext cx="32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С бол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5"/>
          <p:cNvSpPr/>
          <p:nvPr/>
        </p:nvSpPr>
        <p:spPr>
          <a:xfrm>
            <a:off x="611280" y="4797360"/>
            <a:ext cx="1584360" cy="7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6"/>
          <p:cNvSpPr/>
          <p:nvPr/>
        </p:nvSpPr>
        <p:spPr>
          <a:xfrm flipV="1">
            <a:off x="2195640" y="4941720"/>
            <a:ext cx="1871640" cy="64800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1835280" y="5516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643280" y="522936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С - ту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468360" y="333360"/>
            <a:ext cx="189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843280" y="404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айти смежные углы, если один из них в 4 раза меньше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V="1">
            <a:off x="611280" y="1628280"/>
            <a:ext cx="3024000" cy="20876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1908000" y="1267920"/>
            <a:ext cx="719280" cy="1584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2057400" y="2490840"/>
            <a:ext cx="160200" cy="115920"/>
          </a:xfrm>
          <a:prstGeom prst="pie">
            <a:avLst/>
          </a:pr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"/>
          <p:cNvSpPr/>
          <p:nvPr/>
        </p:nvSpPr>
        <p:spPr>
          <a:xfrm>
            <a:off x="1774800" y="2560680"/>
            <a:ext cx="236520" cy="297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124000" y="220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547640" y="242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57200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70836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- см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276720" y="2276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в 4 раза меньше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2771640" y="2781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4140360" y="27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059280" y="3284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755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усть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х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327672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гда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( 4х )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90000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+ </a:t>
            </a: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3419640" y="4292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по теореме о смежных угл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61128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003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+ 4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5003640" y="501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5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5076720" y="530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684360" y="530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611280" y="580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)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36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4 = 144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90000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вет: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144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684360" y="549360"/>
            <a:ext cx="429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Picture 5" descr="book"/>
          <p:cNvPicPr/>
          <p:nvPr/>
        </p:nvPicPr>
        <p:blipFill>
          <a:blip r:embed="rId1"/>
          <a:stretch/>
        </p:blipFill>
        <p:spPr>
          <a:xfrm>
            <a:off x="6372360" y="4005360"/>
            <a:ext cx="2417760" cy="194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5"/>
          <p:cNvPicPr/>
          <p:nvPr/>
        </p:nvPicPr>
        <p:blipFill>
          <a:blip r:embed="rId2"/>
          <a:stretch/>
        </p:blipFill>
        <p:spPr>
          <a:xfrm>
            <a:off x="468360" y="3789360"/>
            <a:ext cx="2286000" cy="2435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826920" y="170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1.Знать теорему о смежных углах, ее доказательства и следствия из теоремы, (п. 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84360" y="263700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2. №2 (устно), № 4 ( 1, 2, 4), стр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979640" y="342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ценки за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36:54Z</dcterms:created>
  <dc:creator>User</dc:creator>
  <dc:description/>
  <dc:language>en-US</dc:language>
  <cp:lastModifiedBy>User</cp:lastModifiedBy>
  <dcterms:modified xsi:type="dcterms:W3CDTF">2010-04-07T21:06:59Z</dcterms:modified>
  <cp:revision>24</cp:revision>
  <dc:subject/>
  <dc:title>Слайд 1</dc:title>
</cp:coreProperties>
</file>