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795-8561-4E92-85E8-DA0D65F0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066-59EE-4B74-B5DE-F7D3C01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B79-3DF1-493C-A4BE-528C5415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573-AA2F-4E37-BA84-525C4DE7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D9EA-DFD1-45A8-9E12-EDBB3B4E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83C5-4A5A-4434-AB2E-2D92761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2D1-1350-471A-A4D2-5B5901C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3A1-75D1-4CD0-97DF-6BBCA101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E2AE-D76F-47A6-86DD-EA79DE00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8324-B7D9-4428-920D-58CD0843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C6A4-678D-4314-8F98-189D666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88A-89EA-46B5-9F04-353E28A2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F69-3BAB-4B82-8ACD-28810F47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70D0-1C79-4A34-A4E9-FB4ABA7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73A2-7019-4A69-BE8B-26F72FD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967-A473-4D0D-9A11-DEEC8D92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5372-2FC1-45E9-BD95-8FCCAD25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A9E-FB70-4C87-B952-2AFA79E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6C2-B705-4CC6-A43B-F193158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C7A-0AB6-4AB2-B8F9-D9C494D3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E51-D767-43A8-AA89-66DEA4F8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28B-F63F-4343-99E8-27FAD70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E4A-EACE-4585-84F9-8DD878E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C1C-C81D-483A-809D-0D1933E3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F1C-E2C3-4367-9C6C-FAB78C7E5A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EC9-04AB-4706-B777-FAB171397F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684360" y="549360"/>
            <a:ext cx="345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219640" y="184464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 =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332000" y="1628640"/>
            <a:ext cx="86364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2195640" y="1628640"/>
            <a:ext cx="223200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95640" y="29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2050920" y="2707920"/>
            <a:ext cx="289080" cy="144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340000" y="2708280"/>
            <a:ext cx="144360" cy="216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64328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А -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68360" y="3284640"/>
            <a:ext cx="82803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148360" y="328464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В мен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971640" y="3357360"/>
            <a:ext cx="237636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971640" y="3789360"/>
            <a:ext cx="194472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75564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64328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В – о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468360" y="4581360"/>
            <a:ext cx="8207280" cy="73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5076720" y="4653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С бол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611280" y="4797360"/>
            <a:ext cx="158436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2195640" y="4941720"/>
            <a:ext cx="1871640" cy="648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1835280" y="551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643280" y="522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С -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684360" y="549360"/>
            <a:ext cx="42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5" descr="book"/>
          <p:cNvPicPr/>
          <p:nvPr/>
        </p:nvPicPr>
        <p:blipFill>
          <a:blip r:embed="rId1"/>
          <a:stretch/>
        </p:blipFill>
        <p:spPr>
          <a:xfrm>
            <a:off x="6372360" y="4005360"/>
            <a:ext cx="241776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5"/>
          <p:cNvPicPr/>
          <p:nvPr/>
        </p:nvPicPr>
        <p:blipFill>
          <a:blip r:embed="rId2"/>
          <a:stretch/>
        </p:blipFill>
        <p:spPr>
          <a:xfrm>
            <a:off x="468360" y="3789360"/>
            <a:ext cx="2286000" cy="243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82692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Знать теорему о смежных углах, ее доказательства и следствия из теоремы, (п.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637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2. №2 (устно), № 4 ( 1, 2, 4), стр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ценки за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User</cp:lastModifiedBy>
  <dcterms:modified xsi:type="dcterms:W3CDTF">2010-04-07T21:06:59Z</dcterms:modified>
  <cp:revision>24</cp:revision>
  <dc:subject/>
  <dc:title>Слайд 1</dc:title>
</cp:coreProperties>
</file>