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4AA-A209-461B-A4DF-5029DF65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C66-3976-4A21-9657-285860B4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6ED-EDF2-41FA-9426-97C384DF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116-0A70-4FDC-9489-39BF68E1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D51-15B2-4AA5-94F1-443D0A9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9F8-B928-4D41-BF1D-D0E032B8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D2B-A0F3-4CCE-857F-53AE7390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B99-93DF-4B4E-81AB-02BA09A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029-F571-44EB-9129-8BD6C517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366-9C59-48FE-A504-0FCD0DA3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7CA-EA12-4E4D-AB6A-83CA9899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7EA-2EFC-45B5-8958-E6335F5E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3999-A0F4-447C-939A-6105F6693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971640" y="234936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ВТОР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– </a:t>
            </a: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ДЕНЬ СПОРТИВНЫЙ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355920" y="103500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31 мар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067640" y="620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19280" y="1026000"/>
            <a:ext cx="7705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еда с детьми: «Я игрушки берег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Цель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закрепить с ребенком правила обращения с игрушками, учить бережному отно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овая деятельность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южетно-ролевая игра «Магаз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идактические игры: «Угадай вид транспорта», «Большой – малень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ое упражнение «Опиши игруш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учить ребенка описывать игрушку, обогащать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мощь взрослым в уборке дома: собрать игрушки, протереть п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Зарядка «Утро уже просыпайся и новому дню улыбайся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839520" y="69228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4360" y="1290600"/>
            <a:ext cx="784836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зическое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минка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– комплекс общеразвивающ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ы с мячо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(учимся перекидывать мяч из рук в руки на небольшом расстоя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ЭМП (математик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чить воспроизводить заданное количество предметов и звуков по образцу в пределах трех (без счета и называния числа). Например: положи столько кубиков, сколько раз я хлопну в ладоши. Совершенствовать умение различать и называть знакомые геометрические фигуры: круг, квадрат, тре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сская народная сказка «Волк и семеро козля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инская сказка «Лиса-няньк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учивание стихотворения А.Барто «Мяч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476360" y="69228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БЛЮДЕНИЯ 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(или из ок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11280" y="1719360"/>
            <a:ext cx="7848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блюдение за птицам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учить детей узнавать и называть знакомых птиц, обращать внимание на внешний вид,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воспитывать бережное отношение к природе, к птиц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826920" y="3330720"/>
            <a:ext cx="7632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бота перед сном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релаксация перед сном прослушивание музыкальной композиции «Звуки природы: журчание руче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ello_html_m40d23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348640" y="765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ТОРАЯ ПОЛОВИНА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17560" y="1413000"/>
            <a:ext cx="7777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гровая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гры со строительным материалом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тройка баш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вершенствовать умение располагать детали конструктора вертикально, в определённой последовательности, формировать  умение обыгрывать построй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стольные игры: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обери картинку», «Паз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Поликлиника», «Чаепити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найки»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смотр мультфильма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Утенок, который не умел играть в футбол»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(СССР, 1972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. Александрова. «Медвежонок Бур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9:52:37Z</dcterms:created>
  <dc:creator>PC</dc:creator>
  <dc:description/>
  <dc:language>en-US</dc:language>
  <cp:lastModifiedBy>user</cp:lastModifiedBy>
  <dcterms:modified xsi:type="dcterms:W3CDTF">2020-03-29T12:20:22Z</dcterms:modified>
  <cp:revision>9</cp:revision>
  <dc:subject/>
  <dc:title>Слайд 1</dc:title>
</cp:coreProperties>
</file>