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0E0-C60D-4D8F-86CA-167072C6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C2F-614D-4E1E-933A-D94ACCE8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CCC-EEA3-4494-AF92-484D935B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1F9-60DB-464A-8F16-E6FC9F90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1BD-EECB-47E2-9BA3-4442A33E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F51-BD61-41D7-8679-E82AAFBF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371-9BCE-4AD5-A78C-F55037BD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BEB-D0C9-4E7A-AE90-CB7790E2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53C-99C6-44D1-AD9C-8C5A98FC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EB3-FB91-44B5-AC02-51614307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8E8-E6BA-46EE-8298-4EAAACC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62B-512D-4F32-ABBC-055FD2E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9DF1-9E29-49FA-A043-8D5C48EBB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971640" y="234936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ВТОР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– </a:t>
            </a: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СПОРТИВНЫЙ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355920" y="10350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31 мар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067640" y="62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19280" y="1026000"/>
            <a:ext cx="7705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еда с детьми: «Я игрушки берег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крепить с ребенком правила обращения с игрушками, учить бережному отно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овая деятельность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ая игра «Маг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дактические игры: «Угадай вид транспорта», «Большой – малень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ое упражнение «Опиши игруш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учить ребенка описывать игрушку, обогащать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мощь взрослым в уборке дома: собрать игрушки, протереть 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Зарядка «Утро уже просыпайся и новому дню улыбайся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839520" y="69228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4360" y="1290600"/>
            <a:ext cx="78483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зическое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минка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 комплекс общеразвивающ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ы с мячо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учимся перекидывать мяч из рук в руки на небольшом расстоя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ЭМП (математик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воспроизводить заданное количество предметов и звуков по образцу в пределах трех (без счета и называния числа). Например: положи столько кубиков, сколько раз я хлопну в ладоши. Совершенствовать умение различать и называть знакомые геометрические фигуры: круг, квадрат, тре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сская народная сказка «Волк и семеро козля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инская сказка «Лиса-няньк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учивание стихотворения А.Барто «Мяч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76360" y="69228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11280" y="1719360"/>
            <a:ext cx="784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блюдение за птица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учить детей узнавать и называть знакомых птиц, обращать внимание на внешний вид,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воспитывать бережное отношение к природе, к птиц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826920" y="3330720"/>
            <a:ext cx="7632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елаксация перед сном прослушивание музыкальной композиции «Звуки природы: журчание руч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348640" y="765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17560" y="1413000"/>
            <a:ext cx="7777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ы со строительным материалом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тройка баш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вершенствовать умение располагать детали конструктора вертикально, в определённой последовательности, формировать  умение обыгрывать построй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бери картинку», «Паз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Поликлиника», «Чаепити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найки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смотр мультфильма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Утенок, который не умел играть в футбол»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СССР, 1972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. Александрова. «Медвежонок Бур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9:52:37Z</dcterms:created>
  <dc:creator>PC</dc:creator>
  <dc:description/>
  <dc:language>en-US</dc:language>
  <cp:lastModifiedBy>user</cp:lastModifiedBy>
  <dcterms:modified xsi:type="dcterms:W3CDTF">2020-03-29T12:20:22Z</dcterms:modified>
  <cp:revision>9</cp:revision>
  <dc:subject/>
  <dc:title>Слайд 1</dc:title>
</cp:coreProperties>
</file>