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359-8FBF-437D-B367-975ADF0A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49A-F8CE-4201-9610-E2DE67BA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D10-9D0D-4CA6-8E49-69EA7FAE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8A5-E1AE-4004-9D46-AAA26876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7CDA-2926-491E-9051-6C997DB4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7299-C614-4D9C-99AF-57139227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302D-6764-4304-B8E1-84A207B9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4AC6-A20F-405C-95A5-980C40B5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23C4-26BA-4547-AA2E-A9E591FD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BA75-D87D-4F86-8529-5D7E7D6A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2090-D2CE-4394-8B00-2276E769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92B-25E2-43D9-972C-E6CC133C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E03E-117B-486D-91D7-771E0819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41BE-EC66-41A4-8CBA-24B6D51C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A86B-1F5C-4FC3-ADA0-B7ABE86E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DB2E-6D0F-4DCF-913D-1CD14A8B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FCF3-E06B-4AB6-BCF5-39010ACE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AC9-31C0-44C7-8367-6852CA4F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87E-B70B-43C5-9DA9-B9905D5D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0E9-34D7-4B4E-AAC0-9F7C3E88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114-D4F6-4AC9-9CE3-726BF5BA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A7F-D6FC-45EB-A78F-05236689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660F-3FCF-488A-8DF0-365D9555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DDF-4499-4AEA-9F3E-4112FE4D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3E91-0569-4BEC-9E04-0437772E9E4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4AB7-3AFF-42C1-8399-5BEBA9F3FD1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623360" cy="12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Вычисление объемов геометрических тел с помощью определенного интеграла.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8000" y="5157720"/>
            <a:ext cx="655344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afbf3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257800" y="533520"/>
            <a:ext cx="3886200" cy="59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числение объёмов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лючаем тело Т между двумя параллельными плоск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Вводим систему координат так, что ось ОХ перпендикулярна плоскост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Проводим плоскость Ф(х) параллельно плоскостям через точку с абсциссой 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Определяем вид сечения и выражаем площадь через функцию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Проверя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ется ли функц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непрерывн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;b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S2020110"/>
          <p:cNvPicPr/>
          <p:nvPr/>
        </p:nvPicPr>
        <p:blipFill>
          <a:blip r:embed="rId1"/>
          <a:stretch/>
        </p:blipFill>
        <p:spPr>
          <a:xfrm>
            <a:off x="468360" y="1268280"/>
            <a:ext cx="460836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1" descr="S2020064"/>
          <p:cNvPicPr/>
          <p:nvPr/>
        </p:nvPicPr>
        <p:blipFill>
          <a:blip r:embed="rId1"/>
          <a:stretch/>
        </p:blipFill>
        <p:spPr>
          <a:xfrm>
            <a:off x="0" y="1125360"/>
            <a:ext cx="4284720" cy="2911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4356000" y="304920"/>
            <a:ext cx="448308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6. Разбиваем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a;b]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 -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авных отрезков точками а = х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х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х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…х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и проводим через х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плоскости перпендикулярно О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7. Плоскости разбивают тело Т на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тел Т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Т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Т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... Т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с основаниями Ф(х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)   и высотой </a:t>
            </a: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 - a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)/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95280" y="4149720"/>
            <a:ext cx="85042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8. V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= (S(x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+ S(x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+…+ S(x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)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= =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(S(x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+ S(x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+…+ S(x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 - a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)/n.     При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V, поэтому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но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9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2"/>
              <p:cNvSpPr txBox="1"/>
              <p:nvPr/>
            </p:nvSpPr>
            <p:spPr>
              <a:xfrm>
                <a:off x="900000" y="4869000"/>
                <a:ext cx="2159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3"/>
              <p:cNvSpPr txBox="1"/>
              <p:nvPr/>
            </p:nvSpPr>
            <p:spPr>
              <a:xfrm>
                <a:off x="3995640" y="5084640"/>
                <a:ext cx="208908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4"/>
              <p:cNvSpPr txBox="1"/>
              <p:nvPr/>
            </p:nvSpPr>
            <p:spPr>
              <a:xfrm>
                <a:off x="6372360" y="4581360"/>
                <a:ext cx="1512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09480" y="457200"/>
            <a:ext cx="792504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ГОРИТМ ВЫЧИСЛЕНИЯ ОБЪЁМОВ ГЕОМЕТРИЧЕСКИХ ТЕЛ С ПОМОЩЬЮ ОПРЕДЕЛЁННОГО ИНТЕГР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Ввести систему координат так, что ось ОХ        перпендикулярна основанию геометрическо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Найти пределы интегрирования а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Провести сечение плоскостью перпендикулярно оси ОХ через точку с абсциссой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ить вид сечения, задать формулой  его площадь как функци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Проверить непрерывность функци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(X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a;b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"/>
              <p:cNvSpPr txBox="1"/>
              <p:nvPr/>
            </p:nvSpPr>
            <p:spPr>
              <a:xfrm>
                <a:off x="1258920" y="5157720"/>
                <a:ext cx="25923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468360" y="260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а 1.Найти объём наклонной треугольной призмы с основание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высото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1052640"/>
            <a:ext cx="6121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Введём ось ОХ перпендикулярно основаниям пр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(АВС)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=a, a=0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=b, b=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0" y="2205000"/>
            <a:ext cx="529272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Проведём плоскость перпендикулярно ОХ через точку с абсциссой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треугольник, равный осно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в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227640" y="62373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=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2"/>
          <p:cNvSpPr/>
          <p:nvPr/>
        </p:nvSpPr>
        <p:spPr>
          <a:xfrm>
            <a:off x="0" y="450864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(x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прерывна 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;h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2"/>
          <p:cNvGrpSpPr/>
          <p:nvPr/>
        </p:nvGrpSpPr>
        <p:grpSpPr>
          <a:xfrm>
            <a:off x="0" y="4941720"/>
            <a:ext cx="5692680" cy="1095480"/>
            <a:chOff x="0" y="4941720"/>
            <a:chExt cx="5692680" cy="1095480"/>
          </a:xfrm>
        </p:grpSpPr>
        <p:sp>
          <p:nvSpPr>
            <p:cNvPr id="124" name="Text Box 9"/>
            <p:cNvSpPr/>
            <p:nvPr/>
          </p:nvSpPr>
          <p:spPr>
            <a:xfrm>
              <a:off x="0" y="49417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5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71"/>
                <p:cNvSpPr txBox="1"/>
                <p:nvPr/>
              </p:nvSpPr>
              <p:spPr>
                <a:xfrm>
                  <a:off x="355680" y="5013360"/>
                  <a:ext cx="533700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h</m:t>
                          </m:r>
                        </m:sup>
                        <m:e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h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>Sd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Sx</m:t>
                          </m:r>
                          <m:sSubSup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h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Sh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Sh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73"/>
          <p:cNvGrpSpPr/>
          <p:nvPr/>
        </p:nvGrpSpPr>
        <p:grpSpPr>
          <a:xfrm>
            <a:off x="5643720" y="1125360"/>
            <a:ext cx="3500280" cy="4321440"/>
            <a:chOff x="5643720" y="1125360"/>
            <a:chExt cx="3500280" cy="4321440"/>
          </a:xfrm>
        </p:grpSpPr>
        <p:sp>
          <p:nvSpPr>
            <p:cNvPr id="127" name="AutoShape 74"/>
            <p:cNvSpPr/>
            <p:nvPr/>
          </p:nvSpPr>
          <p:spPr>
            <a:xfrm>
              <a:off x="5643720" y="1125360"/>
              <a:ext cx="3500280" cy="43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5"/>
            <p:cNvSpPr/>
            <p:nvPr/>
          </p:nvSpPr>
          <p:spPr>
            <a:xfrm>
              <a:off x="6300720" y="4966560"/>
              <a:ext cx="40824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76"/>
            <p:cNvGrpSpPr/>
            <p:nvPr/>
          </p:nvGrpSpPr>
          <p:grpSpPr>
            <a:xfrm>
              <a:off x="5941440" y="1485360"/>
              <a:ext cx="2878200" cy="3480840"/>
              <a:chOff x="5941440" y="1485360"/>
              <a:chExt cx="2878200" cy="3480840"/>
            </a:xfrm>
          </p:grpSpPr>
          <p:sp>
            <p:nvSpPr>
              <p:cNvPr id="130" name="Line 77"/>
              <p:cNvSpPr/>
              <p:nvPr/>
            </p:nvSpPr>
            <p:spPr>
              <a:xfrm>
                <a:off x="6143040" y="4246560"/>
                <a:ext cx="1499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78"/>
              <p:cNvSpPr/>
              <p:nvPr/>
            </p:nvSpPr>
            <p:spPr>
              <a:xfrm>
                <a:off x="6143040" y="4246560"/>
                <a:ext cx="500760" cy="71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79"/>
              <p:cNvSpPr/>
              <p:nvPr/>
            </p:nvSpPr>
            <p:spPr>
              <a:xfrm flipV="1">
                <a:off x="6644160" y="4246200"/>
                <a:ext cx="998280" cy="71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80"/>
              <p:cNvSpPr/>
              <p:nvPr/>
            </p:nvSpPr>
            <p:spPr>
              <a:xfrm>
                <a:off x="6644160" y="1845000"/>
                <a:ext cx="1499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81"/>
              <p:cNvSpPr/>
              <p:nvPr/>
            </p:nvSpPr>
            <p:spPr>
              <a:xfrm>
                <a:off x="6644160" y="1845000"/>
                <a:ext cx="500760" cy="72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82"/>
              <p:cNvSpPr/>
              <p:nvPr/>
            </p:nvSpPr>
            <p:spPr>
              <a:xfrm flipV="1">
                <a:off x="7144920" y="1845000"/>
                <a:ext cx="998280" cy="72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83"/>
              <p:cNvSpPr/>
              <p:nvPr/>
            </p:nvSpPr>
            <p:spPr>
              <a:xfrm flipV="1">
                <a:off x="6143040" y="1845000"/>
                <a:ext cx="500760" cy="240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84"/>
              <p:cNvSpPr/>
              <p:nvPr/>
            </p:nvSpPr>
            <p:spPr>
              <a:xfrm flipH="1">
                <a:off x="7642080" y="1845000"/>
                <a:ext cx="500760" cy="240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85"/>
              <p:cNvSpPr/>
              <p:nvPr/>
            </p:nvSpPr>
            <p:spPr>
              <a:xfrm flipH="1">
                <a:off x="6643800" y="2565360"/>
                <a:ext cx="499320" cy="240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86"/>
              <p:cNvSpPr/>
              <p:nvPr/>
            </p:nvSpPr>
            <p:spPr>
              <a:xfrm>
                <a:off x="5941440" y="4220280"/>
                <a:ext cx="201600" cy="50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87"/>
              <p:cNvSpPr/>
              <p:nvPr/>
            </p:nvSpPr>
            <p:spPr>
              <a:xfrm flipH="1">
                <a:off x="7668360" y="4147920"/>
                <a:ext cx="288360" cy="21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88"/>
              <p:cNvSpPr/>
              <p:nvPr/>
            </p:nvSpPr>
            <p:spPr>
              <a:xfrm>
                <a:off x="6301080" y="1700280"/>
                <a:ext cx="343080" cy="14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89"/>
              <p:cNvSpPr/>
              <p:nvPr/>
            </p:nvSpPr>
            <p:spPr>
              <a:xfrm>
                <a:off x="8143560" y="1485360"/>
                <a:ext cx="676080" cy="35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90"/>
              <p:cNvSpPr/>
              <p:nvPr/>
            </p:nvSpPr>
            <p:spPr>
              <a:xfrm>
                <a:off x="7143480" y="2565360"/>
                <a:ext cx="100332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91"/>
          <p:cNvGrpSpPr/>
          <p:nvPr/>
        </p:nvGrpSpPr>
        <p:grpSpPr>
          <a:xfrm>
            <a:off x="6840360" y="1414080"/>
            <a:ext cx="1584360" cy="4176720"/>
            <a:chOff x="6840360" y="1414080"/>
            <a:chExt cx="1584360" cy="4176720"/>
          </a:xfrm>
        </p:grpSpPr>
        <p:grpSp>
          <p:nvGrpSpPr>
            <p:cNvPr id="145" name="Group 92"/>
            <p:cNvGrpSpPr/>
            <p:nvPr/>
          </p:nvGrpSpPr>
          <p:grpSpPr>
            <a:xfrm>
              <a:off x="6840360" y="1414080"/>
              <a:ext cx="1407960" cy="3855240"/>
              <a:chOff x="6840360" y="1414080"/>
              <a:chExt cx="1407960" cy="3855240"/>
            </a:xfrm>
          </p:grpSpPr>
          <p:sp>
            <p:nvSpPr>
              <p:cNvPr id="146" name="Line 93"/>
              <p:cNvSpPr/>
              <p:nvPr/>
            </p:nvSpPr>
            <p:spPr>
              <a:xfrm flipV="1">
                <a:off x="7191360" y="1414080"/>
                <a:ext cx="1080" cy="385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94"/>
              <p:cNvSpPr/>
              <p:nvPr/>
            </p:nvSpPr>
            <p:spPr>
              <a:xfrm>
                <a:off x="7368120" y="1575000"/>
                <a:ext cx="8802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95"/>
              <p:cNvSpPr/>
              <p:nvPr/>
            </p:nvSpPr>
            <p:spPr>
              <a:xfrm>
                <a:off x="6840360" y="2056680"/>
                <a:ext cx="880200" cy="48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96"/>
              <p:cNvSpPr/>
              <p:nvPr/>
            </p:nvSpPr>
            <p:spPr>
              <a:xfrm>
                <a:off x="6840360" y="4305960"/>
                <a:ext cx="8802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Text Box 97"/>
            <p:cNvSpPr/>
            <p:nvPr/>
          </p:nvSpPr>
          <p:spPr>
            <a:xfrm>
              <a:off x="7016400" y="2056680"/>
              <a:ext cx="1408320" cy="12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8"/>
            <p:cNvSpPr/>
            <p:nvPr/>
          </p:nvSpPr>
          <p:spPr>
            <a:xfrm>
              <a:off x="7015320" y="4305960"/>
              <a:ext cx="1408320" cy="12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99"/>
            <p:cNvSpPr/>
            <p:nvPr/>
          </p:nvSpPr>
          <p:spPr>
            <a:xfrm>
              <a:off x="7016400" y="3181680"/>
              <a:ext cx="1408320" cy="12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00"/>
            <p:cNvSpPr/>
            <p:nvPr/>
          </p:nvSpPr>
          <p:spPr>
            <a:xfrm>
              <a:off x="7368120" y="3181680"/>
              <a:ext cx="17604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01"/>
          <p:cNvGrpSpPr/>
          <p:nvPr/>
        </p:nvGrpSpPr>
        <p:grpSpPr>
          <a:xfrm>
            <a:off x="6012000" y="2638440"/>
            <a:ext cx="2628360" cy="1798200"/>
            <a:chOff x="6012000" y="2638440"/>
            <a:chExt cx="2628360" cy="1798200"/>
          </a:xfrm>
        </p:grpSpPr>
        <p:sp>
          <p:nvSpPr>
            <p:cNvPr id="155" name="Line 102"/>
            <p:cNvSpPr/>
            <p:nvPr/>
          </p:nvSpPr>
          <p:spPr>
            <a:xfrm>
              <a:off x="6450120" y="2818080"/>
              <a:ext cx="146016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03"/>
            <p:cNvSpPr/>
            <p:nvPr/>
          </p:nvSpPr>
          <p:spPr>
            <a:xfrm>
              <a:off x="6450120" y="2818080"/>
              <a:ext cx="4881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04"/>
            <p:cNvSpPr/>
            <p:nvPr/>
          </p:nvSpPr>
          <p:spPr>
            <a:xfrm flipV="1">
              <a:off x="6938280" y="2818080"/>
              <a:ext cx="97200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05"/>
            <p:cNvSpPr/>
            <p:nvPr/>
          </p:nvSpPr>
          <p:spPr>
            <a:xfrm>
              <a:off x="6743880" y="3717360"/>
              <a:ext cx="8762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06"/>
            <p:cNvSpPr/>
            <p:nvPr/>
          </p:nvSpPr>
          <p:spPr>
            <a:xfrm>
              <a:off x="6012000" y="2638440"/>
              <a:ext cx="730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07"/>
            <p:cNvSpPr/>
            <p:nvPr/>
          </p:nvSpPr>
          <p:spPr>
            <a:xfrm>
              <a:off x="7910280" y="2638440"/>
              <a:ext cx="7300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8923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867564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582480" y="620640"/>
            <a:ext cx="85615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2020079"/>
          <p:cNvPicPr/>
          <p:nvPr/>
        </p:nvPicPr>
        <p:blipFill>
          <a:blip r:embed="rId1"/>
          <a:stretch/>
        </p:blipFill>
        <p:spPr>
          <a:xfrm>
            <a:off x="468360" y="26028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S2020080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195640" y="3046320"/>
            <a:ext cx="6624360" cy="3046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4572000" y="836640"/>
            <a:ext cx="424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12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ст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од Лин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2020062"/>
          <p:cNvPicPr/>
          <p:nvPr/>
        </p:nvPicPr>
        <p:blipFill>
          <a:blip r:embed="rId1"/>
          <a:srcRect l="16203" t="0" r="16558" b="5379"/>
          <a:stretch/>
        </p:blipFill>
        <p:spPr>
          <a:xfrm>
            <a:off x="539640" y="333360"/>
            <a:ext cx="3478320" cy="367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S2020075"/>
          <p:cNvPicPr/>
          <p:nvPr/>
        </p:nvPicPr>
        <p:blipFill>
          <a:blip r:embed="rId2"/>
          <a:stretch/>
        </p:blipFill>
        <p:spPr>
          <a:xfrm>
            <a:off x="5076720" y="3284640"/>
            <a:ext cx="3168720" cy="2303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1117800" y="4076640"/>
            <a:ext cx="24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оганн Кеп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571 – 16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19640" y="907920"/>
            <a:ext cx="26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реомет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нных бочек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оганн Кеплер </a:t>
            </a:r>
            <a:br>
              <a:rPr sz="3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1571 – 16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Новая стереометрия винных бочек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ассказывают, что когда Кеплер покупал вино для свадьбы, он был изумлен тем, как торговец определял вместимость бочки. Продавец брал палку, на которой были нанесены деления, и с ее помощью определял расстояние от наливного отверстия до самой дальней точки бочки. Проделав это одно измерение, он сразу же говорил, сколько литров вина в данной бочк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еплера заинтересовало, насколько точно торговец определял объем бочки при помощи всего одного измерения. Так ученый первым обратил внимание на класс задач, исследование которых привело к созданию интегрального исчисл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начале Кеплер нашел формулу для вычисления объема бочки, а затем — и других тел вращения (всего 92), которым он дал названия: «лимон», «яблоко», «груша», «айва», «слива», «земляника», «турецкая чалма» и т. п. Для нахождения объемов этих неправильных тел он применил метод «исчерпывания», заполняя тела фигурами, объемы которых поддавались вычислению. Одновременно он разбивал тело на множество элементарных част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ходя объем тела как сумму элементарных объемов, заполнявших тело, Кеплер часто употреблял латинское выражение Summa omnium — сумма всех. Как известно, один из создателей интегрального исчисления, Лейбниц, ввел знак интеграла (удлиненная буква S) именно для сокращенной записи выражения Summa omniu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писанная Кеплером и изданная в 1615 году «Новая стереометрия винных бочек» положила начало целому ряду исследований, которые привели к созданию Ньютоном и Лейбницем дифференциального и интегрального исчисления. Математика переменных величин заняла ведущее место в системе математических зн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функция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рерывна на промежутк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числовой оси, содержащей точки х=а и х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то разность значени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b)-F(a) (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первообразна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(x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пределенным интеграл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т функци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2050920" y="3716280"/>
                <a:ext cx="50421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7" name="Rectangle 7"/>
          <p:cNvSpPr/>
          <p:nvPr/>
        </p:nvSpPr>
        <p:spPr>
          <a:xfrm>
            <a:off x="1619280" y="4941720"/>
            <a:ext cx="568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формула Ньютона-Лейбниц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5:06:29Z</dcterms:created>
  <dc:creator>kid</dc:creator>
  <dc:description/>
  <dc:language>en-US</dc:language>
  <cp:lastModifiedBy>Елена Жалыбина</cp:lastModifiedBy>
  <dcterms:modified xsi:type="dcterms:W3CDTF">2020-03-30T22:33:29Z</dcterms:modified>
  <cp:revision>39</cp:revision>
  <dc:subject/>
  <dc:title>Слайд 1</dc:title>
</cp:coreProperties>
</file>