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0A3-9D83-4651-9DBE-72DB2164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62A4-F0F2-46D7-A288-C979F93C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A585-809E-4C4F-88D8-BCD8509D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B14-4BEA-47E5-9059-DE34A7DA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E5A4-FC29-4487-90D1-8A6D5995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D29-A9B1-430E-80BC-3912052F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EA00-133B-4446-A383-607FD4A0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325F-EAD9-4C5F-995B-1669646E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203-25F1-46F2-90B7-E9675721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379-A7AA-456A-8401-7F61AADD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548-7C8E-4187-AFEA-9027D9B2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52F-1CA6-4EDC-94C6-DF0BBE17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B834-1C82-4A04-882C-F1FF661E5D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uchi.ru/b2t/teacher/check/393272" TargetMode="External"/><Relationship Id="rId2" Type="http://schemas.openxmlformats.org/officeDocument/2006/relationships/hyperlink" Target="https://uchi.ru/teachers/hometasks" TargetMode="External"/><Relationship Id="rId3" Type="http://schemas.openxmlformats.org/officeDocument/2006/relationships/hyperlink" Target="https://uchi.ru/teachers/hometasks" TargetMode="External"/><Relationship Id="rId4" Type="http://schemas.openxmlformats.org/officeDocument/2006/relationships/hyperlink" Target="https://uchi.ru/teachers/hometasks" TargetMode="External"/><Relationship Id="rId5" Type="http://schemas.openxmlformats.org/officeDocument/2006/relationships/hyperlink" Target="https://uchi.ru/teachers/hometasks" TargetMode="External"/><Relationship Id="rId6" Type="http://schemas.openxmlformats.org/officeDocument/2006/relationships/hyperlink" Target="https://uchi.ru/teachers/hometasks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2" descr=""/>
          <p:cNvPicPr/>
          <p:nvPr/>
        </p:nvPicPr>
        <p:blipFill>
          <a:blip r:embed="rId1"/>
          <a:stretch/>
        </p:blipFill>
        <p:spPr>
          <a:xfrm>
            <a:off x="1255680" y="2779560"/>
            <a:ext cx="7139160" cy="1292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511280" y="620640"/>
            <a:ext cx="66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                                                                                                                                                          </a:t>
            </a:r>
            <a:r>
              <a:rPr b="1" i="1" lang="tt-RU" sz="4000" spc="-1" strike="noStrike">
                <a:solidFill>
                  <a:srgbClr val="6f0096"/>
                </a:solidFill>
                <a:latin typeface="Georgia"/>
              </a:rPr>
              <a:t>Русский язык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f0096"/>
                </a:solidFill>
                <a:latin typeface="Georgia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отрасль экономики производит эти това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714240" y="214200"/>
            <a:ext cx="7674120" cy="120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ужно сдел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бы изучить т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26920" y="1844640"/>
            <a:ext cx="7777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ти по ссылке и посмотреть видеоуроки и выполнить тренировочные задания:</a:t>
            </a:r>
            <a:r>
              <a:rPr b="0" lang="tt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s://uchi.ru/b2t/teacher/check/3932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tt-RU" sz="2800" spc="-1" strike="noStrike">
                <a:solidFill>
                  <a:srgbClr val="000000"/>
                </a:solidFill>
                <a:latin typeface="Calibri"/>
              </a:rPr>
              <a:t>и пройдите по ссылк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uchi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ru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eachers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ometask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в учебнике тему:Лицо личных местоимений(95 ст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упр.157 ,95 ст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фотографировать выполненное упражнение и прислать фото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sA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Срок выполнения:до 15.04.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24:06Z</dcterms:created>
  <dc:creator>Администратор</dc:creator>
  <dc:description/>
  <dc:language>en-US</dc:language>
  <cp:lastModifiedBy>2017</cp:lastModifiedBy>
  <dcterms:modified xsi:type="dcterms:W3CDTF">2020-03-31T17:12:00Z</dcterms:modified>
  <cp:revision>33</cp:revision>
  <dc:subject/>
  <dc:title>Презентация PowerPoint</dc:title>
</cp:coreProperties>
</file>