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4CE-A9C7-4C14-B003-F2AEFDBA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DCA-4C41-4F8D-A4A9-E8EE1D7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7C0-2C7C-4CB8-97C1-C7CA5927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701-4EDA-4F8E-8ED2-D7C609F7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6FC-E024-4D9D-8D3E-7885996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C95-FD48-487C-A671-B5D46D9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F47-51A6-45AE-8B95-8E131EBE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D28-5068-40C5-9CEB-C585F4DD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06B-4C9F-4D38-B073-971CE15B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B87-5EF8-450F-A4F8-1330BB4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95D-744B-4AAE-B097-0C38ACF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E0F-B035-493A-AD8E-7CF435F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9A81-297B-445E-99D8-D9EDCB577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chi.ru/b2t/teacher/check/393272" TargetMode="External"/><Relationship Id="rId2" Type="http://schemas.openxmlformats.org/officeDocument/2006/relationships/hyperlink" Target="https://uchi.ru/teachers/hometasks" TargetMode="External"/><Relationship Id="rId3" Type="http://schemas.openxmlformats.org/officeDocument/2006/relationships/hyperlink" Target="https://uchi.ru/teachers/hometasks" TargetMode="External"/><Relationship Id="rId4" Type="http://schemas.openxmlformats.org/officeDocument/2006/relationships/hyperlink" Target="https://uchi.ru/teachers/hometasks" TargetMode="External"/><Relationship Id="rId5" Type="http://schemas.openxmlformats.org/officeDocument/2006/relationships/hyperlink" Target="https://uchi.ru/teachers/hometasks" TargetMode="External"/><Relationship Id="rId6" Type="http://schemas.openxmlformats.org/officeDocument/2006/relationships/hyperlink" Target="https://uchi.ru/teachers/hometasks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1255680" y="2779560"/>
            <a:ext cx="7139160" cy="1292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:</a:t>
            </a:r>
            <a:r>
              <a:rPr b="0" lang="tt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uchi.ru/b2t/teacher/check/3932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и пройдите по ссыл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uchi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metask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тему:Лицо личных местоимений(95 ст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157 ,95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Срок выполнения:до 15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12:00Z</dcterms:modified>
  <cp:revision>33</cp:revision>
  <dc:subject/>
  <dc:title>Презентация PowerPoint</dc:title>
</cp:coreProperties>
</file>