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11D-DD19-4DD2-9485-709F0444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D54-B225-4C63-BB34-F42B3BD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938-2B03-481C-BE3E-801230E3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1EF-E32C-4A14-81BD-9EDA4FBC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B086-9C48-4E3E-BDC7-766D35EF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FA52-8194-4C38-BE74-B279947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5A55-61D6-4669-BE0A-445C5C51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DD5-BBFD-4E22-BB16-237EDF2B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A01-58AD-4D1E-87A3-187CB0C0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1336-9C27-4AD7-8D65-C2DD1278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681-02C0-427B-87A9-AAC33C4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D77-D0BB-4754-B6F1-ED051AD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957-6E0A-4428-8656-EEE2AEA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4604-260F-4D1E-93EE-7748E92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974A-EFC8-429E-B4A8-AF200502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E42-2F8E-4226-BDDB-0304808B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6F97-F06F-42D0-B01E-56E0DA43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708-C416-4E83-8F11-0287183F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0CC-F515-4194-A4AE-F94B214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D62-8475-485E-B09F-1FB0E37B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22A-ADB4-4505-B5D4-BD26447E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ED4-DA34-4E84-BF1F-5491C88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C5F-944C-4B31-85F5-4F6E731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7E9-2D9D-461C-A3D3-37E74B7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1EE4-4A1F-4948-B412-FC238E1BA6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9214-1F42-442E-BCE2-1C008BEA1D3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ИРОВЫЕ РЕЛИГИИ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вобода сове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765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ое право каждого человека на свободный мировоззренческий выбор, не влекущий за собой ограничений в гражданских правах и свободах или их утра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3691080" y="3657600"/>
            <a:ext cx="5448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ировые религ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религий, отличающаяся распространенностью по всем регионам Земли, обращением ко всем людям независимо от их этнической и политической принадлежности, наибольшим числом верующ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знаки мировых религи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щенность к каждому верующему л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ность основных постул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имость личного спасения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льное равенство всех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астность к обыденным проблемам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уддизм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 в Инди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– 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в. до н.э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 вероучения Типитака (Трипита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62308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ы 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вь и милосердие ко всем живым существам, независимо от того, добрые они или з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латить злом на з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асения можно достичь через размышление и созерцание, соблюдая заповеди 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истианств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ло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. н.э. в Восточных провинциях Римской импе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 веро-                                      учения –                                                Библ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3841920" y="2811600"/>
            <a:ext cx="5302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ы 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бавление от грехов путем молитвы и покая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оведь терпения, смирения, прощения об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сла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. н.э. на Аравийском полуостр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 ве-                                      роучения –                                              Кора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3352680" y="299736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сновы уч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я предопределения (фатум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гое выполнение всех предписаний религии как основа спас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Ната</cp:lastModifiedBy>
  <dcterms:modified xsi:type="dcterms:W3CDTF">2020-04-01T15:10:1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