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B09-0B0A-4500-A6EA-C131B839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896-E19E-438C-B883-BD5F72D9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F13-D4BF-4470-B2F2-338D4148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D92-FB93-4360-8DB6-8E2DDDEF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5F08-C8F7-4820-8875-6D5B82E9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43C4-3BFC-4E9E-B62B-F9CF50C8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9091-3868-4E4D-B66A-94D4631D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4C27-D92F-4F1C-B675-6C4A3C18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4A3B-68ED-4F19-892A-6FFA2D9C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3863-1EDF-487C-845F-8108414B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72CC-5986-4E24-AD8C-B9ED548E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DD4-4220-4A80-8D65-02BA1BC5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1D2A-AD69-4B57-8A6A-DB0BAE67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7CFE-E827-4EAF-A3F8-59DE0EC2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3CCB-57C0-4680-81E8-0F4CF018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556B-B431-4911-AC03-E246DE96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C0B4-40F6-40FC-B954-017BD377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0ED-D269-40D4-9DC0-A8AE6C3B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232-272D-47C2-A7F2-C5B8199E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350-821A-48BD-98EC-A6650D20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9C6-129B-4059-84FD-82FE6FF2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C7A-FD1D-4EE5-A769-33984A99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A24-3D46-4AD7-A72B-535BE35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FD7-ADE9-421D-8AE2-B36E4AF0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8C7E-8014-4D2B-9606-9546390EC3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99E2-FEED-465E-8F78-4E250428DC5A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МИРОВЫЕ РЕЛИГИИ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вобода совест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765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даментальное право каждого человека на свободный мировоззренческий выбор, не влекущий за собой ограничений в гражданских правах и свободах или их утра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1"/>
          <a:stretch/>
        </p:blipFill>
        <p:spPr>
          <a:xfrm>
            <a:off x="3691080" y="3657600"/>
            <a:ext cx="5448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ировые религ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уппа религий, отличающаяся распространенностью по всем регионам Земли, обращением ко всем людям независимо от их этнической и политической принадлежности, наибольшим числом верующ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знаки мировых религи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щенность к каждому верующему л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ятность основных постул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имость личного спасения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льное равенство всех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астность к обыденным проблемам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уддизм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8288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ник в Индии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 – 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в. до н.э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чник вероучения Типитака (Трипита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62308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сновы уч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вь и милосердие ко всем живым существам, независимо от того, добрые они или з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латить злом на з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асения можно достичь через размышление и созерцание, соблюдая заповеди 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истианство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никло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. н.э. в Восточных провинциях Римской импе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чник веро-                                      учения –                                                Библ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3841920" y="2811600"/>
            <a:ext cx="53020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сновы уч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бавление от грехов путем молитвы и покая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оведь терпения, смирения, прощения оби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Ислам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ник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. н.э. на Аравийском полуостро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чник ве-                                      роучения –                                              Кора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3352680" y="299736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сновы уч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дея предопределения (фатум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огое выполнение всех предписаний религии как основа спас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</dc:creator>
  <dc:description/>
  <dc:language>en-US</dc:language>
  <cp:lastModifiedBy>Ната</cp:lastModifiedBy>
  <dcterms:modified xsi:type="dcterms:W3CDTF">2020-04-01T15:10:1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