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4F5-8548-459E-9FB9-06DDFF53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71C-5392-4599-8CE1-8877964D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B77-FC51-4114-A313-43269CEC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F79-FD49-4754-A25D-C8753307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F045-5133-45CB-87A0-FBC0CF89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604F-831C-4A94-AC48-C597D171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258F-C7CE-4B9B-A3D5-D0F8687F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E0B3-D0AF-4966-866E-E741A651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53D1-EBCD-4775-A24F-6D4D52B0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5D8D-3D2C-4F2B-B276-C021C188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64CB-FD34-46B1-A21D-698B71A2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C04-BF73-4AFF-8EFC-32327E13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48BD-09A5-4064-9136-DB57A5E5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B24A-E0C1-40B3-B616-9BC0CC6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E0C6-2B83-487A-BE01-617E4E0A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B7FF-8B1C-4363-88CD-0041DBEC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BC38-4699-40E8-9404-2A25ECF7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C4F-1DD7-4CA9-AC47-F68CBE42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A7D-F20B-4B39-BC00-FE439591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16D-1286-4E00-94A2-8CF4A53A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DA6-CB18-428C-99B9-949BCF54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6D3-AC1A-4120-8D71-7056D2B2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192-4B05-41CB-ACBC-D1BA7DF0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D20-21FE-40BE-863A-82F84900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CF2F-0EDF-4E64-9D16-E7FC90D747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CD11-4C8C-437A-8D6C-4D66D6D871A5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РЕЛИГИЯ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лигия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42760"/>
            <a:ext cx="410544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ровосприятие и поведение людей, основанное на вере в существование сверхъестествен-ных сил и возможность общения с ни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4562640" y="838080"/>
            <a:ext cx="467676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руктура религ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игиозное сознание, т.е. вера в существование сверхъестественных сил, возможность общения с ними, в истинность религиозных догматов, священных текстов и религиозных авторит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льт – система ритуалов и обрядов, внешняя форма проявления ве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2504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игиозные отно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игиозные организации: церковь, секта, харизматичный куль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1447920" y="2400480"/>
            <a:ext cx="62481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Функции религ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ровоззрен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ическая (компенсаторна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гулятивн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ирующ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льтурн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итимирующ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иды религий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количеству бог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политеистические и монотеист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времени существ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живые и мерт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охвату верующ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одоплеменные культ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анимизм, тотемизм, фетишизм, шаманиз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ционально-государстве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иудаизм, индуизм, синтоизм, конфуцианств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е религ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буддизм, христианство (католичество, православие, протестантизм), исла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</dc:creator>
  <dc:description/>
  <dc:language>en-US</dc:language>
  <cp:lastModifiedBy>Ната</cp:lastModifiedBy>
  <dcterms:modified xsi:type="dcterms:W3CDTF">2020-04-01T14:57:4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