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582-F8D6-4649-B9D3-397764C2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DAD-1228-4F10-AD9F-39E96444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5C6-DEAF-4A1C-AC2F-F1E49FF2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EB0-BCDD-469A-BD47-76B5234E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3C25-9127-4352-8102-72221789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D65-C8BB-40A6-A178-747E3514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3C3-B267-4208-8B5A-CF0FA59E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2C8-F142-4A67-B59F-6EEF75D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6553-90C9-47A1-BE88-6B5C260E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691A-07A1-4315-83FE-5374259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F6D3-BA7E-4775-8FFC-5BA1962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6A5-E800-4B7C-A1CB-AB95BB4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0D7-B1AD-4A6E-B833-4BC81E0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47BE-81C7-4F08-A1FF-48CE9EB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9677-70AD-479F-BB82-4C1351F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6BB-5240-42DA-990B-E562B030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427-DC3E-41B1-AFCA-032D610C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6BF-8D72-436E-B44A-244FA40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3D3-1412-4334-A625-060CFF9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32C-8ECC-4D67-8DC1-E7F3260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121-FA24-4076-9027-6042C84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95F-CFF3-44F5-B9AA-B051B43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D5E-8F58-4903-837D-F6F9A01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64D-E890-4205-A175-03F71C5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9E8-75B8-4DE2-9FBF-71D88207BF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954-5488-4AED-9757-7AD0B1BD312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РЕЛИГИ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лиг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42760"/>
            <a:ext cx="410544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овосприятие и поведение людей, основанное на вере в существование сверхъестествен-ных сил и возможность общения с ни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4562640" y="838080"/>
            <a:ext cx="46767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руктура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ое сознание, т.е. вера в существование сверхъестественных сил, возможность общения с ними, в истинность религиозных догматов, священных текстов и религиозных авторит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 – система ритуалов и обрядов, внешняя форма проявления в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ые 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ые организации: церковь, секта, харизматичный куль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1447920" y="2400480"/>
            <a:ext cx="6248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и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овоззрен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ическая (компенсатор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тив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ующ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ур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итимирующ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иды религи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количеству бог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политеистические и монотеист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времени существ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живые и мерт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охвату вер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одоплеменные куль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нимизм, тотемизм, фетишизм, шаманиз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о-государств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иудаизм, индуизм, синтоизм, конфуцианств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е религ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буддизм, христианство (католичество, православие, протестантизм), исла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1T14:57:4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