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569-889F-4EDA-BD41-0A5261F6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8E2-8802-475A-9299-5083AF9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9BE-3B73-4C28-A8AE-8994FD27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EBC-0989-478A-B57E-26DD94E8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07D-64ED-4B80-9A81-1DFA544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777-5EEA-4137-9F13-C53C1DF8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AD7-19DA-4274-A2FF-EF4D670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953-4816-4F92-B5D6-0152BC59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BC5-AAF1-450F-B455-CB34B11A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6F5-90B3-454B-A99D-E913CFA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A84-DF23-4EE7-87DB-F904EB6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22B-CF46-4FA2-AE61-8D992C1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FDA-6C8F-4850-A32C-587A05C2C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stant.uchi.ru/lessons-1-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963720" y="2651040"/>
            <a:ext cx="7856280" cy="270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</a:t>
            </a:r>
            <a:r>
              <a:rPr b="0" lang="tt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distant.uchi.ru/lessons-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:правило на стр.95(выуч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 159,стр.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рок выполнения : до 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32:39Z</dcterms:modified>
  <cp:revision>31</cp:revision>
  <dc:subject/>
  <dc:title>Презентация PowerPoint</dc:title>
</cp:coreProperties>
</file>