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8199-FF4E-4CC6-B365-0A644BAE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4AF9-12A7-48B6-BEDE-8DC6DE16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F706-A635-4CB3-B56B-BBA0E57B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DF2A-6703-4758-BCE5-0C6EDD6E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360F-829C-47FE-94A8-2CFA117E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3C86-8C8B-47FD-B7AA-EEDC20B1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B37E-ACB7-4F37-B1D0-FED0C77D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A6DD-9809-4C7A-AB5A-7BD486CA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8E85-E923-42B6-93C4-8BE8F66C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2E4C-2A7B-450D-A93C-67211A2A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9CE4-5A53-46FC-9BC3-49E1C78F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D431-DC43-4AF1-A546-90871204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CDD9-C6B3-4725-B4D4-A01381344A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distant.uchi.ru/lessons-1-4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2" descr=""/>
          <p:cNvPicPr/>
          <p:nvPr/>
        </p:nvPicPr>
        <p:blipFill>
          <a:blip r:embed="rId1"/>
          <a:stretch/>
        </p:blipFill>
        <p:spPr>
          <a:xfrm>
            <a:off x="963720" y="2651040"/>
            <a:ext cx="7856280" cy="270216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511280" y="620640"/>
            <a:ext cx="66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                                                                                                                                                          </a:t>
            </a: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Русский язык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f0096"/>
                </a:solidFill>
                <a:latin typeface="Georgia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ая отрасль экономики производит эти товар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714240" y="214200"/>
            <a:ext cx="7674120" cy="120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нужно сдел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бы изучить т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826920" y="1844640"/>
            <a:ext cx="777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йти по ссылке и посмотреть видеоуроки и выполнить тренировочные задания</a:t>
            </a:r>
            <a:r>
              <a:rPr b="0" lang="tt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s://distant.uchi.ru/lessons-1-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в учебнике :правило на стр.95(выучит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упр. 159,стр.9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тографировать выполненное упражнение и прислать фото 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sAp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рок выполнения : до 15.04.20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07:24:06Z</dcterms:created>
  <dc:creator>Администратор</dc:creator>
  <dc:description/>
  <dc:language>en-US</dc:language>
  <cp:lastModifiedBy>2017</cp:lastModifiedBy>
  <dcterms:modified xsi:type="dcterms:W3CDTF">2020-03-31T17:32:39Z</dcterms:modified>
  <cp:revision>31</cp:revision>
  <dc:subject/>
  <dc:title>Презентация PowerPoint</dc:title>
</cp:coreProperties>
</file>