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E59F-1F8F-41C8-9F06-EBC19A9D43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32EF-E803-4C5F-9A72-018477CEB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606-256F-4A45-9583-69DBEC37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4DD-AF45-4DF0-A56C-E114D7F6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5D7-6C9E-4BF6-87B5-FB3DE2F3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21D-D1EE-4372-873A-DE2D851C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CD2-C11F-429E-8D05-E4D38725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EF1-0F08-48B8-997B-7B521A9C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E94-4F65-45E3-A345-FC872874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B76-37A5-4D8D-A5EA-A094334A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220-902E-4243-BF63-EA6CE2AF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CF2-01C2-4CD8-9D0E-475B78D8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3A0-29C8-4C87-8270-F44F6077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A58-029D-4445-AD9F-8E8BE574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CA22-C954-449C-9329-430816F935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c33EwaJq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07920" y="2651040"/>
            <a:ext cx="7828200" cy="1878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Окружающий мир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учи.ру задания по ссылке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Cc33EwaJq1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осмотреть видеопрезентац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прочитать тему «Семейный бюдже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 в рабочей тетради- 48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выполнения:14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1T16:43:47Z</dcterms:modified>
  <cp:revision>32</cp:revision>
  <dc:subject/>
  <dc:title>Презентация PowerPoint</dc:title>
</cp:coreProperties>
</file>