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793D-A48B-48D8-9880-699EC935BB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8795-1E3A-4ACE-B428-4C20B6373A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ACB-63D6-4FEA-8CF6-E97AD261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FB9-8316-45FE-8CB0-56C6EB5B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CAF-716E-4107-A5F8-248B903E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E19-60D1-424F-A90A-A4A42269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C57-6FB8-4F3D-AC7B-13C6D560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EAA-10B7-417E-A302-DD3DC670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45B-8609-46D6-8C2F-AC71C768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E7F-6AAC-4EB8-9226-EB0F5A19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104-2C1A-4C03-94CD-5630EE52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1BB-EEDA-4192-AFEC-4EF38C15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A1E-2356-4323-A135-B8E05409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DD2-D988-40D3-89D6-CEAF373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AF1A-3FE5-46AB-AA06-814061236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c33EwaJq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Администратор\Desktop\тишина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07920" y="2651040"/>
            <a:ext cx="7828200" cy="1878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Окружающий мир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826920" y="1844640"/>
            <a:ext cx="777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учи.ру задания по ссылке: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Cc33EwaJq1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посмотреть видеопрезентац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прочитать тему «Семейный бюджет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 в рабочей тетради- 48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выполнения:14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4-01T16:43:47Z</dcterms:modified>
  <cp:revision>32</cp:revision>
  <dc:subject/>
  <dc:title>Презентация PowerPoint</dc:title>
</cp:coreProperties>
</file>