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11BC-DE4D-4E4F-BCBE-89382151C9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6255-3F70-4FF5-9D4A-B69B33D51D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01B-2FED-4329-AE92-FCDB3BF6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7F7-7B88-492F-B532-7529A5E1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936-F718-45F2-A333-8C619329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62C-D5A8-4BBF-AAC6-81B27304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45B-CC54-4C6C-A664-9D6465A0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095-158C-47CD-B44C-CA384184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17E-C888-4D11-9BED-4A2535CB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DCB-8003-4D7E-B74A-77086D94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BC1-E69E-4246-95DA-BFFFD3E7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5D2-7631-48A1-9F6C-81774F8C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404-CAB5-4B34-9F89-FA6472D8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EE0-6E70-4CCC-A2A4-BAEEC4FD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B259-0174-4E4B-BD95-9E370603A6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c33EwaJq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Администратор\Desktop\тишина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07920" y="2651040"/>
            <a:ext cx="7828200" cy="1878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Окружающий мир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826920" y="1844640"/>
            <a:ext cx="777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учи.ру задания по ссылке: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Cc33EwaJq1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посмотреть видеопрезентац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прочитать тему «Семейный бюджет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. в рабочей тетради- 48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выполнения:2 д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4-01T17:25:04Z</dcterms:modified>
  <cp:revision>33</cp:revision>
  <dc:subject/>
  <dc:title>Презентация PowerPoint</dc:title>
</cp:coreProperties>
</file>