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13C2-E274-4171-8332-4178F011D7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4A09-3EB0-4B2E-A2E1-AF4C88A6EE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857-B01F-43B4-9931-DA80A5D7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24C-6667-4368-A6C2-8554F82F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CAB1-A3EB-4ADA-B154-ED5C4F11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537-AC28-4013-819B-9D51074D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1B2-710B-46B5-A5DD-2199BE8E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6CD-C479-497C-BF61-38EB9F37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FC1-2687-4596-B994-04BC1C63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3750-C1E6-475A-8B65-ECC7F2CD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F2B3-E407-4C0A-A88A-643AB0FF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0E6-C57A-41CE-A3A0-C28E2F94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E56-1106-4D7C-9C14-561464DB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971-2E82-492B-A4B2-C0BFB21C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291C-52F8-4826-9059-AED7752E0E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Cc33EwaJq1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Администратор\Desktop\тишина\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907920" y="2651040"/>
            <a:ext cx="7828200" cy="1878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511280" y="620640"/>
            <a:ext cx="66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                                                                                                                                                      </a:t>
            </a: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Окружающий мир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f0096"/>
                </a:solidFill>
                <a:latin typeface="Georgia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отрасль экономики производит эти това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714240" y="214200"/>
            <a:ext cx="7674120" cy="120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ужно сдел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бы изучить т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826920" y="1844640"/>
            <a:ext cx="7777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ти по ссылке и посмотреть видеоуроки и выполнить тренировочные зада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учи.ру задания по ссылке: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youtube.com/watch?v=Cc33EwaJq1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посмотреть видеопрезентацию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в учебнике прочитать тему «Семейный бюджет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упр. в рабочей тетради- 48 ст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тографировать выполненное упражнение и прислать фото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sAp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выполнения:2 д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24:06Z</dcterms:created>
  <dc:creator>Администратор</dc:creator>
  <dc:description/>
  <dc:language>en-US</dc:language>
  <cp:lastModifiedBy>2017</cp:lastModifiedBy>
  <dcterms:modified xsi:type="dcterms:W3CDTF">2020-04-01T17:25:04Z</dcterms:modified>
  <cp:revision>33</cp:revision>
  <dc:subject/>
  <dc:title>Презентация PowerPoint</dc:title>
</cp:coreProperties>
</file>