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315-1F1A-4CEB-8537-84BD37D1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45F-1909-4F43-A45F-9BC545FE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676-62B2-446F-B013-00E49B1B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EC4-2223-467C-842C-677959A8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28C2-B549-4C58-BADE-F24B78DC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FCB9-A814-496B-8101-7E8BF067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E8E-EC06-4281-B1C0-1EC36871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E39C-F830-4B40-BB55-D98077B2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F41B-6B04-4C57-8D4B-4E4A931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CCF8-C067-4803-877C-320D9023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3FB5-D064-4228-8D9C-D44D804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1A6-7B39-46EE-BC31-2DABA28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CC6E-3925-47B8-81FC-6D1F6C7A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0909-CF82-4C57-B7BB-CA381D3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2612-011C-45CC-BF8C-FE5D752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8BD6-7B7D-4339-A524-7C6C8D2B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AF5-3E9A-44C5-B180-6F16572C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23B-E5D6-415B-AA03-E3CF6CB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72F-F7A2-42CB-A309-745BC18A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AA5-EF22-43EA-AC42-7D8D5811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EFD-82F9-4973-82CD-C20276D0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91C-268E-445C-8DBB-02EC0F4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B90-3A77-4C4A-ADF7-DCC707C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E83-54B5-4A68-AFB7-BCE4A71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46E6-3E23-4A16-8368-1A1FA57696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88D-465A-47D9-835F-0DB62255076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бщение и коммуникац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Основные теории общения. Интерактивная, коммуникативная, перцептивная стороны общения. Общение и коммуникация: сходства и различ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ория управления впечатле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втор Э.Гофман. Согласно этой теории социальные ситуации взаимодействия подобны драматическим спектаклям, в которых актеры стремятся создавать и поддерживать благоприятные впечатления. Люди ведут себя подобно актерам на сцене, используя “декорации” и “окружающую обстановку” для создания определенного впечатления о себе и други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терактивная сторона (взаимодействие) характериз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стностью принятых управленческих решени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тким распределением обязанностей среди сотрудников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лым разрешением 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цепц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ерцепц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процесс восприятия, способствующий взаимопониманию участников об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осознает себя через другого человека посредством определенных механизмов межличностной перцепции. К ним относя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и понимание людьми друг друга ( идентификация, эмпатия, аттракц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самого себя в процессе общения (рефлекс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нозирование поведения партнера по общению (каузальная атрибуция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Коммуникативная сторон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обмен информацией) характеризуетс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м устанавливать психологический контакт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том особенностей коммуникативного воздейств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ргументированностью, логичностью и адекватностью ситуации общен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ффективностью использования вербальных и невербальных средств общ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ложный многоплановый процесс установления и развития контактов между людьми, порождаемый потребностями совместной деятельности и включающий в себя обмен информацией, выработку единой стратегии взаимодействия, восприятие и понимание другого челове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ение – это сложный процесс, в который входят три составляющие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Коммуника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щения (обмен информацией между людь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нтерак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рганизация взаимодействия между индивида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ерцеп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процесс восприятия друг друга партнерами по общению и установление взаимопонима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ербальная коммуникац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щения осуществляется посредством речи. Под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ечью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нимается естественный звуковой язык, т.е. система фонетических знаков, включающих два принципа – лексический и синтаксический. Речь является универсальным средством коммуникации, так как при передаче информации с ее помощью передается смысл сообщения. Благодаря речи осуществляется кодирование и декодирование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6080" y="774360"/>
            <a:ext cx="7760520" cy="113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8459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изуальные виды общения – это жесты, мимика, позы, кожные реакции, пространственно-временная организация общения, контакт глаз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устическая система, включающая в себя следующие аспекты: паралингвистическую систему (тембр голоса, диапазон, тональность) и экстралингвистическую систему (это включение в речь пауз и других средств, таких как покашливание, смех, плач и др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тильная система (такесика) ( прикосновения, пожатие руки, объятия, поцелуи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льфакторная система (приятные и неприятные запахи окружающей среды; искусственные и естественные запахи человека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взаимодействия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упповая интеграция (совместная трудовая деятельность, кооперация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куренция (соперничество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лик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, для того чтобы общение было эффективны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психологических позиций социальных субъектов независимо от их социального статус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в признании активной коммуникативной роли друг друг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в психологической взаимоподдержк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бмен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360" y="2362320"/>
            <a:ext cx="82087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глас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теории обмен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Дж.Хоманс), каждый из нас стремится уравновесить вознаграждение и затраты, чтобы сделать наше взаимодействие устойчивым и приятным, при этом в основе лежит свой прежний опыт. В основе теории лежат четыре принцип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ем больше вознаграждается определенный тип поведения, тем чаще он будет повторятьс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сли вознаграждение за определенный тип поведения зависит от условий, то человек будет стремиться их воссоздать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сли вознаграждение велико, то человек готов затратить больше усилий для его получения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гда потребности человека близки к насыщению, он в меньшей мере готов прилагать усилия для их удовлетвор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мволический интеракционизм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торы Дж. Мид и Г.Блумер. Согласно этой теории поведение людей по отношению друг к другу и к предметам окружающего мира определяется значениями, которые они им придают. Дж. Мид выделил два типа действи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начимый жест (автоматический рефлекс типа моргания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чимый жест (связан с осмыслением поступков и намерений другого человека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9:33Z</dcterms:created>
  <dc:creator>Liza</dc:creator>
  <dc:description/>
  <dc:language>en-US</dc:language>
  <cp:lastModifiedBy>Сергей Ушаков</cp:lastModifiedBy>
  <dcterms:modified xsi:type="dcterms:W3CDTF">2020-03-31T06:50:53Z</dcterms:modified>
  <cp:revision>3</cp:revision>
  <dc:subject/>
  <dc:title>Общение и коммуникация</dc:title>
</cp:coreProperties>
</file>