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2B3DC-F664-4BAE-9CDC-B7D32C6E5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FA5E7-21D9-4DC2-ACE3-09BA93853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FBC5E-123C-47DA-B498-AA96157F8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AA760-C843-43D1-88D6-B89AD8386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8A5FE-B077-48A2-9800-CD65BD03A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0D80B-0132-4189-897E-93527B952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1C3F1-7642-4916-9E39-CB0CD81F8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0E9B6-F1D8-41E8-AA8A-28DCDD0B5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CBE8D-5AD9-49A7-8E19-C877225A4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E0A9D-0B80-4F0F-B6E2-7052C2E5B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ABD5A-A587-4546-86A7-2A5F5C6AD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8A9F8-6A6C-4027-ABB1-4073F67E7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F7CDC-8D07-4FE6-9867-37E5C0E6C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0AEE5-3AE8-44A2-AE16-7EEE5B658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48FE1-DA49-4543-AC5B-D0B2A729E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63782-F26C-4D76-B730-77B97C931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0348E-9FD5-433F-BB2B-1E1E6B8E0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B5660-BD6B-4427-BAC3-675ED91D1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10126-CE40-43EC-9F24-EAFFB71F9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1B61B-6C5A-4FFD-99D1-4B5BAFD74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39E05-1B1C-4019-AC04-368771236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40C83-2488-4760-8964-2FB238B63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D4E35-7AE0-418B-8E36-A19BA3F47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CD45C-1CE2-4D43-93DE-B7DEDFEE5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08F8E-E38A-488D-BE18-44EE55F1F6D3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0EB07-0C6E-46F9-83C5-3D4B7D9FC0F0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Общение и коммуникация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66"/>
                </a:solidFill>
                <a:latin typeface="Arial"/>
              </a:rPr>
              <a:t>Основные теории общения. Интерактивная, коммуникативная, перцептивная стороны общения. Общение и коммуникация: сходства и различия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теория управления впечатлениями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Автор Э.Гофман. Согласно этой теории социальные ситуации взаимодействия подобны драматическим спектаклям, в которых актеры стремятся создавать и поддерживать благоприятные впечатления. Люди ведут себя подобно актерам на сцене, используя “декорации” и “окружающую обстановку” для создания определенного впечатления о себе и других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Интерактивная сторона (взаимодействие) характеризуется: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уместностью принятых управленческих решений;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четким распределением обязанностей среди сотрудников;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умелым разрешением конфликтов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Перцепция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Перцепция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– процесс восприятия, способствующий взаимопониманию участников общения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Человек осознает себя через другого человека посредством определенных механизмов межличностной перцепции. К ним относятся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познание и понимание людьми друг друга ( идентификация, эмпатия, аттракция)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познание самого себя в процессе общения (рефлексия)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прогнозирование поведения партнера по общению (каузальная атрибуция)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66"/>
                </a:solidFill>
                <a:latin typeface="Arial"/>
              </a:rPr>
              <a:t>Коммуникативная сторона</a:t>
            </a: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 (обмен информацией) характеризуется: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9819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умением устанавливать психологический контакт;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учетом особенностей коммуникативного воздействия;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аргументированностью, логичностью и адекватностью ситуации общения;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эффективностью использования вербальных и невербальных средств общения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Общение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Общение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– сложный многоплановый процесс установления и развития контактов между людьми, порождаемый потребностями совместной деятельности и включающий в себя обмен информацией, выработку единой стратегии взаимодействия, восприятие и понимание другого человека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Общение – это сложный процесс, в который входят три составляющие: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3366"/>
                </a:solidFill>
                <a:latin typeface="Arial"/>
              </a:rPr>
              <a:t>Коммуникативная сторона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общения (обмен информацией между людьми);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3366"/>
                </a:solidFill>
                <a:latin typeface="Arial"/>
              </a:rPr>
              <a:t>Интерактивная сторона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(организация взаимодействия между индивидами);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3366"/>
                </a:solidFill>
                <a:latin typeface="Arial"/>
              </a:rPr>
              <a:t>Перцептивная сторона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(процесс восприятия друг друга партнерами по общению и установление взаимопонимания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6666"/>
                </a:solidFill>
                <a:latin typeface="Arial"/>
              </a:rPr>
              <a:t>Вербальная коммуникация</a:t>
            </a: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66"/>
                </a:solidFill>
                <a:latin typeface="Arial"/>
              </a:rPr>
              <a:t>Вербальная коммуникация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общения осуществляется посредством речи. Под </a:t>
            </a:r>
            <a:r>
              <a:rPr b="0" i="1" lang="ru-RU" sz="2400" spc="-1" strike="noStrike">
                <a:solidFill>
                  <a:srgbClr val="003366"/>
                </a:solidFill>
                <a:latin typeface="Arial"/>
              </a:rPr>
              <a:t>речью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понимается естественный звуковой язык, т.е. система фонетических знаков, включающих два принципа – лексический и синтаксический. Речь является универсальным средством коммуникации, так как при передаче информации с ее помощью передается смысл сообщения. Благодаря речи осуществляется кодирование и декодирование информации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766080" y="774360"/>
            <a:ext cx="7760520" cy="1132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6666"/>
                </a:solidFill>
                <a:latin typeface="Arial"/>
              </a:rPr>
              <a:t>Невербальная коммуникация</a:t>
            </a: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: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684000" y="2276640"/>
            <a:ext cx="8459640" cy="458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Визуальные виды общения – это жесты, мимика, позы, кожные реакции, пространственно-временная организация общения, контакт глазами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Акустическая система, включающая в себя следующие аспекты: паралингвистическую систему (тембр голоса, диапазон, тональность) и экстралингвистическую систему (это включение в речь пауз и других средств, таких как покашливание, смех, плач и др.)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Тактильная система (такесика) ( прикосновения, пожатие руки, объятия, поцелуи)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Ольфакторная система (приятные и неприятные запахи окружающей среды; искусственные и естественные запахи человека)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виды взаимодействия: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групповая интеграция (совместная трудовая деятельность, кооперация),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конкуренция (соперничество),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конфликт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Условия, для того чтобы общение было эффективным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равенство психологических позиций социальных субъектов независимо от их социального статуса;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равенство в признании активной коммуникативной роли друг друга;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равенство в психологической взаимоподдержке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теория обмена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684360" y="2362320"/>
            <a:ext cx="8208720" cy="437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Согласно </a:t>
            </a:r>
            <a:r>
              <a:rPr b="0" i="1" lang="ru-RU" sz="2000" spc="-1" strike="noStrike">
                <a:solidFill>
                  <a:srgbClr val="003366"/>
                </a:solidFill>
                <a:latin typeface="Arial"/>
              </a:rPr>
              <a:t>теории обмена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(Дж.Хоманс), каждый из нас стремится уравновесить вознаграждение и затраты, чтобы сделать наше взаимодействие устойчивым и приятным, при этом в основе лежит свой прежний опыт. В основе теории лежат четыре принципа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чем больше вознаграждается определенный тип поведения, тем чаще он будет повторяться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если вознаграждение за определенный тип поведения зависит от условий, то человек будет стремиться их воссоздать;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если вознаграждение велико, то человек готов затратить больше усилий для его получения;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когда потребности человека близки к насыщению, он в меньшей мере готов прилагать усилия для их удовлетворения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символический интеракционизм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30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Авторы Дж. Мид и Г.Блумер. Согласно этой теории поведение людей по отношению друг к другу и к предметам окружающего мира определяется значениями, которые они им придают. Дж. Мид выделил два типа действий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незначимый жест (автоматический рефлекс типа моргания)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значимый жест (связан с осмыслением поступков и намерений другого человека)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1T13:59:33Z</dcterms:created>
  <dc:creator>Liza</dc:creator>
  <dc:description/>
  <dc:language>en-US</dc:language>
  <cp:lastModifiedBy>Сергей Ушаков</cp:lastModifiedBy>
  <dcterms:modified xsi:type="dcterms:W3CDTF">2020-03-31T06:50:53Z</dcterms:modified>
  <cp:revision>3</cp:revision>
  <dc:subject/>
  <dc:title>Общение и коммуникация</dc:title>
</cp:coreProperties>
</file>