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B21-E42D-4483-A9F5-4E81DDA9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D32-10DD-4B6A-BE36-66DD001C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F92-9813-4699-9EF6-7A9D8D5C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423-B6E8-4B78-85F2-460FA85B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E58F-CE5F-4E5E-ACEA-47BE29AF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129-2B2D-4EDA-A5E3-5203FD80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12EA-DAC8-446F-BA33-2C4D75EF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4C0-9899-449B-B478-A99D274F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2A42-37FC-497B-ADEE-65C7E483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7A5-2523-40C4-B32B-F88D96A9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729-ED13-4772-BEBF-321D1A89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C1EC-911D-48AB-B716-EE34C4A3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4D80-ED2E-4DB7-9AC7-A949A92043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Администратор\Desktop\тишина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1042920" y="2651040"/>
            <a:ext cx="7558200" cy="1878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Окружающий мир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26920" y="1844640"/>
            <a:ext cx="7777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дания по ссылке: Выполнить задания:»Проверим себя» 52 стр.по рабочей тетра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 учебнике тему: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учит экономика?»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ыполнить задания 1,2:»Проверим себя» 52 стр.по рабочей тетра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 упр. в рабочей тетради-52 с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тографировать выполненное упражнение и прислать фот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выполнения:15.04.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4-01T17:04:00Z</dcterms:modified>
  <cp:revision>33</cp:revision>
  <dc:subject/>
  <dc:title>Презентация PowerPoint</dc:title>
</cp:coreProperties>
</file>