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CE9-0902-4519-A299-89F2939C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C0D-01DF-4356-BC78-91D0D28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6B8-CF6D-4E1C-9AA4-AEF56627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B6E-5680-49F3-80F5-CDBBF9D1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051-5AFD-4545-8DE5-929B541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CC1-33B2-44F9-B20B-6F80F2B4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CBF-3A22-4710-90C7-45E2F2B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CE2-BB09-4278-8D57-A3201BDF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23A-A290-480D-9450-864ED0E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707-2739-4095-91C8-01E34E5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69F-874F-46CD-88E6-A762599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34E-10C9-4AEA-B4E1-ED690AF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DE5-91C3-44A8-9422-EF6E88F85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1042920" y="2651040"/>
            <a:ext cx="7558200" cy="187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ния по ссылке: Выполнить задания:»Проверим себя» 52 стр.по рабочей тетр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тему: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т экономика?»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полнить задания 1,2:»Проверим себя» 52 стр.по рабочей тетр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 упр. в рабочей тетради-52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04:00Z</dcterms:modified>
  <cp:revision>33</cp:revision>
  <dc:subject/>
  <dc:title>Презентация PowerPoint</dc:title>
</cp:coreProperties>
</file>