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BD11-E575-4E2F-A4DF-A128CD48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A76E-BECB-44B9-8B62-164FCDFC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95AD-FAB3-4940-8CAA-052968A0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6E6C-2FA7-47AC-8786-91CE29FF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B9DF-CFED-43BD-9A2E-2042C17F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9736-3C6B-44E5-AC98-05267CB3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1D36-ABBF-46B4-9A80-2DB42695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1B12-552F-426E-8AF3-97F71376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7E90-9FF2-41BB-A960-316DDA0C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7820-DF8F-4044-8907-6805B5B8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7D1C-82C5-4F40-9C15-2061A1D9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F847-4E4A-4DBB-A486-D1CE3C20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A492-BB14-4D4E-8BE2-AD8D724C2AE3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42960" y="307188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1f497d"/>
                </a:solidFill>
                <a:latin typeface="Calibri"/>
              </a:rPr>
              <a:t>Тема: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 u="sng">
                <a:solidFill>
                  <a:srgbClr val="1f497d"/>
                </a:solidFill>
                <a:uFillTx/>
                <a:latin typeface="Calibri"/>
              </a:rPr>
              <a:t>Имя прилагательное как часть речи. Правописание   гласных  в  падежных  окончаниях  имен прилагательных.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642960" y="50004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Выполните морфемный разбор слов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2143080" y="2357280"/>
            <a:ext cx="44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Garamond"/>
              </a:rPr>
              <a:t>весеннего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3000240" y="3429000"/>
            <a:ext cx="285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Garamond"/>
              </a:rPr>
              <a:t>пушистым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2643120" y="4572000"/>
            <a:ext cx="371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Garamond"/>
              </a:rPr>
              <a:t>радостное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57120" y="0"/>
            <a:ext cx="85010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 u="sng">
                <a:solidFill>
                  <a:srgbClr val="ff0000"/>
                </a:solidFill>
                <a:uFillTx/>
                <a:latin typeface="Century"/>
              </a:rPr>
              <a:t>Решите тест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00"/>
                </a:solidFill>
                <a:uFillTx/>
                <a:latin typeface="Century"/>
              </a:rPr>
              <a:t>(ответы запишите в тетрадь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Тест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1.Запиши слова и подчеркни прилагательны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едленный, белеть, верное, весна, утренняя, аромат, быстро, холодное, вода, теплый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2. Запиши,  вставляя пропущенные буквы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 чист..му песку                                                                 в тих..ю рощу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реди высок..й травы                                                        о нежн..м ландыш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дальн..ю дорогу                                                              апрельск..м ветерко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3. Запиши, согласуя с существительными прилагательные, данные в скобка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 (чистый) ______________ песку               по (ясный) _____________ небу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(сладкий) _______________ сне                 о (дивный) ____________ пени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(весенний) ____________ пору                о (туманный) ___________ вечер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40"/>
                            </p:stCondLst>
                            <p:childTnLst>
                              <p:par>
                                <p:cTn id="4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"/>
                            </p:stCondLst>
                            <p:childTnLst>
                              <p:par>
                                <p:cTn id="5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720"/>
                            </p:stCondLst>
                            <p:childTnLst>
                              <p:par>
                                <p:cTn id="5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720"/>
                            </p:stCondLst>
                            <p:childTnLst>
                              <p:par>
                                <p:cTn id="5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6080"/>
                            </p:stCondLst>
                            <p:childTnLst>
                              <p:par>
                                <p:cTn id="5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16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8520"/>
                            </p:stCondLst>
                            <p:childTnLst>
                              <p:par>
                                <p:cTn id="5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9920"/>
                            </p:stCondLst>
                            <p:childTnLst>
                              <p:par>
                                <p:cTn id="5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2480"/>
                            </p:stCondLst>
                            <p:childTnLst>
                              <p:par>
                                <p:cTn id="5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4720"/>
                            </p:stCondLst>
                            <p:childTnLst>
                              <p:par>
                                <p:cTn id="5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6920"/>
                            </p:stCondLst>
                            <p:childTnLst>
                              <p:par>
                                <p:cTn id="5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3"/>
          <p:cNvSpPr/>
          <p:nvPr/>
        </p:nvSpPr>
        <p:spPr>
          <a:xfrm>
            <a:off x="1571760" y="714240"/>
            <a:ext cx="621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571680" y="1785960"/>
            <a:ext cx="8286480" cy="43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1)  Изучить параграфы 101,102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2)  Упражнение 584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3) Выучить правила  на стр. 85, 86, 89 учебника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Письменно выполнить   тест, упражнение  и отправить фото  всех  записей в тетради  на электронную почту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учителя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Синтаксическая пятиминутка 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(запишите предложение </a:t>
            </a: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и сделайте синтаксический анализ)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После полудня небо затянулось низкими облаками, и задул по седым ивам ровный и теплый ветер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знакомьтесь:</a:t>
            </a:r>
            <a:br>
              <a:rPr sz="3600"/>
            </a:b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Что же такое прилагательно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лагательное – это часть речи, которая обозначает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ризнак предме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лагательное отвечает на вопросы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какой? чей?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Роль прилагательного в предложен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71680" y="1071720"/>
            <a:ext cx="8229600" cy="24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лагательное в предложении может выполнять фун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пределения,  сказуемого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500040" y="350028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Морфологические признаки прилагательного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" y="4214880"/>
            <a:ext cx="822960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Чтобы определить признаки прилагательного, просклоняем словосочетания 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547560" indent="-41112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записать в тетради):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547560" indent="-41112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теплый хлеб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547560" indent="-41112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свежее молоко.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9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ить устн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изменились прилагательны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чего зависит окончание прилагательны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ите род и число существите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гут ли существительные и прилагательные быть разного рода и числ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но ли определить род у прилагательных во множественном чис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850"/>
                            </p:stCondLst>
                            <p:childTnLst>
                              <p:par>
                                <p:cTn id="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Имя прилагательное – часть речи, которая обозначает признак предмета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Отвечает на вопросы какой? чей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Изменяется по падежам, числам, в единственном числе – по родам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В предложении может быть определением, сказуемым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7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6840" y="285480"/>
            <a:ext cx="82580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тветить на вопросы устн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чего же нам нужны прилагательны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ие признаки мы можем описать с помощью прилагательных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лагательные говорят о себе та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 существительными подча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е жизнь, а просто ску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и цвета нет у них без нас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и запаха, ни зву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о если нас к ним приложить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Им веселее станет жить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500040" y="4500720"/>
            <a:ext cx="82915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склоняйте  словосочетания,       выделяя окончания, запишите в тетрадь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547560" indent="-411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547560" indent="-411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ясная погода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547560" indent="-411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холодный ден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547560" indent="-411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глубокое озеро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320"/>
                            </p:stCondLst>
                            <p:childTnLst>
                              <p:par>
                                <p:cTn id="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240"/>
                            </p:stCondLst>
                            <p:childTnLst>
                              <p:par>
                                <p:cTn id="1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240"/>
                            </p:stCondLst>
                            <p:childTnLst>
                              <p:par>
                                <p:cTn id="2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240"/>
                            </p:stCondLst>
                            <p:childTnLst>
                              <p:par>
                                <p:cTn id="2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9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240"/>
                            </p:stCondLst>
                            <p:childTnLst>
                              <p:par>
                                <p:cTn id="2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240"/>
                            </p:stCondLst>
                            <p:childTnLst>
                              <p:par>
                                <p:cTn id="2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9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240"/>
                            </p:stCondLst>
                            <p:childTnLst>
                              <p:par>
                                <p:cTn id="2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вер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85840" y="928800"/>
          <a:ext cx="8472240" cy="58687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300040"/>
              </a:tblGrid>
              <a:tr h="96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деж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сная по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лодный д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убокое озе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енительный паде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ьный паде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ельный паде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нительный паде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орительный паде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ложный паде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6" name="TextBox 4"/>
          <p:cNvSpPr/>
          <p:nvPr/>
        </p:nvSpPr>
        <p:spPr>
          <a:xfrm>
            <a:off x="2643120" y="207180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ясная  погод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2745000" y="1785960"/>
            <a:ext cx="82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8000"/>
                </a:solidFill>
                <a:latin typeface="Garamond"/>
              </a:rPr>
              <a:t>□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2500200" y="292896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ясной  погоды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2673720" y="2571840"/>
            <a:ext cx="82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8000"/>
                </a:solidFill>
                <a:latin typeface="Garamond"/>
              </a:rPr>
              <a:t>□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2500200" y="385776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ясной  погод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2786040" y="3500280"/>
            <a:ext cx="35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8000"/>
                </a:solidFill>
                <a:latin typeface="Garamond"/>
              </a:rPr>
              <a:t>□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2428920" y="471492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ясную  погоду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Управляющая кнопка: настраиваемая 17"/>
          <p:cNvSpPr/>
          <p:nvPr/>
        </p:nvSpPr>
        <p:spPr>
          <a:xfrm>
            <a:off x="2786040" y="4786200"/>
            <a:ext cx="357120" cy="214560"/>
          </a:xfrm>
          <a:custGeom>
            <a:avLst/>
            <a:gdLst>
              <a:gd name="textAreaLeft" fmla="*/ 13680 w 357120"/>
              <a:gd name="textAreaRight" fmla="*/ 343440 w 35712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35928" h="21600">
                <a:moveTo>
                  <a:pt x="0" y="0"/>
                </a:moveTo>
                <a:lnTo>
                  <a:pt x="35928" y="0"/>
                </a:lnTo>
                <a:lnTo>
                  <a:pt x="35928" y="21600"/>
                </a:lnTo>
                <a:lnTo>
                  <a:pt x="0" y="21600"/>
                </a:lnTo>
                <a:close/>
              </a:path>
              <a:path fill="lightenLess" w="35928" h="21600">
                <a:moveTo>
                  <a:pt x="0" y="0"/>
                </a:moveTo>
                <a:lnTo>
                  <a:pt x="35928" y="0"/>
                </a:lnTo>
                <a:lnTo>
                  <a:pt x="34528" y="1400"/>
                </a:lnTo>
                <a:lnTo>
                  <a:pt x="1400" y="1400"/>
                </a:lnTo>
                <a:close/>
              </a:path>
              <a:path fill="darken" w="35928" h="21600">
                <a:moveTo>
                  <a:pt x="35928" y="0"/>
                </a:moveTo>
                <a:lnTo>
                  <a:pt x="35928" y="21600"/>
                </a:lnTo>
                <a:lnTo>
                  <a:pt x="34528" y="20200"/>
                </a:lnTo>
                <a:lnTo>
                  <a:pt x="34528" y="1400"/>
                </a:lnTo>
                <a:close/>
              </a:path>
              <a:path fill="darkenLess" w="35928" h="21600">
                <a:moveTo>
                  <a:pt x="35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28" y="20200"/>
                </a:lnTo>
                <a:close/>
              </a:path>
              <a:path fill="lighten" w="35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TextBox 18"/>
          <p:cNvSpPr/>
          <p:nvPr/>
        </p:nvSpPr>
        <p:spPr>
          <a:xfrm>
            <a:off x="2357280" y="557208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ясной  погодо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Управляющая кнопка: настраиваемая 19"/>
          <p:cNvSpPr/>
          <p:nvPr/>
        </p:nvSpPr>
        <p:spPr>
          <a:xfrm>
            <a:off x="2786040" y="571500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TextBox 20"/>
          <p:cNvSpPr/>
          <p:nvPr/>
        </p:nvSpPr>
        <p:spPr>
          <a:xfrm>
            <a:off x="2357280" y="614376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о ясной  погод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Управляющая кнопка: настраиваемая 22"/>
          <p:cNvSpPr/>
          <p:nvPr/>
        </p:nvSpPr>
        <p:spPr>
          <a:xfrm>
            <a:off x="2928960" y="621504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TextBox 23"/>
          <p:cNvSpPr/>
          <p:nvPr/>
        </p:nvSpPr>
        <p:spPr>
          <a:xfrm>
            <a:off x="4500720" y="2071800"/>
            <a:ext cx="19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холодный  день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Управляющая кнопка: настраиваемая 24"/>
          <p:cNvSpPr/>
          <p:nvPr/>
        </p:nvSpPr>
        <p:spPr>
          <a:xfrm>
            <a:off x="5286240" y="2071800"/>
            <a:ext cx="285840" cy="28548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TextBox 25"/>
          <p:cNvSpPr/>
          <p:nvPr/>
        </p:nvSpPr>
        <p:spPr>
          <a:xfrm flipH="1">
            <a:off x="4500000" y="2857680"/>
            <a:ext cx="19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холодного  дня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Управляющая кнопка: настраиваемая 26"/>
          <p:cNvSpPr/>
          <p:nvPr/>
        </p:nvSpPr>
        <p:spPr>
          <a:xfrm>
            <a:off x="5286240" y="2928960"/>
            <a:ext cx="357480" cy="214200"/>
          </a:xfrm>
          <a:custGeom>
            <a:avLst/>
            <a:gdLst>
              <a:gd name="textAreaLeft" fmla="*/ 13680 w 357480"/>
              <a:gd name="textAreaRight" fmla="*/ 343800 w 35748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TextBox 27"/>
          <p:cNvSpPr/>
          <p:nvPr/>
        </p:nvSpPr>
        <p:spPr>
          <a:xfrm>
            <a:off x="4429080" y="378612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холодному  дню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Управляющая кнопка: настраиваемая 28"/>
          <p:cNvSpPr/>
          <p:nvPr/>
        </p:nvSpPr>
        <p:spPr>
          <a:xfrm>
            <a:off x="5214960" y="3929040"/>
            <a:ext cx="428760" cy="214200"/>
          </a:xfrm>
          <a:custGeom>
            <a:avLst/>
            <a:gdLst>
              <a:gd name="textAreaLeft" fmla="*/ 13680 w 428760"/>
              <a:gd name="textAreaRight" fmla="*/ 415080 w 42876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TextBox 29"/>
          <p:cNvSpPr/>
          <p:nvPr/>
        </p:nvSpPr>
        <p:spPr>
          <a:xfrm>
            <a:off x="4429080" y="471492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холодный  день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Управляющая кнопка: настраиваемая 30"/>
          <p:cNvSpPr/>
          <p:nvPr/>
        </p:nvSpPr>
        <p:spPr>
          <a:xfrm>
            <a:off x="5214960" y="485784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TextBox 31"/>
          <p:cNvSpPr/>
          <p:nvPr/>
        </p:nvSpPr>
        <p:spPr>
          <a:xfrm>
            <a:off x="4429080" y="557208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холодным   днем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Управляющая кнопка: настраиваемая 32"/>
          <p:cNvSpPr/>
          <p:nvPr/>
        </p:nvSpPr>
        <p:spPr>
          <a:xfrm>
            <a:off x="5214960" y="5643720"/>
            <a:ext cx="357120" cy="214200"/>
          </a:xfrm>
          <a:custGeom>
            <a:avLst/>
            <a:gdLst>
              <a:gd name="textAreaLeft" fmla="*/ 13680 w 357120"/>
              <a:gd name="textAreaRight" fmla="*/ 343440 w 35712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TextBox 33"/>
          <p:cNvSpPr/>
          <p:nvPr/>
        </p:nvSpPr>
        <p:spPr>
          <a:xfrm>
            <a:off x="4500720" y="6143760"/>
            <a:ext cx="19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о холодном  дн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Управляющая кнопка: настраиваемая 34"/>
          <p:cNvSpPr/>
          <p:nvPr/>
        </p:nvSpPr>
        <p:spPr>
          <a:xfrm>
            <a:off x="5429160" y="6215040"/>
            <a:ext cx="357120" cy="214200"/>
          </a:xfrm>
          <a:custGeom>
            <a:avLst/>
            <a:gdLst>
              <a:gd name="textAreaLeft" fmla="*/ 13680 w 357120"/>
              <a:gd name="textAreaRight" fmla="*/ 343440 w 35712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TextBox 35"/>
          <p:cNvSpPr/>
          <p:nvPr/>
        </p:nvSpPr>
        <p:spPr>
          <a:xfrm>
            <a:off x="6572160" y="2071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глубокое  озеро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Управляющая кнопка: настраиваемая 36"/>
          <p:cNvSpPr/>
          <p:nvPr/>
        </p:nvSpPr>
        <p:spPr>
          <a:xfrm>
            <a:off x="7286760" y="2143080"/>
            <a:ext cx="285480" cy="285840"/>
          </a:xfrm>
          <a:custGeom>
            <a:avLst/>
            <a:gdLst>
              <a:gd name="textAreaLeft" fmla="*/ 18360 w 285480"/>
              <a:gd name="textAreaRight" fmla="*/ 267120 w 2854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TextBox 37"/>
          <p:cNvSpPr/>
          <p:nvPr/>
        </p:nvSpPr>
        <p:spPr>
          <a:xfrm>
            <a:off x="6500880" y="28576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глубокого  озер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Управляющая кнопка: настраиваемая 38"/>
          <p:cNvSpPr/>
          <p:nvPr/>
        </p:nvSpPr>
        <p:spPr>
          <a:xfrm>
            <a:off x="7215120" y="2928960"/>
            <a:ext cx="428760" cy="214200"/>
          </a:xfrm>
          <a:custGeom>
            <a:avLst/>
            <a:gdLst>
              <a:gd name="textAreaLeft" fmla="*/ 13680 w 428760"/>
              <a:gd name="textAreaRight" fmla="*/ 415080 w 42876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TextBox 39"/>
          <p:cNvSpPr/>
          <p:nvPr/>
        </p:nvSpPr>
        <p:spPr>
          <a:xfrm>
            <a:off x="6572160" y="385776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глубокому  озеру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Управляющая кнопка: настраиваемая 40"/>
          <p:cNvSpPr/>
          <p:nvPr/>
        </p:nvSpPr>
        <p:spPr>
          <a:xfrm>
            <a:off x="7286760" y="3929040"/>
            <a:ext cx="428400" cy="214200"/>
          </a:xfrm>
          <a:custGeom>
            <a:avLst/>
            <a:gdLst>
              <a:gd name="textAreaLeft" fmla="*/ 13680 w 428400"/>
              <a:gd name="textAreaRight" fmla="*/ 414720 w 42840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TextBox 41"/>
          <p:cNvSpPr/>
          <p:nvPr/>
        </p:nvSpPr>
        <p:spPr>
          <a:xfrm>
            <a:off x="6572160" y="47862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глубокое  озеро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Управляющая кнопка: настраиваемая 42"/>
          <p:cNvSpPr/>
          <p:nvPr/>
        </p:nvSpPr>
        <p:spPr>
          <a:xfrm>
            <a:off x="7286760" y="4929120"/>
            <a:ext cx="285480" cy="21456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28728" h="21600">
                <a:moveTo>
                  <a:pt x="0" y="0"/>
                </a:moveTo>
                <a:lnTo>
                  <a:pt x="28728" y="0"/>
                </a:lnTo>
                <a:lnTo>
                  <a:pt x="28728" y="21600"/>
                </a:lnTo>
                <a:lnTo>
                  <a:pt x="0" y="21600"/>
                </a:lnTo>
                <a:close/>
              </a:path>
              <a:path fill="lightenLess" w="28728" h="21600">
                <a:moveTo>
                  <a:pt x="0" y="0"/>
                </a:moveTo>
                <a:lnTo>
                  <a:pt x="28728" y="0"/>
                </a:lnTo>
                <a:lnTo>
                  <a:pt x="27328" y="1400"/>
                </a:lnTo>
                <a:lnTo>
                  <a:pt x="1400" y="1400"/>
                </a:lnTo>
                <a:close/>
              </a:path>
              <a:path fill="darken" w="28728" h="21600">
                <a:moveTo>
                  <a:pt x="28728" y="0"/>
                </a:moveTo>
                <a:lnTo>
                  <a:pt x="28728" y="21600"/>
                </a:lnTo>
                <a:lnTo>
                  <a:pt x="27328" y="20200"/>
                </a:lnTo>
                <a:lnTo>
                  <a:pt x="27328" y="1400"/>
                </a:lnTo>
                <a:close/>
              </a:path>
              <a:path fill="darkenLess" w="28728" h="21600">
                <a:moveTo>
                  <a:pt x="28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28" y="20200"/>
                </a:lnTo>
                <a:close/>
              </a:path>
              <a:path fill="lighten" w="28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TextBox 43"/>
          <p:cNvSpPr/>
          <p:nvPr/>
        </p:nvSpPr>
        <p:spPr>
          <a:xfrm>
            <a:off x="6500880" y="550080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глубоким  озером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Управляющая кнопка: настраиваемая 44"/>
          <p:cNvSpPr/>
          <p:nvPr/>
        </p:nvSpPr>
        <p:spPr>
          <a:xfrm>
            <a:off x="7286760" y="5572080"/>
            <a:ext cx="285480" cy="21420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TextBox 45"/>
          <p:cNvSpPr/>
          <p:nvPr/>
        </p:nvSpPr>
        <p:spPr>
          <a:xfrm>
            <a:off x="6572160" y="614376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о глубоком  озер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Управляющая кнопка: настраиваемая 47"/>
          <p:cNvSpPr/>
          <p:nvPr/>
        </p:nvSpPr>
        <p:spPr>
          <a:xfrm>
            <a:off x="7500960" y="621504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62164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зучить:     </a:t>
            </a:r>
            <a:r>
              <a:rPr b="0" lang="ru-RU" sz="2900" spc="-1" strike="noStrike">
                <a:solidFill>
                  <a:srgbClr val="ffff00"/>
                </a:solidFill>
                <a:latin typeface="Calibri"/>
              </a:rPr>
              <a:t>Изменение по падежам имен прилагательных в единственном числе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14200" y="1214280"/>
          <a:ext cx="8786880" cy="5378760"/>
        </p:xfrm>
        <a:graphic>
          <a:graphicData uri="http://schemas.openxmlformats.org/drawingml/2006/table">
            <a:tbl>
              <a:tblPr/>
              <a:tblGrid>
                <a:gridCol w="1800360"/>
                <a:gridCol w="2414520"/>
                <a:gridCol w="2374920"/>
                <a:gridCol w="21970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деж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ужско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ни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Женски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енительный паде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ьш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уютн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ы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й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сн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убок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о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зе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е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н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я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л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ая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я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ьный паде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ьш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го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ютн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ого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го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сн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го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глубок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ого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з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го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н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мил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о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й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ельный паде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ьш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му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уютн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ому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му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сн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му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убок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ому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ер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му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н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мил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о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а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й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нительный паде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ьш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уютн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ы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й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сн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глубок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о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е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е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н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ю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мил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ую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тра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ю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орительный паде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ьш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уютн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ы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ом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м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сн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ым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убок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и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зер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им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н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л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о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тра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й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ложный паде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больш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м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ютн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ом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как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м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лесн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глубок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о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зе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как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м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родн</a:t>
                      </a: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л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о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а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й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8:22:35Z</dcterms:created>
  <dc:creator>Алексей</dc:creator>
  <dc:description/>
  <dc:language>en-US</dc:language>
  <cp:lastModifiedBy>Админ</cp:lastModifiedBy>
  <dcterms:modified xsi:type="dcterms:W3CDTF">2020-04-01T19:39:05Z</dcterms:modified>
  <cp:revision>25</cp:revision>
  <dc:subject/>
  <dc:title>Имя прилагательное как часть речи.</dc:title>
</cp:coreProperties>
</file>