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5CB-144D-46BC-ADE0-B473D68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821-60AA-4AD7-98BE-D6989C0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DCF-6F16-4056-B807-C3E0395C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515-3E5E-4CCE-B695-58B1D01B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AB6-3F22-4F62-A788-AB590C79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24C-09E2-4ED0-9CD8-F8B1DD1F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4C2-26BF-41B7-AD96-09436243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D6C-1E6E-44CC-810C-4A65A208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207-A54A-4555-B4BA-D1F5010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321-5388-4C9C-BC1F-C0FFE9C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7FC-4480-42E8-9E94-7927468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BB5-7FE1-4F2B-ABA0-BE78F93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803-93EE-433A-BB60-E7FDB7388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teachers/hometasks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974880" y="2651040"/>
            <a:ext cx="7688160" cy="187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точки-задания по учи.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Роль местоимений в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Выучить правило на 92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ь пр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8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13:48Z</dcterms:modified>
  <cp:revision>32</cp:revision>
  <dc:subject/>
  <dc:title>Презентация PowerPoint</dc:title>
</cp:coreProperties>
</file>