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5BF-E212-44B7-AAE8-AF8E1186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013-3C87-4B44-A2D0-2B3EA087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592-59E8-4FBE-9861-74B192EB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EC5-8705-4A9A-A597-F789D119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A98-B5A9-4BF7-ADCF-FD554C58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AFE-F059-4DDF-8E3C-B6AFFC5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D1C-056F-49BA-9BC9-199CACDC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8C0-C250-42BA-A398-F89A52B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30D-173B-4DA2-B046-C951A457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D64-E11D-4894-8E11-F1D532D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80B-AC22-4893-B578-C6811A4A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C34-F9FB-4B1B-958F-41B1060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824C-EDAE-4BFE-81FD-41E04FF01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chi.ru/teachers/hometasks" TargetMode="External"/><Relationship Id="rId2" Type="http://schemas.openxmlformats.org/officeDocument/2006/relationships/hyperlink" Target="https://uchi.ru/teachers/hometasks" TargetMode="External"/><Relationship Id="rId3" Type="http://schemas.openxmlformats.org/officeDocument/2006/relationships/hyperlink" Target="https://uchi.ru/teachers/hometasks" TargetMode="External"/><Relationship Id="rId4" Type="http://schemas.openxmlformats.org/officeDocument/2006/relationships/hyperlink" Target="https://uchi.ru/teachers/hometasks" TargetMode="External"/><Relationship Id="rId5" Type="http://schemas.openxmlformats.org/officeDocument/2006/relationships/hyperlink" Target="https://uchi.ru/teachers/hometasks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974880" y="2651040"/>
            <a:ext cx="7688160" cy="187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uchi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metask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точки-задания по учи.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:Роль местоимений в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:Выучить правило на 92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ь пр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до 8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13:48Z</dcterms:modified>
  <cp:revision>32</cp:revision>
  <dc:subject/>
  <dc:title>Презентация PowerPoint</dc:title>
</cp:coreProperties>
</file>