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7543-1246-44D5-961E-6272E67376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6DC5-7A2A-4959-9B17-58CA7FF8EB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1886-A850-47B0-9C6C-9E440D64D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FD64-F7B5-4564-B146-AEF434D5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C35E-2454-4719-B058-8C1C4ECB6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1950-EB40-4C9A-8E2C-3FE1383BC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25BE-50D6-4C66-8945-DA1699E0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7C9F-C1F8-4599-A665-EB39148B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0917-0F20-441D-99B5-1E7DBE73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EDC9-85A6-4C88-9477-998981E9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BD3D-1A84-428C-B6EB-E63718BC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2C90-0312-4A46-857D-B09B5F76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97AC-F7D4-4016-84C3-778759E8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392C-06B1-40F5-B423-CC0C1CC6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1878-451C-4C7E-878A-3CC3EDBB12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Администратор\Desktop\тишина\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2" descr=""/>
          <p:cNvPicPr/>
          <p:nvPr/>
        </p:nvPicPr>
        <p:blipFill>
          <a:blip r:embed="rId2"/>
          <a:stretch/>
        </p:blipFill>
        <p:spPr>
          <a:xfrm>
            <a:off x="1255680" y="2651040"/>
            <a:ext cx="7139160" cy="1878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1511280" y="620640"/>
            <a:ext cx="66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6f0096"/>
                </a:solidFill>
                <a:latin typeface="Georgia"/>
              </a:rPr>
              <a:t>                                                                                                                                                      </a:t>
            </a:r>
            <a:r>
              <a:rPr b="1" i="1" lang="tt-RU" sz="4000" spc="-1" strike="noStrike">
                <a:solidFill>
                  <a:srgbClr val="6f0096"/>
                </a:solidFill>
                <a:latin typeface="Georgia"/>
              </a:rPr>
              <a:t>Окружающий мир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f0096"/>
                </a:solidFill>
                <a:latin typeface="Georgia"/>
              </a:rPr>
              <a:t>3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ая отрасль экономики производит эти товар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9"/>
          <p:cNvSpPr/>
          <p:nvPr/>
        </p:nvSpPr>
        <p:spPr>
          <a:xfrm>
            <a:off x="714240" y="214200"/>
            <a:ext cx="7674120" cy="120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нужно сдела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бы изучить т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826920" y="1844640"/>
            <a:ext cx="7777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йти по ссылке и посмотреть видеоуроки и выполнить тренировочные задани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учи.ру задания по ссылке: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https://uchi.ru/teachers/groups/3654809/subjects/6/course_programs/3/lessons/8456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упр. в рабочей тетради- 48 стр.1,2 уп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тографировать выполненное упражнение и прислать фото 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sAp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выполнения:14.04.20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07:24:06Z</dcterms:created>
  <dc:creator>Администратор</dc:creator>
  <dc:description/>
  <dc:language>en-US</dc:language>
  <cp:lastModifiedBy>2017</cp:lastModifiedBy>
  <dcterms:modified xsi:type="dcterms:W3CDTF">2020-04-01T17:30:39Z</dcterms:modified>
  <cp:revision>33</cp:revision>
  <dc:subject/>
  <dc:title>Презентация PowerPoint</dc:title>
</cp:coreProperties>
</file>