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4B7-99DD-4ACA-BD22-FAE82300EC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A6C5-75E2-439F-9902-E875D87D0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31F-3BF0-4A86-A9BA-00581C3D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A7B-69AA-4F7E-9A1E-1A39A507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489-9C01-43A9-991C-E29ACBAC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D86-A2A6-4CD7-B34F-7CB999BE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615-DA13-4617-8D4D-B5FEEEEE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6F0-0F63-4562-80F4-B55E8B98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289-7D7F-4658-B796-26F303F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642-7DBB-4362-AA87-13F8093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78A-55D4-4710-BD18-BCE4F71D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DA8-E32C-4DD4-B1C6-F29084E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785-DCC1-4024-A9BE-E9DD762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4EA-2F74-4D45-B00E-B0CFC5A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1F80-9619-4C97-8E81-700D8A018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1255680" y="2651040"/>
            <a:ext cx="713916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s://uchi.ru/teachers/groups/3654809/subjects/6/course_programs/3/lessons/845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1,2 у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4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30:39Z</dcterms:modified>
  <cp:revision>33</cp:revision>
  <dc:subject/>
  <dc:title>Презентация PowerPoint</dc:title>
</cp:coreProperties>
</file>