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A1DA-82B1-4F9F-BE57-2FD308816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B7FD-4946-402E-BA37-891185D5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CA3F-C3D4-4F86-A3BE-C228A9FA6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BC01-E989-4F9F-AB8C-7CEFC1579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9535-6085-48F1-9B30-C6F94C7B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D338-6C55-4504-AD60-C83F31CB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20F1-4D77-4584-B348-F00E548D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9FC0-4421-418E-944B-D7764E40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B438-0BA7-4E07-B548-7581A447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0545-ACCD-44DA-87B6-BE70D2E4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E6AD-778B-43DE-B7A5-D683EC89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383D-4D6C-4169-B9B5-7E574118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9704-5671-41E4-9F62-69506E2731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uchi.ru/teachers/hometasks" TargetMode="External"/><Relationship Id="rId2" Type="http://schemas.openxmlformats.org/officeDocument/2006/relationships/hyperlink" Target="https://uchi.ru/teachers/hometasks" TargetMode="External"/><Relationship Id="rId3" Type="http://schemas.openxmlformats.org/officeDocument/2006/relationships/hyperlink" Target="https://uchi.ru/teachers/hometasks" TargetMode="External"/><Relationship Id="rId4" Type="http://schemas.openxmlformats.org/officeDocument/2006/relationships/hyperlink" Target="https://uchi.ru/teachers/hometasks" TargetMode="External"/><Relationship Id="rId5" Type="http://schemas.openxmlformats.org/officeDocument/2006/relationships/hyperlink" Target="https://uchi.ru/teachers/hometasks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2" descr=""/>
          <p:cNvPicPr/>
          <p:nvPr/>
        </p:nvPicPr>
        <p:blipFill>
          <a:blip r:embed="rId1"/>
          <a:stretch/>
        </p:blipFill>
        <p:spPr>
          <a:xfrm>
            <a:off x="1255680" y="2651040"/>
            <a:ext cx="7162920" cy="353052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1511280" y="620640"/>
            <a:ext cx="662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000" spc="-1" strike="noStrike">
                <a:solidFill>
                  <a:srgbClr val="6f0096"/>
                </a:solidFill>
                <a:latin typeface="Georgia"/>
              </a:rPr>
              <a:t>                                                                                                                                                          </a:t>
            </a:r>
            <a:r>
              <a:rPr b="1" i="1" lang="tt-RU" sz="4000" spc="-1" strike="noStrike">
                <a:solidFill>
                  <a:srgbClr val="6f0096"/>
                </a:solidFill>
                <a:latin typeface="Georgia"/>
              </a:rPr>
              <a:t>Русский язык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f0096"/>
                </a:solidFill>
                <a:latin typeface="Georgia"/>
              </a:rPr>
              <a:t>3 КЛА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кая отрасль экономики производит эти товар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9"/>
          <p:cNvSpPr/>
          <p:nvPr/>
        </p:nvSpPr>
        <p:spPr>
          <a:xfrm>
            <a:off x="714240" y="214200"/>
            <a:ext cx="7674120" cy="120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 нужно сделать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бы изучить т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826920" y="1844640"/>
            <a:ext cx="7777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йти по ссылке и посмотреть видеоуроки и выполнить тренировочные задания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s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://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uchi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.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ru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/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teachers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/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hometasks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в учебнике :Роль местоимений в реч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ь :Выучить правило на 93 ст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тографировать выполненное упражнение и прислать фото в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sApp/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диозапись прави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рок выполнения : до 13.04.20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3T07:24:06Z</dcterms:created>
  <dc:creator>Администратор</dc:creator>
  <dc:description/>
  <dc:language>en-US</dc:language>
  <cp:lastModifiedBy>2017</cp:lastModifiedBy>
  <dcterms:modified xsi:type="dcterms:W3CDTF">2020-03-31T17:09:47Z</dcterms:modified>
  <cp:revision>33</cp:revision>
  <dc:subject/>
  <dc:title>Презентация PowerPoint</dc:title>
</cp:coreProperties>
</file>