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2A1D-A6A2-44F8-87D3-F7A7E5FF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6E13-0EDB-4701-AD30-4DA61FE8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311B-ED10-4443-8771-9B7D0D44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C0ED-024D-4B00-B488-A19ED4B4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8870-DB9F-4493-A53B-7FF8B516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55E3-6E5E-498C-B7B1-BD31FCB2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21C-AE22-406B-B8E1-C5C51C0A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B5E4-A67C-46E4-A23F-E1731D9E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F66D-6A0C-4E7C-B12F-714F29BD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C8C0-58F5-4DDF-9BD2-34AD44DA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6912-F3B8-435A-A5E5-99D8B74F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B209-A155-4E9D-8211-31CCDDAC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EC20-7073-4863-AB72-98976491A7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uchi.ru/teachers/hometasks" TargetMode="External"/><Relationship Id="rId2" Type="http://schemas.openxmlformats.org/officeDocument/2006/relationships/hyperlink" Target="https://uchi.ru/teachers/hometasks" TargetMode="External"/><Relationship Id="rId3" Type="http://schemas.openxmlformats.org/officeDocument/2006/relationships/hyperlink" Target="https://uchi.ru/teachers/hometasks" TargetMode="External"/><Relationship Id="rId4" Type="http://schemas.openxmlformats.org/officeDocument/2006/relationships/hyperlink" Target="https://uchi.ru/teachers/hometasks" TargetMode="External"/><Relationship Id="rId5" Type="http://schemas.openxmlformats.org/officeDocument/2006/relationships/hyperlink" Target="https://uchi.ru/teachers/hometasks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2" descr=""/>
          <p:cNvPicPr/>
          <p:nvPr/>
        </p:nvPicPr>
        <p:blipFill>
          <a:blip r:embed="rId1"/>
          <a:stretch/>
        </p:blipFill>
        <p:spPr>
          <a:xfrm>
            <a:off x="1255680" y="2651040"/>
            <a:ext cx="7162920" cy="353052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511280" y="620640"/>
            <a:ext cx="66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                                                                                                                                                          </a:t>
            </a: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Русский язык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f0096"/>
                </a:solidFill>
                <a:latin typeface="Georgia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ая отрасль экономики производит эти това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714240" y="214200"/>
            <a:ext cx="7674120" cy="120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нужно сдел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бы изучить т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26920" y="1844640"/>
            <a:ext cx="777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ти по ссылке и посмотреть видеоуроки и выполнить тренировочные задания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s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uchi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ru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eachers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ometask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в учебнике :Роль местоимений в ре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:Выучить правило на 93 ст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тографировать выполненное упражнение и прислать фото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sApp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озапись прави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рок выполнения : до 13.04.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07:24:06Z</dcterms:created>
  <dc:creator>Администратор</dc:creator>
  <dc:description/>
  <dc:language>en-US</dc:language>
  <cp:lastModifiedBy>2017</cp:lastModifiedBy>
  <dcterms:modified xsi:type="dcterms:W3CDTF">2020-03-31T17:09:47Z</dcterms:modified>
  <cp:revision>33</cp:revision>
  <dc:subject/>
  <dc:title>Презентация PowerPoint</dc:title>
</cp:coreProperties>
</file>