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EB99-3C87-44A5-9A37-D77AA65F3AC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C560-7074-4897-9E57-419E946DE444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9F02-AEF3-4618-9F23-12BEE2CC6B0F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AF97-3A9C-4FD2-A496-54622DCDB095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40F-D507-4675-971E-27F9571E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86B-E4B7-40A8-8633-5B736046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E1D-D9A0-4B75-9467-2402E875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DBDC-B6E0-4685-9356-46A5DCF2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93E82-C2C2-44D6-9CA1-75F65ACD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1A003-032E-486F-B099-065182DA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D78AF-8BC1-43DB-A3F2-B74A6763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2164A-F4EE-4D63-965F-E714C249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A4809-6859-4091-AC66-B55E7721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2C9DA-7D3A-4C9F-B4E0-14F93555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54E59-A51B-4D04-8593-B4B88172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E36-9BF9-4B02-9DFF-9D7C95C9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2537E-0AB1-4E94-AA4F-229ACDCE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EB385-31F6-42F2-ACBC-62B889DD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5A5F6-C9A6-4787-87E0-A8B3E60B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845B5-7620-4386-B1CA-285BAD76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37FEA-627B-4A20-831B-672C1621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2BA00-9CB1-424A-BC4A-41DEE6A6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CCA2D-3C71-4DF8-B43E-38E7F30E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83E05-00E5-414F-823B-BAB926AD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C59EE-4723-4104-AA20-B1FF5DB3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91140-14C3-4B04-A356-E0AC8F36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306-B13C-4D72-8B5A-8AACFE73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4422B-3A2D-4B33-AFA5-7CD2D4E7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34BFF-A917-4798-97FF-F36633F0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D2672-DB42-4FDE-BD7C-3EC8747B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F3808-AB96-49A4-90F7-C61FC931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CAF68-5422-4171-96F0-3637BC63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62780-9E19-4865-81F7-DEBC5117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C8F46-998E-44C1-B543-F770FB08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17569-4FD1-40CB-B5C1-24FC31EC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D345B2-63AB-4F60-9A40-F43EA53A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B8366-2662-47D0-A1E1-B47D9F53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960-3FC6-49BF-9D12-3C36ECAF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9A76CF-AAAF-4AAA-8A55-2B194C69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F238B-D121-454B-B824-D961FC82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5A2028-6BDE-44AD-88B8-A7232245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98931-9584-4113-BEEE-DA7AC280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F2DFC-D658-4CB3-8603-E91540B6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4E8DB5-63EF-4139-9D36-A23187C0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35DF33-EAE0-4D13-8FBB-1A62D7C8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96CB6C-A312-4163-AAC0-C9FEF070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AB13A6-36EB-4B88-A945-D1EE8CA2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2AB09-311B-4CB2-BFB9-8BC17731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864-BA8A-447A-9A51-C2E03C52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C51D3B-5CA6-48BB-9558-5D91D897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20FC6E-4836-4777-AB2D-7AF64048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83639-7C1A-4627-83C6-7C7D9CC3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F40C1-1BC2-4A11-9BC2-96C97791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51BA1-6EC1-46EE-A7CD-DF0380E8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29D8A-2272-49BF-8E20-F5DC8D2E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B273CA-1AEF-42B8-9D24-51D031E1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37BA9-800C-4432-9BAB-EDD80FFA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930407-3B89-41D5-867D-EA1B5767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AAD6F-E36F-4ED7-A2A9-1E7220A8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B2C-9FE2-4065-A109-09987838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C6A09A-89EC-4CB2-8E7A-E7C7E771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9208C-810D-4CDD-B8F0-38EC7CAB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CE5C7-DE60-4714-9A54-BC7EBC9C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D9CA75-5063-4170-B205-0013FA55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076E51-B389-43FD-B360-8BF470D8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046C9-7BBB-47EA-876F-9987DE4C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F5DE9-C7CC-4062-B2D6-FE584F51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79E47-45FF-4643-8643-5A84BF7F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A87E69-71BB-434A-97FD-4429D1EF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48799E-7451-4562-AAD4-296F97F4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1D6-0516-4673-9C69-BD7697A9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76514E-1759-412B-9A7F-E788EB87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4CECA5-0DDB-44E3-A124-81C8F9A8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68F88A-06D1-496F-8189-241AC850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30ED-E142-41A0-9B0C-5D853F12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74D-62F2-4DC4-B00B-9826C2D8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4B34-5C3C-45CD-9EC5-BB88176E22CE}" type="slidenum">
              <a:rPr b="0" lang="ru-RU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6343-C7E0-46B2-992D-C2E15BA42EE5}" type="slidenum">
              <a:rPr b="0" lang="ru-RU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6CE5-1A36-4E3B-920B-9ECFE06A39FD}" type="slidenum">
              <a:rPr b="0" lang="ru-RU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1196-1B3A-4456-9480-232B81FBA107}" type="slidenum">
              <a:rPr b="0" lang="ru-RU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15EA-0C17-46B4-95C5-0D2E1684AD62}" type="slidenum">
              <a:rPr b="0" lang="ru-RU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9DEB-3511-4C78-A6B9-E556F0651647}" type="slidenum">
              <a:rPr b="0" lang="ru-RU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263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онденсаторы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денсатор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45720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денсатор – это устройство, позволяющее накапливать электрический заряд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Picture 2" descr="https://i.ytimg.com/vi/Ll1fcI6kKV4/maxresdefault.jpg"/>
          <p:cNvPicPr/>
          <p:nvPr/>
        </p:nvPicPr>
        <p:blipFill>
          <a:blip r:embed="rId1"/>
          <a:stretch/>
        </p:blipFill>
        <p:spPr>
          <a:xfrm>
            <a:off x="108000" y="2565360"/>
            <a:ext cx="4479840" cy="2519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https://ds05.infourok.ru/uploads/ex/0205/000902b4-b3d2583b/img6.jpg"/>
          <p:cNvPicPr/>
          <p:nvPr/>
        </p:nvPicPr>
        <p:blipFill>
          <a:blip r:embed="rId2"/>
          <a:stretch/>
        </p:blipFill>
        <p:spPr>
          <a:xfrm>
            <a:off x="4908600" y="3141720"/>
            <a:ext cx="38368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1"/>
          <p:cNvSpPr/>
          <p:nvPr/>
        </p:nvSpPr>
        <p:spPr>
          <a:xfrm>
            <a:off x="6858000" y="400068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TextBox 12"/>
          <p:cNvSpPr/>
          <p:nvPr/>
        </p:nvSpPr>
        <p:spPr>
          <a:xfrm>
            <a:off x="8042400" y="407196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TextBox 13"/>
          <p:cNvSpPr/>
          <p:nvPr/>
        </p:nvSpPr>
        <p:spPr>
          <a:xfrm>
            <a:off x="5500800" y="407196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TextBox 14"/>
          <p:cNvSpPr/>
          <p:nvPr/>
        </p:nvSpPr>
        <p:spPr>
          <a:xfrm>
            <a:off x="2357280" y="3929040"/>
            <a:ext cx="1143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TextBox 15"/>
          <p:cNvSpPr/>
          <p:nvPr/>
        </p:nvSpPr>
        <p:spPr>
          <a:xfrm>
            <a:off x="2509920" y="4081320"/>
            <a:ext cx="1143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Прямоугольник 17"/>
          <p:cNvSpPr/>
          <p:nvPr/>
        </p:nvSpPr>
        <p:spPr>
          <a:xfrm>
            <a:off x="571680" y="1428840"/>
            <a:ext cx="8072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нденсатор представляет собой два проводника, разделенные слоем диэлектрика, толщина которого мала по сравнению с размерами проводник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2500200" y="428760"/>
            <a:ext cx="485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c000"/>
                </a:solidFill>
                <a:uFillTx/>
                <a:latin typeface="Verdana"/>
              </a:rPr>
              <a:t>Конденсато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Rectangle 8"/>
          <p:cNvSpPr/>
          <p:nvPr/>
        </p:nvSpPr>
        <p:spPr>
          <a:xfrm rot="11103000">
            <a:off x="2060640" y="4853880"/>
            <a:ext cx="2519280" cy="144360"/>
          </a:xfrm>
          <a:prstGeom prst="rect">
            <a:avLst/>
          </a:prstGeom>
          <a:solidFill>
            <a:srgbClr val="629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Rectangle 6"/>
          <p:cNvSpPr/>
          <p:nvPr/>
        </p:nvSpPr>
        <p:spPr>
          <a:xfrm rot="11103000">
            <a:off x="1909800" y="5704920"/>
            <a:ext cx="2519280" cy="144360"/>
          </a:xfrm>
          <a:prstGeom prst="rect">
            <a:avLst/>
          </a:prstGeom>
          <a:solidFill>
            <a:srgbClr val="629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Line 11"/>
          <p:cNvSpPr/>
          <p:nvPr/>
        </p:nvSpPr>
        <p:spPr>
          <a:xfrm flipH="1">
            <a:off x="3630600" y="4046400"/>
            <a:ext cx="46080" cy="596880"/>
          </a:xfrm>
          <a:prstGeom prst="line">
            <a:avLst/>
          </a:prstGeom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3646440" y="5961240"/>
            <a:ext cx="0" cy="504720"/>
          </a:xfrm>
          <a:prstGeom prst="line">
            <a:avLst/>
          </a:prstGeom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07640" y="1474920"/>
            <a:ext cx="5543640" cy="49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343080" indent="-240120">
              <a:spcBef>
                <a:spcPts val="524"/>
              </a:spcBef>
              <a:buClr>
                <a:srgbClr val="7f8fa9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Palatino Linotype"/>
              </a:rPr>
              <a:t>Электроемкость конденсатора</a:t>
            </a: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 – это величина, измеряемая отношением заряда одной из пластин конденсатора к напряжению между пластинами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240120">
              <a:spcBef>
                <a:spcPts val="524"/>
              </a:spcBef>
              <a:buClr>
                <a:srgbClr val="7f8fa9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c000"/>
                </a:solidFill>
                <a:latin typeface="Palatino Linotype"/>
              </a:rPr>
              <a:t>Единица измерения электроемкости – фарад «Ф». 1Ф – это очень большая емкость, поэтому часто используют мкФ 10</a:t>
            </a:r>
            <a:r>
              <a:rPr b="0" lang="ru-RU" sz="2100" spc="-1" strike="noStrike" baseline="30000">
                <a:solidFill>
                  <a:srgbClr val="ffc000"/>
                </a:solidFill>
                <a:latin typeface="Palatino Linotype"/>
              </a:rPr>
              <a:t>-6</a:t>
            </a:r>
            <a:r>
              <a:rPr b="0" lang="ru-RU" sz="2100" spc="-1" strike="noStrike">
                <a:solidFill>
                  <a:srgbClr val="ffc000"/>
                </a:solidFill>
                <a:latin typeface="Palatino Linotype"/>
              </a:rPr>
              <a:t> Ф(микрофарад)                             и пФ 10</a:t>
            </a:r>
            <a:r>
              <a:rPr b="0" lang="ru-RU" sz="2100" spc="-1" strike="noStrike" baseline="30000">
                <a:solidFill>
                  <a:srgbClr val="ffc000"/>
                </a:solidFill>
                <a:latin typeface="Palatino Linotype"/>
              </a:rPr>
              <a:t>-12</a:t>
            </a:r>
            <a:r>
              <a:rPr b="0" lang="ru-RU" sz="2100" spc="-1" strike="noStrike">
                <a:solidFill>
                  <a:srgbClr val="ffc000"/>
                </a:solidFill>
                <a:latin typeface="Palatino Linotype"/>
              </a:rPr>
              <a:t> Ф(пикофарад</a:t>
            </a: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240120">
              <a:spcBef>
                <a:spcPts val="524"/>
              </a:spcBef>
              <a:buClr>
                <a:srgbClr val="7f8fa9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240120">
              <a:spcBef>
                <a:spcPts val="524"/>
              </a:spcBef>
              <a:buClr>
                <a:srgbClr val="7f8fa9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Электроемкость конденсатора зависит от его геометрической конструкции и электрической проницаемости заполняющего его диэлектрика. 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24012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60" name="Picture 1" descr=""/>
          <p:cNvPicPr/>
          <p:nvPr/>
        </p:nvPicPr>
        <p:blipFill>
          <a:blip r:embed="rId1"/>
          <a:stretch/>
        </p:blipFill>
        <p:spPr>
          <a:xfrm>
            <a:off x="6881760" y="1573200"/>
            <a:ext cx="1933560" cy="29433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3"/>
          <p:cNvSpPr/>
          <p:nvPr/>
        </p:nvSpPr>
        <p:spPr>
          <a:xfrm>
            <a:off x="900000" y="18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Verdana"/>
              </a:rPr>
              <a:t>Физическая характеристика конденсатора -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электроемк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2" name="Picture 5" descr="https://avatars.mds.yandex.net/get-pdb/1584663/77f68e34-1a6c-4d7b-8560-308752128cfd/s1200?webp=false"/>
          <p:cNvPicPr/>
          <p:nvPr/>
        </p:nvPicPr>
        <p:blipFill>
          <a:blip r:embed="rId2"/>
          <a:stretch/>
        </p:blipFill>
        <p:spPr>
          <a:xfrm>
            <a:off x="5651640" y="3933720"/>
            <a:ext cx="34923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https://fs00.infourok.ru/images/doc/186/213247/img13.jpg"/>
          <p:cNvPicPr/>
          <p:nvPr/>
        </p:nvPicPr>
        <p:blipFill>
          <a:blip r:embed="rId1"/>
          <a:stretch/>
        </p:blipFill>
        <p:spPr>
          <a:xfrm>
            <a:off x="797040" y="1928880"/>
            <a:ext cx="7416720" cy="460836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2"/>
          <p:cNvSpPr/>
          <p:nvPr/>
        </p:nvSpPr>
        <p:spPr>
          <a:xfrm>
            <a:off x="179280" y="981000"/>
            <a:ext cx="885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ffff"/>
                </a:solidFill>
                <a:latin typeface="Palatino Linotype"/>
              </a:rPr>
              <a:t>U=A\q    A=qU    A=W=qU\2 </a:t>
            </a: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4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Стрелка вправо 1"/>
          <p:cNvSpPr/>
          <p:nvPr/>
        </p:nvSpPr>
        <p:spPr>
          <a:xfrm>
            <a:off x="2268360" y="1335240"/>
            <a:ext cx="592200" cy="190440"/>
          </a:xfrm>
          <a:prstGeom prst="rightArrow">
            <a:avLst>
              <a:gd name="adj1" fmla="val 50000"/>
              <a:gd name="adj2" fmla="val 50100"/>
            </a:avLst>
          </a:prstGeom>
          <a:solidFill>
            <a:srgbClr val="ffffff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281160" y="260280"/>
            <a:ext cx="83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Verdana"/>
              </a:rPr>
              <a:t>Энергия заряженного конденсато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2"/>
          <p:cNvSpPr/>
          <p:nvPr/>
        </p:nvSpPr>
        <p:spPr>
          <a:xfrm>
            <a:off x="684360" y="476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Palatino Linotype"/>
              </a:rPr>
              <a:t>Тест 2          </a:t>
            </a:r>
            <a:r>
              <a:rPr b="0" i="1" lang="ru-RU" sz="3200" spc="-1" strike="noStrike">
                <a:solidFill>
                  <a:srgbClr val="ffff00"/>
                </a:solidFill>
                <a:latin typeface="Palatino Linotype"/>
              </a:rPr>
              <a:t>Конденсато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62712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. Какого знака получают заряд обкладки конденсатора при его зарядке? Где образуется электрическое поле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Подзаголовок 2"/>
          <p:cNvSpPr/>
          <p:nvPr/>
        </p:nvSpPr>
        <p:spPr>
          <a:xfrm>
            <a:off x="431640" y="2565360"/>
            <a:ext cx="8425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7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Palatino Linotype"/>
              </a:rPr>
              <a:t>1 – положительный, между обкладками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Palatino Linotype"/>
              </a:rPr>
              <a:t>2 – отрицательный, около обкладок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Palatino Linotype"/>
              </a:rPr>
              <a:t>3 – противоположные по знаку, вокруг обкладок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Palatino Linotype"/>
              </a:rPr>
              <a:t>4 – противоположные по знаку, между обкладок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TextBox 5"/>
          <p:cNvSpPr/>
          <p:nvPr/>
        </p:nvSpPr>
        <p:spPr>
          <a:xfrm>
            <a:off x="585720" y="494496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Segoe UI Semibold"/>
                <a:ea typeface="Segoe UI Semibold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468360" y="552600"/>
            <a:ext cx="82296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. Электроемкость конденсатора - физическая величина, которая характеризует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369720" y="2060640"/>
            <a:ext cx="8425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marL="17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Palatino Linotype"/>
              </a:rPr>
              <a:t>1 – какой заряд он может накопить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Palatino Linotype"/>
              </a:rPr>
              <a:t>2 – скорость его зарядки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Palatino Linotype"/>
              </a:rPr>
              <a:t>3 – его возможность быть источником тока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Palatino Linotype"/>
              </a:rPr>
              <a:t>4 – скорость его разрядки при замыкании обкладок проводником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2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585720" y="494496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Segoe UI Semibold"/>
                <a:ea typeface="Segoe UI Semibold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468360" y="552600"/>
            <a:ext cx="82296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. От каких факторов зависит электроемкость кондесатора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Подзаголовок 2"/>
          <p:cNvSpPr/>
          <p:nvPr/>
        </p:nvSpPr>
        <p:spPr>
          <a:xfrm>
            <a:off x="369720" y="1700280"/>
            <a:ext cx="8425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165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165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Palatino Linotype"/>
              </a:rPr>
              <a:t>1 – площади и формы обкладок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165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Palatino Linotype"/>
              </a:rPr>
              <a:t>2 – расстояния между обкладками и удельного сопротивления их вещества (материала)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165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Palatino Linotype"/>
              </a:rPr>
              <a:t>3 – от наличия между обкладками диэлектрика и его цвета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165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Palatino Linotype"/>
              </a:rPr>
              <a:t>4 – от площади обкладок, наличия диэлектрика и его цвета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16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585720" y="494496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Segoe UI Semibold"/>
                <a:ea typeface="Segoe UI Semibold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468360" y="552600"/>
            <a:ext cx="82296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4. По какой формуле можно найти электроемкость конденсатора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8" name="Подзаголовок 2" descr=""/>
          <p:cNvPicPr/>
          <p:nvPr/>
        </p:nvPicPr>
        <p:blipFill>
          <a:blip r:embed="rId1"/>
          <a:stretch/>
        </p:blipFill>
        <p:spPr>
          <a:xfrm>
            <a:off x="274680" y="1700280"/>
            <a:ext cx="8521560" cy="23781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3"/>
          <p:cNvSpPr/>
          <p:nvPr/>
        </p:nvSpPr>
        <p:spPr>
          <a:xfrm>
            <a:off x="585720" y="494496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Segoe UI Semibold"/>
                <a:ea typeface="Segoe UI Semibol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468360" y="552600"/>
            <a:ext cx="82296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Какова электроемкость конденсатора, у которого при заряде 0,08 Кл напряжение на обкладках 40 кВ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Подзаголовок 2"/>
          <p:cNvSpPr/>
          <p:nvPr/>
        </p:nvSpPr>
        <p:spPr>
          <a:xfrm>
            <a:off x="349200" y="2421000"/>
            <a:ext cx="84265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marL="17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Palatino Linotype"/>
              </a:rPr>
              <a:t>40 кВ = 40000 В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Palatino Linotype"/>
              </a:rPr>
              <a:t>С = 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q\U = 0,08</a:t>
            </a:r>
            <a:r>
              <a:rPr b="0" lang="ru-RU" sz="2600" spc="-1" strike="noStrike">
                <a:solidFill>
                  <a:srgbClr val="ffffff"/>
                </a:solidFill>
                <a:latin typeface="Palatino Linotype"/>
              </a:rPr>
              <a:t> Кл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\40000</a:t>
            </a:r>
            <a:r>
              <a:rPr b="0" lang="ru-RU" sz="2600" spc="-1" strike="noStrike">
                <a:solidFill>
                  <a:srgbClr val="ffffff"/>
                </a:solidFill>
                <a:latin typeface="Palatino Linotype"/>
              </a:rPr>
              <a:t> В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 = 0,000002 </a:t>
            </a:r>
            <a:r>
              <a:rPr b="0" lang="ru-RU" sz="2600" spc="-1" strike="noStrike">
                <a:solidFill>
                  <a:srgbClr val="ffffff"/>
                </a:solidFill>
                <a:latin typeface="Palatino Linotype"/>
              </a:rPr>
              <a:t>Ф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= 2x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Palatino Linotype"/>
              </a:rPr>
              <a:t>-6 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Palatino Linotype"/>
              </a:rPr>
              <a:t>Ф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Palatino Linotype"/>
              </a:rPr>
              <a:t>С = (2мкФ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172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78920" y="2204640"/>
            <a:ext cx="79218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-2552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1 – только положительные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2 – только отрицательные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3 – положительные и </a:t>
            </a: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отрицательные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4 – все перечисленное верно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i="1" lang="ru-RU" sz="2800" spc="-1" strike="noStrike">
                <a:solidFill>
                  <a:srgbClr val="ffff00"/>
                </a:solidFill>
                <a:latin typeface="Palatino Linotype"/>
              </a:rPr>
              <a:t>Ответ - 3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323640" y="692280"/>
            <a:ext cx="784836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Georgia"/>
              </a:rPr>
              <a:t>Тест 1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1. </a:t>
            </a: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Какие виды электрического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заряда существуют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2000" y="188640"/>
            <a:ext cx="889164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Palatino Linotype"/>
              </a:rPr>
              <a:t>2. Электрическое поле это…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Подзаголовок 2"/>
          <p:cNvSpPr/>
          <p:nvPr/>
        </p:nvSpPr>
        <p:spPr>
          <a:xfrm>
            <a:off x="395280" y="1557360"/>
            <a:ext cx="8748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1 – не действующий на человека вид матер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2 – пространство, окружающее электрический заря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3 – вид материи, воздействующей на электрический заря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4 – вещество, наполненное электричество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Box 7"/>
          <p:cNvSpPr/>
          <p:nvPr/>
        </p:nvSpPr>
        <p:spPr>
          <a:xfrm>
            <a:off x="755640" y="508464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Palatino Linotype"/>
                <a:ea typeface="Segoe UI Semibold"/>
              </a:rPr>
              <a:t>Ответ</a:t>
            </a:r>
            <a:r>
              <a:rPr b="1" i="1" lang="ru-RU" sz="2800" spc="-1" strike="noStrike">
                <a:solidFill>
                  <a:srgbClr val="ffff00"/>
                </a:solidFill>
                <a:latin typeface="Segoe UI Semibold"/>
                <a:ea typeface="Segoe UI Semibold"/>
              </a:rPr>
              <a:t> 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8483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3. Какую величину измеряют в кулонах?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6" name="Подзаголовок 2"/>
          <p:cNvSpPr/>
          <p:nvPr/>
        </p:nvSpPr>
        <p:spPr>
          <a:xfrm>
            <a:off x="395280" y="1989000"/>
            <a:ext cx="87138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7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1 – электрическую сил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2 – количество электричест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3 – электрическое пол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4 – электрический заря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755640" y="5084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Palatino Linotype"/>
                <a:ea typeface="Segoe UI Semibold"/>
              </a:rPr>
              <a:t>Ответ</a:t>
            </a:r>
            <a:r>
              <a:rPr b="1" i="1" lang="ru-RU" sz="2800" spc="-1" strike="noStrike">
                <a:solidFill>
                  <a:srgbClr val="ffff00"/>
                </a:solidFill>
                <a:latin typeface="Segoe UI Semibold"/>
                <a:ea typeface="Segoe UI Semibold"/>
              </a:rPr>
              <a:t> 2,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8483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4. Что означает фраза: «Тело получило электрический заряд»?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Подзаголовок 2"/>
          <p:cNvSpPr/>
          <p:nvPr/>
        </p:nvSpPr>
        <p:spPr>
          <a:xfrm>
            <a:off x="395280" y="1989000"/>
            <a:ext cx="87138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7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1 – к телу прикрепили положительный или отрицательный заря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2 – тело приобрело или потеряло электро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3 – </a:t>
            </a: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тело приобрело или потеряло прото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4 – нет верного отве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755640" y="5084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Palatino Linotype"/>
                <a:ea typeface="Segoe UI Semibold"/>
              </a:rPr>
              <a:t>Ответ</a:t>
            </a:r>
            <a:r>
              <a:rPr b="1" i="1" lang="ru-RU" sz="2800" spc="-1" strike="noStrike">
                <a:solidFill>
                  <a:srgbClr val="ffff00"/>
                </a:solidFill>
                <a:latin typeface="Segoe UI Semibold"/>
                <a:ea typeface="Segoe UI Semibold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6560" y="620280"/>
            <a:ext cx="8137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Georgia"/>
              </a:rPr>
              <a:t>5.Источником электрического поля является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64072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1 только положительный электрический заряд;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2 только отрицательный электрический заряд;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3 всякое заряженное тело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4. любое заряженное или не заряженное тело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3" name="TextBox 4"/>
          <p:cNvSpPr/>
          <p:nvPr/>
        </p:nvSpPr>
        <p:spPr>
          <a:xfrm>
            <a:off x="755640" y="5084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Palatino Linotype"/>
                <a:ea typeface="Segoe UI Semibold"/>
              </a:rPr>
              <a:t>Ответ</a:t>
            </a:r>
            <a:r>
              <a:rPr b="1" i="1" lang="ru-RU" sz="2800" spc="-1" strike="noStrike">
                <a:solidFill>
                  <a:srgbClr val="ffff00"/>
                </a:solidFill>
                <a:latin typeface="Segoe UI Semibold"/>
                <a:ea typeface="Segoe UI Semibold"/>
              </a:rPr>
              <a:t> 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0360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Palatino Linotype"/>
              </a:rPr>
              <a:t>Энергия электрического поля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395280" y="1989000"/>
            <a:ext cx="78249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7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Palatino Linotype"/>
              </a:rPr>
              <a:t>Какая физическая величина показывает, какую работу совершает электрическое поле при перемещении единичного положительного заряда из одной точки в другую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176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TextBox 5"/>
          <p:cNvSpPr/>
          <p:nvPr/>
        </p:nvSpPr>
        <p:spPr>
          <a:xfrm>
            <a:off x="539640" y="393372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Segoe UI Semibold"/>
                <a:ea typeface="Segoe UI Semibold"/>
              </a:rPr>
              <a:t>напряж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2484360" y="2421000"/>
                <a:ext cx="613404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пряжени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абота</m:t>
                        </m:r>
                        <m:bar>
                          <m:barPr>
                            <m:pos m:val="bot"/>
                          </m:barPr>
                          <m:e/>
                        </m:bar>
                        <m:r>
                          <m:rPr>
                            <m:lit/>
                            <m:nor/>
                          </m:rPr>
                          <m:t xml:space="preserve">пол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Заря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51280" y="5013360"/>
            <a:ext cx="42991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1 В = 1 Дж/1 Кл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8075520" cy="14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Palatino Linotype"/>
              </a:rPr>
              <a:t>Как вычислить напряжение?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Picture 4" descr="формула напряжения"/>
          <p:cNvPicPr/>
          <p:nvPr/>
        </p:nvPicPr>
        <p:blipFill>
          <a:blip r:embed="rId1"/>
          <a:stretch/>
        </p:blipFill>
        <p:spPr>
          <a:xfrm>
            <a:off x="468360" y="4005360"/>
            <a:ext cx="167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шим</a:t>
            </a:r>
            <a:r>
              <a:rPr b="1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чень простую задач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457200" y="155736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частк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пи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рохождении электрического заряд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 совершена работ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к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ж. Чему 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напряжение на этом участке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Заголовок 1"/>
          <p:cNvSpPr/>
          <p:nvPr/>
        </p:nvSpPr>
        <p:spPr>
          <a:xfrm>
            <a:off x="684360" y="4076640"/>
            <a:ext cx="75466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Palatino Linotype"/>
              </a:rPr>
              <a:t>1</a:t>
            </a:r>
            <a:r>
              <a:rPr b="1" i="1" lang="ru-RU" sz="2800" spc="-1" strike="noStrike">
                <a:solidFill>
                  <a:srgbClr val="ffff00"/>
                </a:solidFill>
                <a:latin typeface="Palatino Linotype"/>
              </a:rPr>
              <a:t>кДж = 1000Д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Palatino Linotype"/>
              </a:rPr>
              <a:t>U</a:t>
            </a:r>
            <a:r>
              <a:rPr b="1" i="1" lang="ru-RU" sz="28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Palatino Linotype"/>
              </a:rPr>
              <a:t>=</a:t>
            </a:r>
            <a:r>
              <a:rPr b="1" i="1" lang="ru-RU" sz="28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Palatino Linotype"/>
              </a:rPr>
              <a:t>A\q</a:t>
            </a:r>
            <a:r>
              <a:rPr b="1" i="1" lang="ru-RU" sz="28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Palatino Linotype"/>
              </a:rPr>
              <a:t>= 1000Дж\20Кл = 50 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0:04:01Z</dcterms:created>
  <dc:creator>User</dc:creator>
  <dc:description/>
  <dc:language>en-US</dc:language>
  <cp:lastModifiedBy>Евгений Ковалев</cp:lastModifiedBy>
  <dcterms:modified xsi:type="dcterms:W3CDTF">2020-04-01T18:34:38Z</dcterms:modified>
  <cp:revision>7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