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D00A-32B4-4B9C-9EDB-88ED16EDB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20AC-43F3-44D6-BB82-526FF856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CCDC-8EFA-40F9-9C1A-3CD2DB216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4BA4-6539-4449-BBE2-48191320C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07E7-2BA5-4C1E-99D6-39FAA7D2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8267-8A8C-46A7-996A-1D21E11F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4E4E-9644-4B15-95C7-F8DBA27A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086C-63E0-4355-8A06-F95814DF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F574-DEC3-43B1-8D16-6BC90BB3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5D30-C5CC-40B0-9956-DFD1CB08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44A0-5403-4897-B92A-14EF6D2F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C56D-1130-4BAC-A246-1190BE73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FB52-D61D-45CD-8775-4B5CFC65A0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F:\1.jpg"/>
          <p:cNvPicPr/>
          <p:nvPr/>
        </p:nvPicPr>
        <p:blipFill>
          <a:blip r:embed="rId1"/>
          <a:stretch/>
        </p:blipFill>
        <p:spPr>
          <a:xfrm>
            <a:off x="-171360" y="0"/>
            <a:ext cx="94867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6082920" y="785880"/>
            <a:ext cx="17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A l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1183713236_20860_s__zverje_14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f_1ax1x"/>
          <p:cNvPicPr/>
          <p:nvPr/>
        </p:nvPicPr>
        <p:blipFill>
          <a:blip r:embed="rId1"/>
          <a:stretch/>
        </p:blipFill>
        <p:spPr>
          <a:xfrm>
            <a:off x="1187280" y="0"/>
            <a:ext cx="676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wolfs_0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F:\682505.jpg"/>
          <p:cNvPicPr/>
          <p:nvPr/>
        </p:nvPicPr>
        <p:blipFill>
          <a:blip r:embed="rId1"/>
          <a:stretch/>
        </p:blipFill>
        <p:spPr>
          <a:xfrm>
            <a:off x="0" y="0"/>
            <a:ext cx="90010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873360" y="6000840"/>
            <a:ext cx="350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A hedgeho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:\8789354_1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1218240" y="428760"/>
            <a:ext cx="234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rabbi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F:\1190754398_belki_16.jpg"/>
          <p:cNvPicPr/>
          <p:nvPr/>
        </p:nvPicPr>
        <p:blipFill>
          <a:blip r:embed="rId1"/>
          <a:stretch/>
        </p:blipFill>
        <p:spPr>
          <a:xfrm>
            <a:off x="0" y="-200160"/>
            <a:ext cx="9144000" cy="720108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5511240" y="285840"/>
            <a:ext cx="315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 squirr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:\1248508070_src2430.jpg"/>
          <p:cNvPicPr/>
          <p:nvPr/>
        </p:nvPicPr>
        <p:blipFill>
          <a:blip r:embed="rId1"/>
          <a:stretch/>
        </p:blipFill>
        <p:spPr>
          <a:xfrm>
            <a:off x="-106200" y="0"/>
            <a:ext cx="938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F:\Arctic_Hare.jpg"/>
          <p:cNvPicPr/>
          <p:nvPr/>
        </p:nvPicPr>
        <p:blipFill>
          <a:blip r:embed="rId1"/>
          <a:stretch/>
        </p:blipFill>
        <p:spPr>
          <a:xfrm>
            <a:off x="-3816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6009840" y="500040"/>
            <a:ext cx="225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A ha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F:\elephant.jpg"/>
          <p:cNvPicPr/>
          <p:nvPr/>
        </p:nvPicPr>
        <p:blipFill>
          <a:blip r:embed="rId1"/>
          <a:stretch/>
        </p:blipFill>
        <p:spPr>
          <a:xfrm>
            <a:off x="1071720" y="-214200"/>
            <a:ext cx="6143400" cy="70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F:\1248508070_src2430.jpg"/>
          <p:cNvPicPr/>
          <p:nvPr/>
        </p:nvPicPr>
        <p:blipFill>
          <a:blip r:embed="rId1"/>
          <a:stretch/>
        </p:blipFill>
        <p:spPr>
          <a:xfrm>
            <a:off x="0" y="0"/>
            <a:ext cx="5376960" cy="3929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F:\8789354_1.jpg"/>
          <p:cNvPicPr/>
          <p:nvPr/>
        </p:nvPicPr>
        <p:blipFill>
          <a:blip r:embed="rId2"/>
          <a:stretch/>
        </p:blipFill>
        <p:spPr>
          <a:xfrm>
            <a:off x="4143240" y="3106800"/>
            <a:ext cx="500076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zebras_003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6:31:27Z</dcterms:created>
  <dc:creator>наталья</dc:creator>
  <dc:description/>
  <dc:language>en-US</dc:language>
  <cp:lastModifiedBy>Денис Кувшинов</cp:lastModifiedBy>
  <dcterms:modified xsi:type="dcterms:W3CDTF">2020-04-01T12:07:36Z</dcterms:modified>
  <cp:revision>7</cp:revision>
  <dc:subject/>
  <dc:title>Слайд 1</dc:title>
</cp:coreProperties>
</file>