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0DCA-FBDD-4915-902C-DFAEB645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7AE-6783-4F60-AF02-CF373D59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CA5-0CB9-4BAD-8DA1-456DEE1B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14B4-E753-4503-A1AF-7D7C68BB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5ABA-D65B-423A-8C6E-8372AE20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44A-8329-40A8-972B-68D1ADB1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E7B-F9E6-4B02-9FA1-1E4FCA11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C42-AE31-48CE-9BE4-08F71279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A76-3C1A-4421-B84B-E7BBBCDF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AF0A-ADA5-4B8B-BBD6-4AA13E12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6A3-9202-4E12-863E-4D5A5947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F6F-BF12-4A6F-8EBF-6E3919C0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AA68-CB44-49F2-BE3F-AFE3C045AD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F:\1.jpg"/>
          <p:cNvPicPr/>
          <p:nvPr/>
        </p:nvPicPr>
        <p:blipFill>
          <a:blip r:embed="rId1"/>
          <a:stretch/>
        </p:blipFill>
        <p:spPr>
          <a:xfrm>
            <a:off x="-171360" y="0"/>
            <a:ext cx="9486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6082920" y="785880"/>
            <a:ext cx="17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 l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1183713236_20860_s__zverje_14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f_1ax1x"/>
          <p:cNvPicPr/>
          <p:nvPr/>
        </p:nvPicPr>
        <p:blipFill>
          <a:blip r:embed="rId1"/>
          <a:stretch/>
        </p:blipFill>
        <p:spPr>
          <a:xfrm>
            <a:off x="1187280" y="0"/>
            <a:ext cx="676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wolfs_0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:\682505.jpg"/>
          <p:cNvPicPr/>
          <p:nvPr/>
        </p:nvPicPr>
        <p:blipFill>
          <a:blip r:embed="rId1"/>
          <a:stretch/>
        </p:blipFill>
        <p:spPr>
          <a:xfrm>
            <a:off x="0" y="0"/>
            <a:ext cx="9001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873360" y="6000840"/>
            <a:ext cx="350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A hedgeho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8789354_1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18240" y="428760"/>
            <a:ext cx="23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rabbi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1190754398_belki_16.jpg"/>
          <p:cNvPicPr/>
          <p:nvPr/>
        </p:nvPicPr>
        <p:blipFill>
          <a:blip r:embed="rId1"/>
          <a:stretch/>
        </p:blipFill>
        <p:spPr>
          <a:xfrm>
            <a:off x="0" y="-200160"/>
            <a:ext cx="9144000" cy="7201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5511240" y="285840"/>
            <a:ext cx="315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 squirr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1248508070_src2430.jpg"/>
          <p:cNvPicPr/>
          <p:nvPr/>
        </p:nvPicPr>
        <p:blipFill>
          <a:blip r:embed="rId1"/>
          <a:stretch/>
        </p:blipFill>
        <p:spPr>
          <a:xfrm>
            <a:off x="-106200" y="0"/>
            <a:ext cx="938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Arctic_Hare.jpg"/>
          <p:cNvPicPr/>
          <p:nvPr/>
        </p:nvPicPr>
        <p:blipFill>
          <a:blip r:embed="rId1"/>
          <a:stretch/>
        </p:blipFill>
        <p:spPr>
          <a:xfrm>
            <a:off x="-3816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6009840" y="500040"/>
            <a:ext cx="225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 h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:\elephant.jpg"/>
          <p:cNvPicPr/>
          <p:nvPr/>
        </p:nvPicPr>
        <p:blipFill>
          <a:blip r:embed="rId1"/>
          <a:stretch/>
        </p:blipFill>
        <p:spPr>
          <a:xfrm>
            <a:off x="1071720" y="-214200"/>
            <a:ext cx="6143400" cy="70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:\1248508070_src2430.jpg"/>
          <p:cNvPicPr/>
          <p:nvPr/>
        </p:nvPicPr>
        <p:blipFill>
          <a:blip r:embed="rId1"/>
          <a:stretch/>
        </p:blipFill>
        <p:spPr>
          <a:xfrm>
            <a:off x="0" y="0"/>
            <a:ext cx="5376960" cy="3929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F:\8789354_1.jpg"/>
          <p:cNvPicPr/>
          <p:nvPr/>
        </p:nvPicPr>
        <p:blipFill>
          <a:blip r:embed="rId2"/>
          <a:stretch/>
        </p:blipFill>
        <p:spPr>
          <a:xfrm>
            <a:off x="4143240" y="3106800"/>
            <a:ext cx="50007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zebras_00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6:31:27Z</dcterms:created>
  <dc:creator>наталья</dc:creator>
  <dc:description/>
  <dc:language>en-US</dc:language>
  <cp:lastModifiedBy>Денис Кувшинов</cp:lastModifiedBy>
  <dcterms:modified xsi:type="dcterms:W3CDTF">2020-04-01T12:07:36Z</dcterms:modified>
  <cp:revision>7</cp:revision>
  <dc:subject/>
  <dc:title>Слайд 1</dc:title>
</cp:coreProperties>
</file>