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93B-0719-408F-867B-C6392A11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E6F-06AC-4F9A-839E-F57E237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D77-34F3-4EE3-B8DF-557AD382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6A4-C148-4A4C-97B1-2A31EEDC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233-EE24-4483-AB2D-AE0B0189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AED-8BE2-447B-A236-FF7E75B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DD6-6EA4-4580-A5DA-738C278E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9C9-4C8D-4F0B-8FF3-4824094A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D42-0BB9-47CA-B8B0-D3BFAF6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E2E-35F5-4225-B124-85CB4BF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A59-6B96-4A64-A1FE-8FEB16B0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274-194C-4132-8586-0767F171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3642-698A-402B-8294-8DC2D806A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о-исследовательская работа по биоло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ействие естественного отбора на современном этапе антропогене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оподотворение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ушение оплодотвор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оплодотворение 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8" name="Умножение 4"/>
          <p:cNvSpPr/>
          <p:nvPr/>
        </p:nvSpPr>
        <p:spPr>
          <a:xfrm>
            <a:off x="3851280" y="2708280"/>
            <a:ext cx="2087640" cy="41497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плантация зароды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зародыш"/>
          <p:cNvPicPr/>
          <p:nvPr/>
        </p:nvPicPr>
        <p:blipFill>
          <a:blip r:embed="rId1"/>
          <a:stretch/>
        </p:blipFill>
        <p:spPr>
          <a:xfrm>
            <a:off x="2050920" y="1268280"/>
            <a:ext cx="44308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485508070509230016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1485508070509230016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Умножение 4"/>
          <p:cNvSpPr/>
          <p:nvPr/>
        </p:nvSpPr>
        <p:spPr>
          <a:xfrm>
            <a:off x="-214200" y="500040"/>
            <a:ext cx="4071960" cy="5715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alibri"/>
              </a:rPr>
              <a:t>Стабилизирующий отбо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003.gif"/>
          <p:cNvPicPr/>
          <p:nvPr/>
        </p:nvPicPr>
        <p:blipFill>
          <a:blip r:embed="rId1"/>
          <a:stretch/>
        </p:blipFill>
        <p:spPr>
          <a:xfrm>
            <a:off x="2744640" y="1785960"/>
            <a:ext cx="3737160" cy="507204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лево 5"/>
          <p:cNvSpPr/>
          <p:nvPr/>
        </p:nvSpPr>
        <p:spPr>
          <a:xfrm rot="19056600">
            <a:off x="6406920" y="1331640"/>
            <a:ext cx="1974600" cy="909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лево 6"/>
          <p:cNvSpPr/>
          <p:nvPr/>
        </p:nvSpPr>
        <p:spPr>
          <a:xfrm rot="12680400">
            <a:off x="1020600" y="1447560"/>
            <a:ext cx="1974960" cy="90936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лево 7"/>
          <p:cNvSpPr/>
          <p:nvPr/>
        </p:nvSpPr>
        <p:spPr>
          <a:xfrm rot="8607000">
            <a:off x="1076040" y="5213520"/>
            <a:ext cx="1974600" cy="90936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лево 8"/>
          <p:cNvSpPr/>
          <p:nvPr/>
        </p:nvSpPr>
        <p:spPr>
          <a:xfrm rot="2013000">
            <a:off x="6373800" y="5184720"/>
            <a:ext cx="1974960" cy="90972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рушение образования половых клеток и оплодотворения при воздействии негативных фак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оплодотворение 1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Arctic-Original.jpg"/>
          <p:cNvPicPr/>
          <p:nvPr/>
        </p:nvPicPr>
        <p:blipFill>
          <a:blip r:embed="rId2"/>
          <a:stretch/>
        </p:blipFill>
        <p:spPr>
          <a:xfrm>
            <a:off x="7643880" y="2928960"/>
            <a:ext cx="1500120" cy="28735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2768_lb.jpg"/>
          <p:cNvPicPr/>
          <p:nvPr/>
        </p:nvPicPr>
        <p:blipFill>
          <a:blip r:embed="rId3"/>
          <a:stretch/>
        </p:blipFill>
        <p:spPr>
          <a:xfrm>
            <a:off x="0" y="164304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259759418.jpg"/>
          <p:cNvPicPr/>
          <p:nvPr/>
        </p:nvPicPr>
        <p:blipFill>
          <a:blip r:embed="rId4"/>
          <a:stretch/>
        </p:blipFill>
        <p:spPr>
          <a:xfrm>
            <a:off x="0" y="5143680"/>
            <a:ext cx="195732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0"/>
          <p:cNvSpPr/>
          <p:nvPr/>
        </p:nvSpPr>
        <p:spPr>
          <a:xfrm rot="2172000">
            <a:off x="2131920" y="2921040"/>
            <a:ext cx="1752840" cy="725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11"/>
          <p:cNvSpPr/>
          <p:nvPr/>
        </p:nvSpPr>
        <p:spPr>
          <a:xfrm rot="20817000">
            <a:off x="1654200" y="5148000"/>
            <a:ext cx="2041560" cy="861840"/>
          </a:xfrm>
          <a:prstGeom prst="rightArrow">
            <a:avLst>
              <a:gd name="adj1" fmla="val 50000"/>
              <a:gd name="adj2" fmla="val 505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12"/>
          <p:cNvSpPr/>
          <p:nvPr/>
        </p:nvSpPr>
        <p:spPr>
          <a:xfrm rot="10800000">
            <a:off x="6143400" y="4357800"/>
            <a:ext cx="1477800" cy="627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овременном этапе развития человека наряду с доминирующим действием социальных факторов действуют и биологические факторы, одним из которых является естественный отбор. Действие естественного отбора можно проследить на всех уровнях организации организма челов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, что возникновение социальной сферы не отменяет действие биологических факторов. Изучить действие биологических факторов на современном этапе развития челов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действие естественного отбора на современном этапе развития человека на разных уровнях орган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действие форм естественного отбора на организм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дит ли в настоящее время биологическая эволюция человека под действием естественного отбора, или человек есть завершившаяся стадия эволю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йоз. Конъюга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3" descr="мейоз 31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ый ход мейо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мейоз 3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ушенный ход мейо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мейоз 3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6" name="Умножение 4"/>
          <p:cNvSpPr/>
          <p:nvPr/>
        </p:nvSpPr>
        <p:spPr>
          <a:xfrm>
            <a:off x="5143680" y="2286000"/>
            <a:ext cx="235728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множение 5"/>
          <p:cNvSpPr/>
          <p:nvPr/>
        </p:nvSpPr>
        <p:spPr>
          <a:xfrm>
            <a:off x="428760" y="4214880"/>
            <a:ext cx="235728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множение 6"/>
          <p:cNvSpPr/>
          <p:nvPr/>
        </p:nvSpPr>
        <p:spPr>
          <a:xfrm>
            <a:off x="4786200" y="4429080"/>
            <a:ext cx="1857600" cy="20718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множение 7"/>
          <p:cNvSpPr/>
          <p:nvPr/>
        </p:nvSpPr>
        <p:spPr>
          <a:xfrm>
            <a:off x="6715080" y="4429080"/>
            <a:ext cx="1857600" cy="200016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оплодотворение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оплодотворение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54:58Z</dcterms:created>
  <dc:creator>Admin</dc:creator>
  <dc:description/>
  <dc:language>en-US</dc:language>
  <cp:lastModifiedBy>asus</cp:lastModifiedBy>
  <dcterms:modified xsi:type="dcterms:W3CDTF">2015-03-08T09:26:03Z</dcterms:modified>
  <cp:revision>20</cp:revision>
  <dc:subject/>
  <dc:title>Слайд 1</dc:title>
</cp:coreProperties>
</file>