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5A043-A45B-4F30-86EB-B509E4BB14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B9145-9529-41DC-A975-AD34F25B06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BB05-B641-42F2-A5C0-B1D8F070D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3CE4-6987-4BF4-BBDC-18284DBBF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E43F-CEC0-4653-9926-BD749ACEA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F454-B149-4D16-8352-80BFD7F9E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5ADE-1A2A-488E-9773-6FB3588FB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9748-1F29-4A24-B674-CDFBFE9AD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899C-9B1B-47FC-9465-99BA11B78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DCA4-37F5-49AD-A77B-4EDCA5041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FB16-D476-49B9-8EC8-A9316327F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06D8-F65F-4F25-B613-CFBEF268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DD42-F319-4BFB-83D4-77878B6E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8CA7-BA92-475D-9E6C-0F8AD37A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0D658-1FFA-490C-BD64-10A9E2F7AD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http://f2.ifotki.info/org/f09cc2df09b0a32bfc3055e93dc58b5b5c2fcb212479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челюсть и пара позвон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900000" y="2147760"/>
            <a:ext cx="6336000" cy="42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2003 году под Курчатовом во время работы земснаряда на строительстве водохранилища для 5-го энергоблока Курской АЭС был обнаружен череп древнего носорога. По словам специалистов, огромные носороги водились на территории нашей области 30–40 тысяч лет назад. Уживались они рядом с мамонтами. Кстати, при сооружении того же водохранилища нашли и огромный фрагмент челюсти мамон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571400" y="2499840"/>
            <a:ext cx="8258040" cy="5983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Object 4"/>
          <p:cNvGraphicFramePr/>
          <p:nvPr/>
        </p:nvGraphicFramePr>
        <p:xfrm>
          <a:off x="1357200" y="2319480"/>
          <a:ext cx="6143760" cy="4538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8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57200" y="2319480"/>
                    <a:ext cx="6143760" cy="45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257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копаемые остатки древней амфибии, предположительно принадлежавшей к мастодонзаврам , были обнаружены  жителями Фатежского района Курской области случайно , летом 2013 года. При просеивании песка были найдены несколько окаменелостей. Сотрудники Курского областного краеведческого музея, изучив находки, отнесли их к останкам капитазавроидной амфибии, живших в триасовом периоде. Обычно конечности у них были маленькие и слабые, а голова – большая и широкая.</a:t>
            </a:r>
            <a:r>
              <a:rPr b="0" lang="ru-RU" sz="37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700"/>
            </a:b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2124000" y="3645000"/>
            <a:ext cx="468144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«Свидетельства  в пользу…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. собрать факты                 2.сформулировать  гипотез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.из гипотезы вывести следств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.поиск новых фактов, которые позволят эти следствия провери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Доказательства эволюции живот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алеонтологическ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равнительно-анатомическ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эмбриологическ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омет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814716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+  - информация извест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 - новая информ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?  - непонятно, думал инач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*  - хотелось бы узнать боль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Мыслительный ли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785880" y="207180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285840" y="1378800"/>
            <a:ext cx="828684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  <a:ea typeface="Times New Roman"/>
              </a:rPr>
              <a:t>«ПРОДОЛЖИ ФРАЗУ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мне было интересно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я сегодня разобрался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я сегодня понял, что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мне было трудно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очу спросит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 следующем уроке я хочу узнать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250920" y="115920"/>
          <a:ext cx="2195280" cy="2133720"/>
        </p:xfrm>
        <a:graphic>
          <a:graphicData uri="http://schemas.openxmlformats.org/drawingml/2006/table">
            <a:tbl>
              <a:tblPr/>
              <a:tblGrid>
                <a:gridCol w="2195280"/>
              </a:tblGrid>
              <a:tr h="213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3348000" y="115920"/>
          <a:ext cx="2195640" cy="2133720"/>
        </p:xfrm>
        <a:graphic>
          <a:graphicData uri="http://schemas.openxmlformats.org/drawingml/2006/table">
            <a:tbl>
              <a:tblPr/>
              <a:tblGrid>
                <a:gridCol w="2195640"/>
              </a:tblGrid>
              <a:tr h="213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3419640" y="2349360"/>
          <a:ext cx="2195280" cy="2133720"/>
        </p:xfrm>
        <a:graphic>
          <a:graphicData uri="http://schemas.openxmlformats.org/drawingml/2006/table">
            <a:tbl>
              <a:tblPr/>
              <a:tblGrid>
                <a:gridCol w="2195280"/>
              </a:tblGrid>
              <a:tr h="213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6588000" y="2492280"/>
          <a:ext cx="2195640" cy="2133720"/>
        </p:xfrm>
        <a:graphic>
          <a:graphicData uri="http://schemas.openxmlformats.org/drawingml/2006/table">
            <a:tbl>
              <a:tblPr/>
              <a:tblGrid>
                <a:gridCol w="2195640"/>
              </a:tblGrid>
              <a:tr h="213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6659640" y="4724280"/>
          <a:ext cx="2195280" cy="2133720"/>
        </p:xfrm>
        <a:graphic>
          <a:graphicData uri="http://schemas.openxmlformats.org/drawingml/2006/table">
            <a:tbl>
              <a:tblPr/>
              <a:tblGrid>
                <a:gridCol w="2195280"/>
              </a:tblGrid>
              <a:tr h="213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250920" y="4724280"/>
          <a:ext cx="2195280" cy="2133720"/>
        </p:xfrm>
        <a:graphic>
          <a:graphicData uri="http://schemas.openxmlformats.org/drawingml/2006/table">
            <a:tbl>
              <a:tblPr/>
              <a:tblGrid>
                <a:gridCol w="2195280"/>
              </a:tblGrid>
              <a:tr h="213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6588000" y="115920"/>
          <a:ext cx="2195640" cy="2160720"/>
        </p:xfrm>
        <a:graphic>
          <a:graphicData uri="http://schemas.openxmlformats.org/drawingml/2006/table">
            <a:tbl>
              <a:tblPr/>
              <a:tblGrid>
                <a:gridCol w="2195640"/>
              </a:tblGrid>
              <a:tr h="216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3419640" y="4724280"/>
          <a:ext cx="2195280" cy="2133720"/>
        </p:xfrm>
        <a:graphic>
          <a:graphicData uri="http://schemas.openxmlformats.org/drawingml/2006/table">
            <a:tbl>
              <a:tblPr/>
              <a:tblGrid>
                <a:gridCol w="2195280"/>
              </a:tblGrid>
              <a:tr h="213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179280" y="2421000"/>
          <a:ext cx="2195640" cy="2133360"/>
        </p:xfrm>
        <a:graphic>
          <a:graphicData uri="http://schemas.openxmlformats.org/drawingml/2006/table">
            <a:tbl>
              <a:tblPr/>
              <a:tblGrid>
                <a:gridCol w="2195640"/>
              </a:tblGrid>
              <a:tr h="213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Доказательства происхождения живот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793116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ЛЕСЕНКА «МОЁ СОСТОЯНИЕ»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142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мфорт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верен в своих сил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                       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орош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               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лох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райне сквер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ЭВОЛЮЦИЯ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(в биологии)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Большой энциклопедический словарь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волюцией называется необратимый процесс развития любой системы, в результате которого возникают новые структуры и новые функции. В биологии термин «эволюция» (от лат. 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volutio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– развитие, развертывание) впервые использовал швейцарский натуралист Шарль Бонне в 1762 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волюция-процесс исторического развития органического мира от низшего к высшему ,от простого к сложному. Эволюция органического мира связана со сменой условий (климат, рельеф, растительность) происходившей на Земле, в результате  чего виды могут приспособится к этим условиям, измениться и дать начало новым видам, а могут и исчезнуть. Историческое развитие  организмов  называется филогенез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Заголовок 1" descr=""/>
          <p:cNvPicPr/>
          <p:nvPr/>
        </p:nvPicPr>
        <p:blipFill>
          <a:blip r:embed="rId1"/>
          <a:stretch/>
        </p:blipFill>
        <p:spPr>
          <a:xfrm>
            <a:off x="579600" y="476280"/>
            <a:ext cx="8235720" cy="1512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-12600" y="1773360"/>
            <a:ext cx="918504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539640" y="404640"/>
            <a:ext cx="7993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ория , о которой пойдет речь, началась в 2011 году. Тогда несколько геологов Михайловского железорудного карьера  увидели торчащие из песчаной стенки забоя к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ники чудом заметили фрагменты скелета и предположили, что порода скрывает гораздо больше 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месту залегания – пескам  мелового периода – ученые палеонтологи установили, что древнее животное обитало в море, плескавшемся на месте Курской области 120 миллионов лет наза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79280" y="3284640"/>
            <a:ext cx="896472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395280" y="2060640"/>
            <a:ext cx="8113680" cy="460044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5"/>
          <p:cNvSpPr/>
          <p:nvPr/>
        </p:nvSpPr>
        <p:spPr>
          <a:xfrm>
            <a:off x="684360" y="549360"/>
            <a:ext cx="684180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бы освободить фрагменты скелета древнего хищника, в основном, использовали кисти и скребки. При их помощи на поверхности вскоре появились позвонки, зубы, части верхней и нижней челюстей (один фрагмент достигает 80 сантиметров!) доисторического чудищ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ченые установили, что фрагменты принадлежат плиозавру. Гигантские водные рептилии-хищники обитали в океанах во время юрского и мелового периодов. В длину плиозавры достигали 16 метров (из них около двух метров – только голова!) и весили около 12 тонн. Это были самые настоящие морские чудовища – с сильной мускулистой шеей и острыми зубами. Из-за огромных мощных челюстей они были грозой для других ящеров – плезиозавров и ихтиозавров. Одним укусом плиозавры дробили им кости и перекусывали туловища. Если бы эти хищники обитали в наше время, то им ничего бы не стоило перекусить, например, большой внедорожник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Фрагменты железногорского монстра решили передать в городской краеведческий музей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фрагменты реб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258920" y="2190600"/>
            <a:ext cx="684216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4T05:59:05Z</dcterms:created>
  <dc:creator>Биология №208</dc:creator>
  <dc:description/>
  <dc:language>en-US</dc:language>
  <cp:lastModifiedBy>asus</cp:lastModifiedBy>
  <dcterms:modified xsi:type="dcterms:W3CDTF">2015-03-08T09:32:22Z</dcterms:modified>
  <cp:revision>29</cp:revision>
  <dc:subject/>
  <dc:title>Слайд 1</dc:title>
</cp:coreProperties>
</file>