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751C-59C1-40DC-B442-CAA14E0F79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E4EF-0C8F-440D-BB93-C90424FE8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60D-F58C-4436-BE98-29A41331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C71-AD21-495E-9D4D-7C419900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52A-691D-44EF-90AB-C4571D21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35B-CBB0-44DA-B129-4F5C0F08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D86-BFD7-4D56-B1E9-842C71CD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B17-04EE-4F3D-9584-9F7736D5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BE2-4CFE-4841-B464-DE7A12D6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D74-EE8F-498F-B5A4-EF16537C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ECA-CF31-424F-9D76-4102D9E0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925-B01C-4B0D-B243-E44FE50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B4C-4B5A-443F-8D65-73DF61FB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832-EA0B-4B5B-937D-7046BCFC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D859-CCE6-47C4-9844-DDB18F5DC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http://f2.ifotki.info/org/f09cc2df09b0a32bfc3055e93dc58b5b5c2fcb212479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юсть и пара позвон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00000" y="2147760"/>
            <a:ext cx="633600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2003 году под Курчатовом во время работы земснаряда на строительстве водохранилища для 5-го энергоблока Курской АЭС был обнаружен череп древнего носорога. По словам специалистов, огромные носороги водились на территории нашей области 30–40 тысяч лет назад. Уживались они рядом с мамонтами. Кстати, при сооружении того же водохранилища нашли и огромный фрагмент челюсти мам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71400" y="2499840"/>
            <a:ext cx="8258040" cy="598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4"/>
          <p:cNvGraphicFramePr/>
          <p:nvPr/>
        </p:nvGraphicFramePr>
        <p:xfrm>
          <a:off x="1357200" y="2319480"/>
          <a:ext cx="6143760" cy="453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2319480"/>
                    <a:ext cx="614376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паемые остатки древней амфибии, предположительно принадлежавшей к мастодонзаврам , были обнаружены  жителями Фатежского района Курской области случайно , летом 2013 года. При просеивании песка были найдены несколько окаменелостей. Сотрудники Курского областного краеведческого музея, изучив находки, отнесли их к останкам капитазавроидной амфибии, живших в триасовом периоде. Обычно конечности у них были маленькие и слабые, а голова – большая и широкая.</a:t>
            </a:r>
            <a:r>
              <a:rPr b="0" lang="ru-RU" sz="37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46814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Свидетельства  в пользу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собрать факты                 2.сформулировать  гипоте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из гипотезы вывести след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поиск новых фактов, которые позволят эти следствия прове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казательства эволюции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алеонтолог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равнительно-анатом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бриолог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ме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47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 - информация извес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- нов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  - непонятно, думал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*  - хотелось бы узнать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ыслитель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5840" y="1378800"/>
            <a:ext cx="82868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«ПРОДОЛЖИ ФРАЗ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сегодня разобралс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сегодн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труд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чу спрос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ледующем уроке я хочу узнать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115920"/>
          <a:ext cx="2195280" cy="2133720"/>
        </p:xfrm>
        <a:graphic>
          <a:graphicData uri="http://schemas.openxmlformats.org/drawingml/2006/table">
            <a:tbl>
              <a:tblPr/>
              <a:tblGrid>
                <a:gridCol w="21952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348000" y="115920"/>
          <a:ext cx="2195640" cy="2133720"/>
        </p:xfrm>
        <a:graphic>
          <a:graphicData uri="http://schemas.openxmlformats.org/drawingml/2006/table">
            <a:tbl>
              <a:tblPr/>
              <a:tblGrid>
                <a:gridCol w="219564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419640" y="2349360"/>
          <a:ext cx="2195280" cy="2133720"/>
        </p:xfrm>
        <a:graphic>
          <a:graphicData uri="http://schemas.openxmlformats.org/drawingml/2006/table">
            <a:tbl>
              <a:tblPr/>
              <a:tblGrid>
                <a:gridCol w="21952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588000" y="2492280"/>
          <a:ext cx="2195640" cy="2133720"/>
        </p:xfrm>
        <a:graphic>
          <a:graphicData uri="http://schemas.openxmlformats.org/drawingml/2006/table">
            <a:tbl>
              <a:tblPr/>
              <a:tblGrid>
                <a:gridCol w="219564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659640" y="4724280"/>
          <a:ext cx="2195280" cy="2133720"/>
        </p:xfrm>
        <a:graphic>
          <a:graphicData uri="http://schemas.openxmlformats.org/drawingml/2006/table">
            <a:tbl>
              <a:tblPr/>
              <a:tblGrid>
                <a:gridCol w="21952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50920" y="4724280"/>
          <a:ext cx="2195280" cy="2133720"/>
        </p:xfrm>
        <a:graphic>
          <a:graphicData uri="http://schemas.openxmlformats.org/drawingml/2006/table">
            <a:tbl>
              <a:tblPr/>
              <a:tblGrid>
                <a:gridCol w="21952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588000" y="115920"/>
          <a:ext cx="2195640" cy="2160720"/>
        </p:xfrm>
        <a:graphic>
          <a:graphicData uri="http://schemas.openxmlformats.org/drawingml/2006/table">
            <a:tbl>
              <a:tblPr/>
              <a:tblGrid>
                <a:gridCol w="2195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419640" y="4724280"/>
          <a:ext cx="2195280" cy="2133720"/>
        </p:xfrm>
        <a:graphic>
          <a:graphicData uri="http://schemas.openxmlformats.org/drawingml/2006/table">
            <a:tbl>
              <a:tblPr/>
              <a:tblGrid>
                <a:gridCol w="21952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79280" y="2421000"/>
          <a:ext cx="2195640" cy="2133360"/>
        </p:xfrm>
        <a:graphic>
          <a:graphicData uri="http://schemas.openxmlformats.org/drawingml/2006/table">
            <a:tbl>
              <a:tblPr/>
              <a:tblGrid>
                <a:gridCol w="219564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казательства происхождения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93116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ЕСЕНКА «МОЁ СОСТОЯНИЕ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фор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ерен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  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йне сквер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ВОЛЮЦИЯ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(в биологии)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льшой энциклопедический словарь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волюцией называется необратимый процесс развития любой системы, в результате которого возникают новые структуры и новые функции. В биологии термин «эволюция» (от лат.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oluti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– развитие, развертывание) впервые использовал швейцарский натуралист Шарль Бонне в 1762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волюция-процесс исторического развития органического мира от низшего к высшему ,от простого к сложному. Эволюция органического мира связана со сменой условий (климат, рельеф, растительность) происходившей на Земле, в результате  чего виды могут приспособится к этим условиям, измениться и дать начало новым видам, а могут и исчезнуть. Историческое развитие  организмов  называется филогене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579600" y="476280"/>
            <a:ext cx="8235720" cy="151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-12600" y="1773360"/>
            <a:ext cx="91850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539640" y="40464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, о которой пойдет речь, началась в 2011 году. Тогда несколько геологов Михайловского железорудного карьера  увидели торчащие из песчаной стенки забоя 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ники чудом заметили фрагменты скелета и предположили, что порода скрывает гораздо больше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сту залегания – пескам  мелового периода – ученые палеонтологи установили, что древнее животное обитало в море, плескавшемся на месте Курской области 120 миллионов лет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964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113680" cy="4600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684360" y="549360"/>
            <a:ext cx="6841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свободить фрагменты скелета древнего хищника, в основном, использовали кисти и скребки. При их помощи на поверхности вскоре появились позвонки, зубы, части верхней и нижней челюстей (один фрагмент достигает 80 сантиметров!) доисторического чуд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еные установили, что фрагменты принадлежат плиозавру. Гигантские водные рептилии-хищники обитали в океанах во время юрского и мелового периодов. В длину плиозавры достигали 16 метров (из них около двух метров – только голова!) и весили около 12 тонн. Это были самые настоящие морские чудовища – с сильной мускулистой шеей и острыми зубами. Из-за огромных мощных челюстей они были грозой для других ящеров – плезиозавров и ихтиозавров. Одним укусом плиозавры дробили им кости и перекусывали туловища. Если бы эти хищники обитали в наше время, то им ничего бы не стоило перекусить, например, большой внедорожни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рагменты железногорского монстра решили передать в городской краеведческий муз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фрагменты реб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258920" y="2190600"/>
            <a:ext cx="68421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5:59:05Z</dcterms:created>
  <dc:creator>Биология №208</dc:creator>
  <dc:description/>
  <dc:language>en-US</dc:language>
  <cp:lastModifiedBy>asus</cp:lastModifiedBy>
  <dcterms:modified xsi:type="dcterms:W3CDTF">2015-03-08T09:32:22Z</dcterms:modified>
  <cp:revision>29</cp:revision>
  <dc:subject/>
  <dc:title>Слайд 1</dc:title>
</cp:coreProperties>
</file>