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BB54-7EAF-475B-90AA-FED02AE21C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1CF-E99C-4C92-A4A5-C03808B989C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3C2-0A1C-47D4-A4E5-B653D287D8E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CBC-0954-4BFB-9B6E-0F3F535401A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77B-C7BA-478E-B293-9BA601A925E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3344-0308-4ACF-B546-D87B5C9F378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FE1-F15F-4404-82EB-CE95E6CE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7E7-05DF-46F1-A9A6-C5AF0F5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1F2-9201-46DC-8E69-219882CB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19A-E86D-4483-B2DE-C69DAE3E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E7F-5C02-46B4-A83F-4A125AAD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2AE-172C-4331-9F6F-66246DCE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394E-564C-4DCD-8896-0607E588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3B7-F2D3-42E4-B06B-6DCE8FC2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DC3D-1ACC-4FDA-AB03-EE15AF62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4BB0-CE2D-489B-B8A3-E3D7C356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CB6E-0A3B-4806-A7D2-CE55978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EB6-7365-4210-898E-C3EC948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0256-C626-41D2-957C-521059D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3532-C52A-4ED3-9952-0819A449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88E-CBE4-43C1-BAD1-D79D0F31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D7FC-420C-44FB-8CFF-2737FEFE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8F8-2DED-454D-B875-1D1B370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810-A3B5-4143-BF5D-60DFCE07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8FC-CA80-4C11-967D-C4BBB12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76F-E89B-4892-B198-AA5CA7F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93F-7622-46B9-B191-DFF300B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AE9-BB8C-430A-A702-409A2A17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1A2-4ACC-41F6-BB16-EAF8AF4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C67-AE16-4868-AD18-7D22615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EA88-46E2-4CEE-A31B-A9B6E7B76E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217-3BA8-4E50-A190-6108A7FF81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Двоичная система счисления. Двоичная арифметик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4032360" y="515772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ель: Куляпина Елизавета Сергее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4"/>
          <p:cNvGrpSpPr/>
          <p:nvPr/>
        </p:nvGrpSpPr>
        <p:grpSpPr>
          <a:xfrm>
            <a:off x="3492360" y="333360"/>
            <a:ext cx="5183280" cy="863640"/>
            <a:chOff x="3492360" y="333360"/>
            <a:chExt cx="5183280" cy="863640"/>
          </a:xfrm>
        </p:grpSpPr>
        <p:sp>
          <p:nvSpPr>
            <p:cNvPr id="264" name="Text Box 2"/>
            <p:cNvSpPr/>
            <p:nvPr/>
          </p:nvSpPr>
          <p:spPr>
            <a:xfrm>
              <a:off x="4572000" y="333360"/>
              <a:ext cx="331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5" name="Group 3"/>
            <p:cNvGrpSpPr/>
            <p:nvPr/>
          </p:nvGrpSpPr>
          <p:grpSpPr>
            <a:xfrm>
              <a:off x="3492360" y="1052640"/>
              <a:ext cx="5183280" cy="144360"/>
              <a:chOff x="3492360" y="1052640"/>
              <a:chExt cx="5183280" cy="144360"/>
            </a:xfrm>
          </p:grpSpPr>
          <p:sp>
            <p:nvSpPr>
              <p:cNvPr id="266" name="Line 4"/>
              <p:cNvSpPr/>
              <p:nvPr/>
            </p:nvSpPr>
            <p:spPr>
              <a:xfrm>
                <a:off x="3492360" y="1052640"/>
                <a:ext cx="518328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Line 5"/>
              <p:cNvSpPr/>
              <p:nvPr/>
            </p:nvSpPr>
            <p:spPr>
              <a:xfrm>
                <a:off x="4284720" y="1197000"/>
                <a:ext cx="439092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68" name="Text Box 7"/>
          <p:cNvSpPr/>
          <p:nvPr/>
        </p:nvSpPr>
        <p:spPr>
          <a:xfrm>
            <a:off x="250920" y="2708280"/>
            <a:ext cx="7057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а) 10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476360" y="1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Выполнить сложение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0" y="3500280"/>
            <a:ext cx="745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б) 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0" y="4292640"/>
            <a:ext cx="702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в) 10110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0" y="4941720"/>
            <a:ext cx="730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г) 10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0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0" y="5732640"/>
            <a:ext cx="694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д) 101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227640" y="2708280"/>
            <a:ext cx="23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0110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4572000" y="3500280"/>
            <a:ext cx="23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00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5292720" y="4365720"/>
            <a:ext cx="23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0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5796000" y="4941720"/>
            <a:ext cx="302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1000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148360" y="5805360"/>
            <a:ext cx="2303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010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читание в двоичной системе счисле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76360" y="2923920"/>
            <a:ext cx="325116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0 – 0 = 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– 0 =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0 – 1 = -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– 1 = 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5867280" y="407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10 - 1 =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6"/>
          <p:cNvSpPr/>
          <p:nvPr/>
        </p:nvSpPr>
        <p:spPr>
          <a:xfrm>
            <a:off x="1160280" y="175428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800360" y="2349360"/>
          <a:ext cx="2050920" cy="1584360"/>
        </p:xfrm>
        <a:graphic>
          <a:graphicData uri="http://schemas.openxmlformats.org/drawingml/2006/table">
            <a:tbl>
              <a:tblPr/>
              <a:tblGrid>
                <a:gridCol w="409320"/>
                <a:gridCol w="411120"/>
                <a:gridCol w="409680"/>
                <a:gridCol w="411120"/>
                <a:gridCol w="409680"/>
              </a:tblGrid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537080" y="2362320"/>
          <a:ext cx="2050920" cy="1584360"/>
        </p:xfrm>
        <a:graphic>
          <a:graphicData uri="http://schemas.openxmlformats.org/drawingml/2006/table">
            <a:tbl>
              <a:tblPr/>
              <a:tblGrid>
                <a:gridCol w="409680"/>
                <a:gridCol w="411120"/>
                <a:gridCol w="409680"/>
                <a:gridCol w="411120"/>
                <a:gridCol w="409320"/>
              </a:tblGrid>
              <a:tr h="52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Прямоугольник 1" descr=""/>
          <p:cNvPicPr/>
          <p:nvPr/>
        </p:nvPicPr>
        <p:blipFill>
          <a:blip r:embed="rId1"/>
          <a:stretch/>
        </p:blipFill>
        <p:spPr>
          <a:xfrm>
            <a:off x="1871640" y="262080"/>
            <a:ext cx="6370560" cy="10303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4"/>
          <p:cNvSpPr/>
          <p:nvPr/>
        </p:nvSpPr>
        <p:spPr>
          <a:xfrm>
            <a:off x="3451320" y="3941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3049560" y="394164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2265480" y="25653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Овальная выноска 17"/>
          <p:cNvSpPr/>
          <p:nvPr/>
        </p:nvSpPr>
        <p:spPr>
          <a:xfrm>
            <a:off x="2859120" y="1982880"/>
            <a:ext cx="1755720" cy="704880"/>
          </a:xfrm>
          <a:prstGeom prst="wedgeEllipseCallout">
            <a:avLst>
              <a:gd name="adj1" fmla="val -54546"/>
              <a:gd name="adj2" fmla="val 7719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1=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Box 18"/>
          <p:cNvSpPr/>
          <p:nvPr/>
        </p:nvSpPr>
        <p:spPr>
          <a:xfrm>
            <a:off x="2630520" y="394164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6207120" y="394164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20"/>
          <p:cNvSpPr/>
          <p:nvPr/>
        </p:nvSpPr>
        <p:spPr>
          <a:xfrm>
            <a:off x="5411880" y="25653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4968720" y="2565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Овальная выноска 22"/>
          <p:cNvSpPr/>
          <p:nvPr/>
        </p:nvSpPr>
        <p:spPr>
          <a:xfrm>
            <a:off x="6012000" y="1982880"/>
            <a:ext cx="1757160" cy="704880"/>
          </a:xfrm>
          <a:prstGeom prst="wedgeEllipseCallout">
            <a:avLst>
              <a:gd name="adj1" fmla="val -54546"/>
              <a:gd name="adj2" fmla="val 7719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1=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Box 25"/>
          <p:cNvSpPr/>
          <p:nvPr/>
        </p:nvSpPr>
        <p:spPr>
          <a:xfrm>
            <a:off x="5786280" y="3941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Овальная выноска 28"/>
          <p:cNvSpPr/>
          <p:nvPr/>
        </p:nvSpPr>
        <p:spPr>
          <a:xfrm>
            <a:off x="5054760" y="1887480"/>
            <a:ext cx="922320" cy="533520"/>
          </a:xfrm>
          <a:prstGeom prst="wedgeEllipseCallout">
            <a:avLst>
              <a:gd name="adj1" fmla="val 1916"/>
              <a:gd name="adj2" fmla="val 12507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Прямоугольник 23"/>
          <p:cNvSpPr/>
          <p:nvPr/>
        </p:nvSpPr>
        <p:spPr>
          <a:xfrm>
            <a:off x="8028000" y="6308640"/>
            <a:ext cx="647640" cy="360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"/>
          <p:cNvSpPr/>
          <p:nvPr/>
        </p:nvSpPr>
        <p:spPr>
          <a:xfrm>
            <a:off x="324000" y="1700280"/>
            <a:ext cx="482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а) 100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- 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0" y="2637000"/>
            <a:ext cx="579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б) 10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- 110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0" y="3429000"/>
            <a:ext cx="565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в) 10000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- 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0" y="4292640"/>
            <a:ext cx="579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г) 10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- 1010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0" y="5300640"/>
            <a:ext cx="608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д) 101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- 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4140360" y="1844640"/>
            <a:ext cx="1079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292720" y="2637000"/>
            <a:ext cx="273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5219640" y="3500280"/>
            <a:ext cx="23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5219640" y="4365720"/>
            <a:ext cx="26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5292720" y="5373720"/>
            <a:ext cx="23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00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3203640" y="333360"/>
            <a:ext cx="5183280" cy="863640"/>
            <a:chOff x="3203640" y="333360"/>
            <a:chExt cx="5183280" cy="863640"/>
          </a:xfrm>
        </p:grpSpPr>
        <p:grpSp>
          <p:nvGrpSpPr>
            <p:cNvPr id="309" name="Group 3"/>
            <p:cNvGrpSpPr/>
            <p:nvPr/>
          </p:nvGrpSpPr>
          <p:grpSpPr>
            <a:xfrm>
              <a:off x="3203640" y="1052640"/>
              <a:ext cx="5183280" cy="144360"/>
              <a:chOff x="3203640" y="1052640"/>
              <a:chExt cx="5183280" cy="144360"/>
            </a:xfrm>
          </p:grpSpPr>
          <p:sp>
            <p:nvSpPr>
              <p:cNvPr id="310" name="Line 4"/>
              <p:cNvSpPr/>
              <p:nvPr/>
            </p:nvSpPr>
            <p:spPr>
              <a:xfrm>
                <a:off x="3203640" y="1052640"/>
                <a:ext cx="518328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Line 5"/>
              <p:cNvSpPr/>
              <p:nvPr/>
            </p:nvSpPr>
            <p:spPr>
              <a:xfrm>
                <a:off x="3996000" y="1197000"/>
                <a:ext cx="439092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2" name="Text Box 17"/>
            <p:cNvSpPr/>
            <p:nvPr/>
          </p:nvSpPr>
          <p:spPr>
            <a:xfrm>
              <a:off x="4283280" y="333360"/>
              <a:ext cx="40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3" name="Text Box 18"/>
          <p:cNvSpPr/>
          <p:nvPr/>
        </p:nvSpPr>
        <p:spPr>
          <a:xfrm>
            <a:off x="755640" y="404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ыполнить вычит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множение в двоичной системе счисле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771280" y="263700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∙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0 = 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∙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0 = 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∙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= 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∙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340000" y="2633760"/>
          <a:ext cx="1944720" cy="1006200"/>
        </p:xfrm>
        <a:graphic>
          <a:graphicData uri="http://schemas.openxmlformats.org/drawingml/2006/table">
            <a:tbl>
              <a:tblPr/>
              <a:tblGrid>
                <a:gridCol w="388800"/>
                <a:gridCol w="389160"/>
                <a:gridCol w="388800"/>
                <a:gridCol w="388800"/>
                <a:gridCol w="38916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80000" y="2633760"/>
          <a:ext cx="2232000" cy="2557440"/>
        </p:xfrm>
        <a:graphic>
          <a:graphicData uri="http://schemas.openxmlformats.org/drawingml/2006/table">
            <a:tbl>
              <a:tblPr/>
              <a:tblGrid>
                <a:gridCol w="319320"/>
                <a:gridCol w="318960"/>
                <a:gridCol w="318960"/>
                <a:gridCol w="317520"/>
                <a:gridCol w="319320"/>
                <a:gridCol w="318960"/>
                <a:gridCol w="318960"/>
              </a:tblGrid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Прямоугольник 10"/>
          <p:cNvSpPr/>
          <p:nvPr/>
        </p:nvSpPr>
        <p:spPr>
          <a:xfrm>
            <a:off x="1212840" y="2154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9" name="Прямоугольник 1" descr=""/>
          <p:cNvPicPr/>
          <p:nvPr/>
        </p:nvPicPr>
        <p:blipFill>
          <a:blip r:embed="rId1"/>
          <a:stretch/>
        </p:blipFill>
        <p:spPr>
          <a:xfrm>
            <a:off x="1085760" y="262080"/>
            <a:ext cx="8107560" cy="14634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4"/>
          <p:cNvSpPr/>
          <p:nvPr/>
        </p:nvSpPr>
        <p:spPr>
          <a:xfrm>
            <a:off x="3913200" y="3649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3497400" y="364968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3121200" y="364968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18"/>
          <p:cNvSpPr/>
          <p:nvPr/>
        </p:nvSpPr>
        <p:spPr>
          <a:xfrm>
            <a:off x="3505320" y="41115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3110040" y="41115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2743200" y="4111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Прямая соединительная линия 4"/>
          <p:cNvSpPr/>
          <p:nvPr/>
        </p:nvSpPr>
        <p:spPr>
          <a:xfrm>
            <a:off x="2709720" y="4573440"/>
            <a:ext cx="152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22"/>
          <p:cNvSpPr/>
          <p:nvPr/>
        </p:nvSpPr>
        <p:spPr>
          <a:xfrm>
            <a:off x="3903840" y="457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Box 23"/>
          <p:cNvSpPr/>
          <p:nvPr/>
        </p:nvSpPr>
        <p:spPr>
          <a:xfrm>
            <a:off x="3497400" y="457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Box 24"/>
          <p:cNvSpPr/>
          <p:nvPr/>
        </p:nvSpPr>
        <p:spPr>
          <a:xfrm>
            <a:off x="3110040" y="4579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25"/>
          <p:cNvSpPr/>
          <p:nvPr/>
        </p:nvSpPr>
        <p:spPr>
          <a:xfrm>
            <a:off x="2733840" y="45831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Box 26"/>
          <p:cNvSpPr/>
          <p:nvPr/>
        </p:nvSpPr>
        <p:spPr>
          <a:xfrm>
            <a:off x="2536920" y="3940200"/>
            <a:ext cx="30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Прямоугольник 27"/>
          <p:cNvSpPr/>
          <p:nvPr/>
        </p:nvSpPr>
        <p:spPr>
          <a:xfrm>
            <a:off x="7740720" y="6165720"/>
            <a:ext cx="647640" cy="2876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971640" y="476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ыполнить умноже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08000" y="1844640"/>
            <a:ext cx="511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а) 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·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4572000" y="1844640"/>
            <a:ext cx="23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0" y="2708280"/>
            <a:ext cx="543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б) 10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·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4500720" y="2781360"/>
            <a:ext cx="2303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0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0" y="3645000"/>
            <a:ext cx="687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в) 10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·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5219640" y="3716280"/>
            <a:ext cx="36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1001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0" y="4653000"/>
            <a:ext cx="579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г) 1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·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5076720" y="4724280"/>
            <a:ext cx="309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0000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0" y="5589720"/>
            <a:ext cx="709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д) 1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·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0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5003640" y="5661000"/>
            <a:ext cx="36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1010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3492360" y="333360"/>
            <a:ext cx="5183280" cy="863640"/>
            <a:chOff x="3492360" y="333360"/>
            <a:chExt cx="5183280" cy="863640"/>
          </a:xfrm>
        </p:grpSpPr>
        <p:sp>
          <p:nvSpPr>
            <p:cNvPr id="345" name="Text Box 22"/>
            <p:cNvSpPr/>
            <p:nvPr/>
          </p:nvSpPr>
          <p:spPr>
            <a:xfrm>
              <a:off x="4572000" y="333360"/>
              <a:ext cx="40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6" name="Group 23"/>
            <p:cNvGrpSpPr/>
            <p:nvPr/>
          </p:nvGrpSpPr>
          <p:grpSpPr>
            <a:xfrm>
              <a:off x="3492360" y="1052640"/>
              <a:ext cx="5183280" cy="144360"/>
              <a:chOff x="3492360" y="1052640"/>
              <a:chExt cx="5183280" cy="144360"/>
            </a:xfrm>
          </p:grpSpPr>
          <p:sp>
            <p:nvSpPr>
              <p:cNvPr id="347" name="Line 24"/>
              <p:cNvSpPr/>
              <p:nvPr/>
            </p:nvSpPr>
            <p:spPr>
              <a:xfrm>
                <a:off x="3492360" y="1052640"/>
                <a:ext cx="518328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" name="Line 25"/>
              <p:cNvSpPr/>
              <p:nvPr/>
            </p:nvSpPr>
            <p:spPr>
              <a:xfrm>
                <a:off x="4284720" y="1197000"/>
                <a:ext cx="439092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996480" y="1309320"/>
            <a:ext cx="75358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Деление в двоичной системе счисления выполняется, как и в десятичной систем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Прямоугольник 8" descr=""/>
          <p:cNvPicPr/>
          <p:nvPr/>
        </p:nvPicPr>
        <p:blipFill>
          <a:blip r:embed="rId1"/>
          <a:stretch/>
        </p:blipFill>
        <p:spPr>
          <a:xfrm>
            <a:off x="3456000" y="311040"/>
            <a:ext cx="2878200" cy="74304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7"/>
          <p:cNvSpPr/>
          <p:nvPr/>
        </p:nvSpPr>
        <p:spPr>
          <a:xfrm>
            <a:off x="1128240" y="21733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149640" y="2604960"/>
          <a:ext cx="3222720" cy="914400"/>
        </p:xfrm>
        <a:graphic>
          <a:graphicData uri="http://schemas.openxmlformats.org/drawingml/2006/table">
            <a:tbl>
              <a:tblPr/>
              <a:tblGrid>
                <a:gridCol w="322200"/>
                <a:gridCol w="322200"/>
                <a:gridCol w="322200"/>
                <a:gridCol w="322560"/>
                <a:gridCol w="322200"/>
                <a:gridCol w="322200"/>
                <a:gridCol w="322200"/>
                <a:gridCol w="322200"/>
                <a:gridCol w="322200"/>
                <a:gridCol w="322560"/>
              </a:tblGrid>
              <a:tr h="459720">
                <a:tc rowSpan="2"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14"/>
          <p:cNvSpPr/>
          <p:nvPr/>
        </p:nvSpPr>
        <p:spPr>
          <a:xfrm>
            <a:off x="3470400" y="26049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15"/>
          <p:cNvSpPr/>
          <p:nvPr/>
        </p:nvSpPr>
        <p:spPr>
          <a:xfrm>
            <a:off x="3792600" y="260496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4114800" y="2603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5076720" y="306720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3236760" y="276084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3780000" y="3068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4108320" y="306396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Прямая соединительная линия 3"/>
          <p:cNvSpPr/>
          <p:nvPr/>
        </p:nvSpPr>
        <p:spPr>
          <a:xfrm>
            <a:off x="3519360" y="3525840"/>
            <a:ext cx="871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TextBox 22"/>
          <p:cNvSpPr/>
          <p:nvPr/>
        </p:nvSpPr>
        <p:spPr>
          <a:xfrm>
            <a:off x="4108320" y="354348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Box 23"/>
          <p:cNvSpPr/>
          <p:nvPr/>
        </p:nvSpPr>
        <p:spPr>
          <a:xfrm>
            <a:off x="3516480" y="219060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3792600" y="353700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4440240" y="2604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5410080" y="3068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Box 27"/>
          <p:cNvSpPr/>
          <p:nvPr/>
        </p:nvSpPr>
        <p:spPr>
          <a:xfrm>
            <a:off x="4462560" y="3997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TextBox 28"/>
          <p:cNvSpPr/>
          <p:nvPr/>
        </p:nvSpPr>
        <p:spPr>
          <a:xfrm>
            <a:off x="4108320" y="399744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Box 29"/>
          <p:cNvSpPr/>
          <p:nvPr/>
        </p:nvSpPr>
        <p:spPr>
          <a:xfrm>
            <a:off x="3559320" y="367200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Прямая соединительная линия 30"/>
          <p:cNvSpPr/>
          <p:nvPr/>
        </p:nvSpPr>
        <p:spPr>
          <a:xfrm>
            <a:off x="3862440" y="4459320"/>
            <a:ext cx="871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Box 31"/>
          <p:cNvSpPr/>
          <p:nvPr/>
        </p:nvSpPr>
        <p:spPr>
          <a:xfrm>
            <a:off x="4462560" y="4468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Box 32"/>
          <p:cNvSpPr/>
          <p:nvPr/>
        </p:nvSpPr>
        <p:spPr>
          <a:xfrm>
            <a:off x="4761000" y="260208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Box 33"/>
          <p:cNvSpPr/>
          <p:nvPr/>
        </p:nvSpPr>
        <p:spPr>
          <a:xfrm>
            <a:off x="5719680" y="30751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34"/>
          <p:cNvSpPr/>
          <p:nvPr/>
        </p:nvSpPr>
        <p:spPr>
          <a:xfrm>
            <a:off x="4772160" y="493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4479840" y="49309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Box 36"/>
          <p:cNvSpPr/>
          <p:nvPr/>
        </p:nvSpPr>
        <p:spPr>
          <a:xfrm>
            <a:off x="4262400" y="4638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Прямая соединительная линия 37"/>
          <p:cNvSpPr/>
          <p:nvPr/>
        </p:nvSpPr>
        <p:spPr>
          <a:xfrm>
            <a:off x="4479840" y="5392800"/>
            <a:ext cx="54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Box 41"/>
          <p:cNvSpPr/>
          <p:nvPr/>
        </p:nvSpPr>
        <p:spPr>
          <a:xfrm>
            <a:off x="4786200" y="539280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TextBox 42"/>
          <p:cNvSpPr/>
          <p:nvPr/>
        </p:nvSpPr>
        <p:spPr>
          <a:xfrm>
            <a:off x="4146480" y="327672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Box 43"/>
          <p:cNvSpPr/>
          <p:nvPr/>
        </p:nvSpPr>
        <p:spPr>
          <a:xfrm>
            <a:off x="3780000" y="3284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0162 L -0.00017 0.1375 E">
                                      <p:cBhvr>
                                        <p:cTn id="874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00034 0.27269 E">
                                      <p:cBhvr>
                                        <p:cTn id="918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2340000" y="476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ыполнить деле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324000" y="1916280"/>
            <a:ext cx="604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а) 11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0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5003640" y="1916280"/>
            <a:ext cx="2160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324000" y="2997360"/>
            <a:ext cx="54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б) 11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788000" y="3068640"/>
            <a:ext cx="143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50920" y="4292640"/>
            <a:ext cx="698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в) 111001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6335640" y="4292640"/>
            <a:ext cx="28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Verdana"/>
              </a:rPr>
              <a:t>10101</a:t>
            </a:r>
            <a:r>
              <a:rPr b="1" i="1" lang="ru-RU" sz="36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7" name="Group 18"/>
          <p:cNvGrpSpPr/>
          <p:nvPr/>
        </p:nvGrpSpPr>
        <p:grpSpPr>
          <a:xfrm>
            <a:off x="3492360" y="260280"/>
            <a:ext cx="5256360" cy="936720"/>
            <a:chOff x="3492360" y="260280"/>
            <a:chExt cx="5256360" cy="936720"/>
          </a:xfrm>
        </p:grpSpPr>
        <p:sp>
          <p:nvSpPr>
            <p:cNvPr id="388" name="Text Box 19"/>
            <p:cNvSpPr/>
            <p:nvPr/>
          </p:nvSpPr>
          <p:spPr>
            <a:xfrm>
              <a:off x="5797440" y="260280"/>
              <a:ext cx="295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9" name="Group 20"/>
            <p:cNvGrpSpPr/>
            <p:nvPr/>
          </p:nvGrpSpPr>
          <p:grpSpPr>
            <a:xfrm>
              <a:off x="3492360" y="1052640"/>
              <a:ext cx="5183280" cy="144360"/>
              <a:chOff x="3492360" y="1052640"/>
              <a:chExt cx="5183280" cy="144360"/>
            </a:xfrm>
          </p:grpSpPr>
          <p:sp>
            <p:nvSpPr>
              <p:cNvPr id="390" name="Line 21"/>
              <p:cNvSpPr/>
              <p:nvPr/>
            </p:nvSpPr>
            <p:spPr>
              <a:xfrm>
                <a:off x="3492360" y="1052640"/>
                <a:ext cx="518328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1" name="Line 22"/>
              <p:cNvSpPr/>
              <p:nvPr/>
            </p:nvSpPr>
            <p:spPr>
              <a:xfrm>
                <a:off x="4284720" y="1197000"/>
                <a:ext cx="439092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. 18, выполнить самостоятельную работу. Сделать краткую запись презентац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Существует множество различных систем счисления (СС)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4724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а сегодняшнем уроке мы рассмотрим двоичную систему счисл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84360" y="206064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воичная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Пятеричная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Шестеричная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Восьмеричная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Десятичная,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друг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амостоятельная 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 Выполните сложение:       №2 Выполните умножени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0101+101=                          1) 100001*10010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1101+111=                            2) 110001*1011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001,1+11,01=                        3) 101*101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 Выполните вычитание:    №4 Выполните делени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00101-1010=                      1) 10000:10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01101-110=                          2) 101101:101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0101-101=                            3)  100011:11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9167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Двоичное число можно представить в виде десятичного и наоборо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вод из двоичной СС в десятичную СС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озьмём, к примеру, следующее двоичное число 101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 1∙2</a:t>
            </a:r>
            <a:r>
              <a:rPr b="1" i="1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0∙2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+ 1∙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∙2</a:t>
            </a:r>
            <a:r>
              <a:rPr b="1" i="1" lang="ru-RU" sz="36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1∙2</a:t>
            </a:r>
            <a:r>
              <a:rPr b="1" i="1" lang="ru-RU" sz="36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0∙2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+ 1∙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Verdana"/>
              </a:rPr>
              <a:t>1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 1∙2</a:t>
            </a:r>
            <a:r>
              <a:rPr b="1" i="1" lang="ru-RU" sz="3600" spc="-1" strike="noStrike" baseline="30000">
                <a:solidFill>
                  <a:srgbClr val="ffffff"/>
                </a:solidFill>
                <a:latin typeface="Verdana"/>
              </a:rPr>
              <a:t>0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= 8 + 0+ 2 + 1 =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= 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евод числа из десятеричной системы счисления в двоичну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2" name="Группа 4"/>
          <p:cNvGrpSpPr/>
          <p:nvPr/>
        </p:nvGrpSpPr>
        <p:grpSpPr>
          <a:xfrm>
            <a:off x="3635280" y="1773360"/>
            <a:ext cx="576360" cy="863640"/>
            <a:chOff x="3635280" y="1773360"/>
            <a:chExt cx="576360" cy="863640"/>
          </a:xfrm>
        </p:grpSpPr>
        <p:sp>
          <p:nvSpPr>
            <p:cNvPr id="173" name="Прямая соединительная линия 25"/>
            <p:cNvSpPr/>
            <p:nvPr/>
          </p:nvSpPr>
          <p:spPr>
            <a:xfrm>
              <a:off x="3635280" y="1773360"/>
              <a:ext cx="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Прямая соединительная линия 27"/>
            <p:cNvSpPr/>
            <p:nvPr/>
          </p:nvSpPr>
          <p:spPr>
            <a:xfrm>
              <a:off x="3635280" y="220500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5" name="TextBox 5"/>
          <p:cNvSpPr/>
          <p:nvPr/>
        </p:nvSpPr>
        <p:spPr>
          <a:xfrm>
            <a:off x="284328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3724200" y="1628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851280" y="220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843280" y="2133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Прямая соединительная линия 10"/>
          <p:cNvSpPr/>
          <p:nvPr/>
        </p:nvSpPr>
        <p:spPr>
          <a:xfrm>
            <a:off x="2556000" y="2133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Прямая соединительная линия 12"/>
          <p:cNvSpPr/>
          <p:nvPr/>
        </p:nvSpPr>
        <p:spPr>
          <a:xfrm>
            <a:off x="2916360" y="270828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05928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Группа 14"/>
          <p:cNvGrpSpPr/>
          <p:nvPr/>
        </p:nvGrpSpPr>
        <p:grpSpPr>
          <a:xfrm>
            <a:off x="4572000" y="2276640"/>
            <a:ext cx="576360" cy="863280"/>
            <a:chOff x="4572000" y="2276640"/>
            <a:chExt cx="576360" cy="863280"/>
          </a:xfrm>
        </p:grpSpPr>
        <p:sp>
          <p:nvSpPr>
            <p:cNvPr id="183" name="Прямая соединительная линия 15"/>
            <p:cNvSpPr/>
            <p:nvPr/>
          </p:nvSpPr>
          <p:spPr>
            <a:xfrm>
              <a:off x="4572000" y="2276640"/>
              <a:ext cx="0" cy="86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Прямая соединительная линия 16"/>
            <p:cNvSpPr/>
            <p:nvPr/>
          </p:nvSpPr>
          <p:spPr>
            <a:xfrm>
              <a:off x="4572000" y="270828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5" name="TextBox 20"/>
          <p:cNvSpPr/>
          <p:nvPr/>
        </p:nvSpPr>
        <p:spPr>
          <a:xfrm>
            <a:off x="4643280" y="220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21"/>
          <p:cNvSpPr/>
          <p:nvPr/>
        </p:nvSpPr>
        <p:spPr>
          <a:xfrm>
            <a:off x="4859280" y="2637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385128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Прямая соединительная линия 24"/>
          <p:cNvSpPr/>
          <p:nvPr/>
        </p:nvSpPr>
        <p:spPr>
          <a:xfrm>
            <a:off x="3995640" y="3284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Прямая соединительная линия 28"/>
          <p:cNvSpPr/>
          <p:nvPr/>
        </p:nvSpPr>
        <p:spPr>
          <a:xfrm>
            <a:off x="3780000" y="27082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0" name="Группа 29"/>
          <p:cNvGrpSpPr/>
          <p:nvPr/>
        </p:nvGrpSpPr>
        <p:grpSpPr>
          <a:xfrm>
            <a:off x="5364000" y="2708280"/>
            <a:ext cx="576360" cy="863640"/>
            <a:chOff x="5364000" y="2708280"/>
            <a:chExt cx="576360" cy="863640"/>
          </a:xfrm>
        </p:grpSpPr>
        <p:sp>
          <p:nvSpPr>
            <p:cNvPr id="191" name="Прямая соединительная линия 30"/>
            <p:cNvSpPr/>
            <p:nvPr/>
          </p:nvSpPr>
          <p:spPr>
            <a:xfrm>
              <a:off x="5364000" y="2708280"/>
              <a:ext cx="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Прямая соединительная линия 31"/>
            <p:cNvSpPr/>
            <p:nvPr/>
          </p:nvSpPr>
          <p:spPr>
            <a:xfrm>
              <a:off x="5364000" y="313992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3" name="TextBox 32"/>
          <p:cNvSpPr/>
          <p:nvPr/>
        </p:nvSpPr>
        <p:spPr>
          <a:xfrm>
            <a:off x="5435640" y="2565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5651640" y="306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4"/>
          <p:cNvSpPr/>
          <p:nvPr/>
        </p:nvSpPr>
        <p:spPr>
          <a:xfrm>
            <a:off x="3995640" y="3357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35"/>
          <p:cNvSpPr/>
          <p:nvPr/>
        </p:nvSpPr>
        <p:spPr>
          <a:xfrm>
            <a:off x="4716360" y="3141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Прямая соединительная линия 40"/>
          <p:cNvSpPr/>
          <p:nvPr/>
        </p:nvSpPr>
        <p:spPr>
          <a:xfrm>
            <a:off x="4716360" y="31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Прямая соединительная линия 45"/>
          <p:cNvSpPr/>
          <p:nvPr/>
        </p:nvSpPr>
        <p:spPr>
          <a:xfrm>
            <a:off x="485928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47"/>
          <p:cNvSpPr/>
          <p:nvPr/>
        </p:nvSpPr>
        <p:spPr>
          <a:xfrm>
            <a:off x="4716360" y="3789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Группа 48"/>
          <p:cNvGrpSpPr/>
          <p:nvPr/>
        </p:nvGrpSpPr>
        <p:grpSpPr>
          <a:xfrm>
            <a:off x="6227640" y="3141720"/>
            <a:ext cx="576360" cy="863640"/>
            <a:chOff x="6227640" y="3141720"/>
            <a:chExt cx="576360" cy="863640"/>
          </a:xfrm>
        </p:grpSpPr>
        <p:sp>
          <p:nvSpPr>
            <p:cNvPr id="201" name="Прямая соединительная линия 49"/>
            <p:cNvSpPr/>
            <p:nvPr/>
          </p:nvSpPr>
          <p:spPr>
            <a:xfrm>
              <a:off x="6227640" y="3141720"/>
              <a:ext cx="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Прямая соединительная линия 50"/>
            <p:cNvSpPr/>
            <p:nvPr/>
          </p:nvSpPr>
          <p:spPr>
            <a:xfrm>
              <a:off x="6227640" y="357336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3" name="TextBox 51"/>
          <p:cNvSpPr/>
          <p:nvPr/>
        </p:nvSpPr>
        <p:spPr>
          <a:xfrm>
            <a:off x="6300720" y="306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Box 52"/>
          <p:cNvSpPr/>
          <p:nvPr/>
        </p:nvSpPr>
        <p:spPr>
          <a:xfrm>
            <a:off x="5651640" y="3500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Box 53"/>
          <p:cNvSpPr/>
          <p:nvPr/>
        </p:nvSpPr>
        <p:spPr>
          <a:xfrm>
            <a:off x="6300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Box 54"/>
          <p:cNvSpPr/>
          <p:nvPr/>
        </p:nvSpPr>
        <p:spPr>
          <a:xfrm>
            <a:off x="5580000" y="4149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Прямая соединительная линия 56"/>
          <p:cNvSpPr/>
          <p:nvPr/>
        </p:nvSpPr>
        <p:spPr>
          <a:xfrm>
            <a:off x="5580000" y="3573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Прямая соединительная линия 62"/>
          <p:cNvSpPr/>
          <p:nvPr/>
        </p:nvSpPr>
        <p:spPr>
          <a:xfrm>
            <a:off x="5651640" y="414972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Группа 89"/>
          <p:cNvGrpSpPr/>
          <p:nvPr/>
        </p:nvGrpSpPr>
        <p:grpSpPr>
          <a:xfrm>
            <a:off x="2941560" y="3040200"/>
            <a:ext cx="3786120" cy="1757160"/>
            <a:chOff x="2941560" y="3040200"/>
            <a:chExt cx="3786120" cy="1757160"/>
          </a:xfrm>
        </p:grpSpPr>
        <p:sp>
          <p:nvSpPr>
            <p:cNvPr id="210" name="Полилиния 81"/>
            <p:cNvSpPr/>
            <p:nvPr/>
          </p:nvSpPr>
          <p:spPr>
            <a:xfrm>
              <a:off x="2941560" y="3040200"/>
              <a:ext cx="3786120" cy="1757160"/>
            </a:xfrm>
            <a:custGeom>
              <a:avLst/>
              <a:gdLst/>
              <a:ahLst/>
              <a:rect l="l" t="t" r="r" b="b"/>
              <a:pathLst>
                <a:path w="3786051" h="2218508">
                  <a:moveTo>
                    <a:pt x="3786051" y="1375954"/>
                  </a:moveTo>
                  <a:cubicBezTo>
                    <a:pt x="3714205" y="1725385"/>
                    <a:pt x="3642360" y="2074816"/>
                    <a:pt x="3276600" y="2146662"/>
                  </a:cubicBezTo>
                  <a:cubicBezTo>
                    <a:pt x="2910840" y="2218508"/>
                    <a:pt x="2096588" y="2118359"/>
                    <a:pt x="1591491" y="1807028"/>
                  </a:cubicBezTo>
                  <a:cubicBezTo>
                    <a:pt x="1086394" y="1495697"/>
                    <a:pt x="492034" y="557348"/>
                    <a:pt x="246017" y="278674"/>
                  </a:cubicBezTo>
                  <a:cubicBezTo>
                    <a:pt x="0" y="0"/>
                    <a:pt x="57694" y="67491"/>
                    <a:pt x="115389" y="13498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211" name="Прямая со стрелкой 83"/>
            <p:cNvCxnSpPr>
              <a:stCxn id="210" idx="3"/>
            </p:cNvCxnSpPr>
            <p:nvPr/>
          </p:nvCxnSpPr>
          <p:spPr>
            <a:xfrm flipH="1" flipV="1">
              <a:off x="2986560" y="3069360"/>
              <a:ext cx="200520" cy="1911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212" name="TextBox 87"/>
          <p:cNvSpPr/>
          <p:nvPr/>
        </p:nvSpPr>
        <p:spPr>
          <a:xfrm>
            <a:off x="755640" y="5229360"/>
            <a:ext cx="216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7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88"/>
          <p:cNvSpPr/>
          <p:nvPr/>
        </p:nvSpPr>
        <p:spPr>
          <a:xfrm>
            <a:off x="1835280" y="5229360"/>
            <a:ext cx="223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10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 двоичными числами можно выполнять следующие действ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чит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нож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ложение в двоичной системе счисле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17808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0 + 0 = 0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+ 0 =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0 + 1 =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 + 1 =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987640" y="378936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( «0» пишем, «1» запоминаем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71640" y="2421000"/>
          <a:ext cx="2160360" cy="1057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</a:tblGrid>
              <a:tr h="528480"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618000" y="2421000"/>
          <a:ext cx="2173320" cy="105732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3240"/>
                <a:gridCol w="362160"/>
                <a:gridCol w="361800"/>
                <a:gridCol w="362160"/>
              </a:tblGrid>
              <a:tr h="528480"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156360" y="2421000"/>
          <a:ext cx="2087640" cy="1057320"/>
        </p:xfrm>
        <a:graphic>
          <a:graphicData uri="http://schemas.openxmlformats.org/drawingml/2006/table">
            <a:tbl>
              <a:tblPr/>
              <a:tblGrid>
                <a:gridCol w="347760"/>
                <a:gridCol w="347400"/>
                <a:gridCol w="347760"/>
                <a:gridCol w="349200"/>
                <a:gridCol w="347760"/>
                <a:gridCol w="347760"/>
              </a:tblGrid>
              <a:tr h="528480"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Прямоугольник 2"/>
          <p:cNvSpPr/>
          <p:nvPr/>
        </p:nvSpPr>
        <p:spPr>
          <a:xfrm>
            <a:off x="1123920" y="15145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1871640" y="189000"/>
            <a:ext cx="6186600" cy="1030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324080" y="3527280"/>
            <a:ext cx="3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9280"/>
                <a:tab algn="l" pos="1079640"/>
                <a:tab algn="l" pos="1440000"/>
                <a:tab algn="l" pos="179856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1703520" y="3527280"/>
            <a:ext cx="3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9280"/>
                <a:tab algn="l" pos="1079640"/>
                <a:tab algn="l" pos="1440000"/>
                <a:tab algn="l" pos="179856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2448000" y="3527280"/>
            <a:ext cx="3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9280"/>
                <a:tab algn="l" pos="1079640"/>
                <a:tab algn="l" pos="1440000"/>
                <a:tab algn="l" pos="179856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793960" y="3527280"/>
            <a:ext cx="3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9280"/>
                <a:tab algn="l" pos="1079640"/>
                <a:tab algn="l" pos="1440000"/>
                <a:tab algn="l" pos="179856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Овальная выноска 4"/>
          <p:cNvSpPr/>
          <p:nvPr/>
        </p:nvSpPr>
        <p:spPr>
          <a:xfrm>
            <a:off x="2809800" y="1514520"/>
            <a:ext cx="1757520" cy="704880"/>
          </a:xfrm>
          <a:prstGeom prst="wedgeEllipseCallout">
            <a:avLst>
              <a:gd name="adj1" fmla="val -84208"/>
              <a:gd name="adj2" fmla="val 877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+1=1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22"/>
          <p:cNvSpPr/>
          <p:nvPr/>
        </p:nvSpPr>
        <p:spPr>
          <a:xfrm>
            <a:off x="3919680" y="1638360"/>
            <a:ext cx="3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920"/>
                <a:tab algn="l" pos="719280"/>
                <a:tab algn="l" pos="1079640"/>
                <a:tab algn="l" pos="1440000"/>
                <a:tab algn="l" pos="179856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Овал 5"/>
          <p:cNvSpPr/>
          <p:nvPr/>
        </p:nvSpPr>
        <p:spPr>
          <a:xfrm>
            <a:off x="3684600" y="1541520"/>
            <a:ext cx="585720" cy="64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3976560" y="3476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4338720" y="34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4707000" y="3476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5073480" y="34765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5433840" y="34765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6548400" y="348768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6875640" y="3487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Box 29"/>
          <p:cNvSpPr/>
          <p:nvPr/>
        </p:nvSpPr>
        <p:spPr>
          <a:xfrm>
            <a:off x="7226280" y="348768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Box 30"/>
          <p:cNvSpPr/>
          <p:nvPr/>
        </p:nvSpPr>
        <p:spPr>
          <a:xfrm>
            <a:off x="7574040" y="3487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Box 31"/>
          <p:cNvSpPr/>
          <p:nvPr/>
        </p:nvSpPr>
        <p:spPr>
          <a:xfrm>
            <a:off x="7912080" y="3487680"/>
            <a:ext cx="3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Прямоугольник 32"/>
          <p:cNvSpPr/>
          <p:nvPr/>
        </p:nvSpPr>
        <p:spPr>
          <a:xfrm>
            <a:off x="7667640" y="6237360"/>
            <a:ext cx="792000" cy="360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-6.50312E-007 L -0.20365 0.27586 E">
                                      <p:cBhvr>
                                        <p:cTn id="28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0551E-006 L -0.22848 0.05855 E">
                                      <p:cBhvr>
                                        <p:cTn id="28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8"/>
          <p:cNvSpPr/>
          <p:nvPr/>
        </p:nvSpPr>
        <p:spPr>
          <a:xfrm>
            <a:off x="3238560" y="404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ff9f9"/>
                </a:solidFill>
                <a:latin typeface="Verdana"/>
              </a:rPr>
              <a:t>Выполнить сложе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250920" y="1989000"/>
            <a:ext cx="669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1101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+1011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1" i="1" lang="ru-RU" sz="36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76360" y="4162320"/>
          <a:ext cx="3024360" cy="1284480"/>
        </p:xfrm>
        <a:graphic>
          <a:graphicData uri="http://schemas.openxmlformats.org/drawingml/2006/table">
            <a:tbl>
              <a:tblPr/>
              <a:tblGrid>
                <a:gridCol w="433440"/>
                <a:gridCol w="430200"/>
                <a:gridCol w="431640"/>
                <a:gridCol w="433440"/>
                <a:gridCol w="432000"/>
                <a:gridCol w="430200"/>
                <a:gridCol w="433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99"/>
          <p:cNvSpPr/>
          <p:nvPr/>
        </p:nvSpPr>
        <p:spPr>
          <a:xfrm>
            <a:off x="5111640" y="1989000"/>
            <a:ext cx="403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1000010</a:t>
            </a:r>
            <a:r>
              <a:rPr b="1" i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Group 102"/>
          <p:cNvGrpSpPr/>
          <p:nvPr/>
        </p:nvGrpSpPr>
        <p:grpSpPr>
          <a:xfrm>
            <a:off x="3492360" y="1052640"/>
            <a:ext cx="5183280" cy="144360"/>
            <a:chOff x="3492360" y="1052640"/>
            <a:chExt cx="5183280" cy="144360"/>
          </a:xfrm>
        </p:grpSpPr>
        <p:sp>
          <p:nvSpPr>
            <p:cNvPr id="247" name="Line 103"/>
            <p:cNvSpPr/>
            <p:nvPr/>
          </p:nvSpPr>
          <p:spPr>
            <a:xfrm>
              <a:off x="3492360" y="1052640"/>
              <a:ext cx="5183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Line 104"/>
            <p:cNvSpPr/>
            <p:nvPr/>
          </p:nvSpPr>
          <p:spPr>
            <a:xfrm>
              <a:off x="4284720" y="1197000"/>
              <a:ext cx="4390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9" name="Text Box 17"/>
          <p:cNvSpPr/>
          <p:nvPr/>
        </p:nvSpPr>
        <p:spPr>
          <a:xfrm>
            <a:off x="1332000" y="4437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1476360" y="5445000"/>
            <a:ext cx="302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067280" y="5445000"/>
          <a:ext cx="457200" cy="63972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635280" y="5445000"/>
          <a:ext cx="457200" cy="63972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203640" y="5445000"/>
          <a:ext cx="457200" cy="63972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746440" y="5445000"/>
          <a:ext cx="457200" cy="63972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268360" y="5445000"/>
          <a:ext cx="457200" cy="63972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835280" y="5445000"/>
          <a:ext cx="457200" cy="63972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403280" y="5445000"/>
          <a:ext cx="457200" cy="64800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307"/>
          <p:cNvSpPr/>
          <p:nvPr/>
        </p:nvSpPr>
        <p:spPr>
          <a:xfrm>
            <a:off x="3708360" y="37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308"/>
          <p:cNvSpPr/>
          <p:nvPr/>
        </p:nvSpPr>
        <p:spPr>
          <a:xfrm>
            <a:off x="3276720" y="3724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309"/>
          <p:cNvSpPr/>
          <p:nvPr/>
        </p:nvSpPr>
        <p:spPr>
          <a:xfrm>
            <a:off x="2843280" y="3724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310"/>
          <p:cNvSpPr/>
          <p:nvPr/>
        </p:nvSpPr>
        <p:spPr>
          <a:xfrm>
            <a:off x="2411280" y="37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311"/>
          <p:cNvSpPr/>
          <p:nvPr/>
        </p:nvSpPr>
        <p:spPr>
          <a:xfrm>
            <a:off x="1979640" y="3716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02:17Z</dcterms:created>
  <dc:creator>ADMIN</dc:creator>
  <dc:description/>
  <dc:language>en-US</dc:language>
  <cp:lastModifiedBy>Admin</cp:lastModifiedBy>
  <dcterms:modified xsi:type="dcterms:W3CDTF">2020-04-01T16:03:53Z</dcterms:modified>
  <cp:revision>34</cp:revision>
  <dc:subject/>
  <dc:title>Двоичная система счисления.Двоичная арифметика.</dc:title>
</cp:coreProperties>
</file>