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4FA-4001-4F81-95F9-9E2E80DD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43B-EE35-4BCF-BB84-FA2CF9F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5FA-8D62-46BE-AF7F-343F4C2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B93-2A0F-4147-B395-BEE86FF2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3C7-B6D2-4B0F-AD8E-A488D0AF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2CA-17FB-45E0-84AA-1ABCBE07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A70-5AE6-42F8-AC4C-E3D5FB3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822-EFD0-408D-B021-E56E10D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266-1EAD-47CC-98EE-3AE699AF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B34-084C-455E-AFC0-0686019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997-E9AC-4161-8CAB-E28535C3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6B1-254B-4F99-B1C7-8590759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A1F-5829-487F-8004-39C210CC0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ero of the Soviet Union medal.png"/>
          <p:cNvPicPr/>
          <p:nvPr/>
        </p:nvPicPr>
        <p:blipFill>
          <a:blip r:embed="rId1"/>
          <a:stretch/>
        </p:blipFill>
        <p:spPr>
          <a:xfrm>
            <a:off x="250920" y="476280"/>
            <a:ext cx="2817720" cy="5516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987640" y="322200"/>
            <a:ext cx="61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«Герои Советского Союза  из Новобурасского райо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3068640" y="1916280"/>
            <a:ext cx="5867280" cy="388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2584440" y="580392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еева Валентина Серге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читель истории и обществознания МОУ «СОШ  с. Ириновка Новобурасского района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07040" y="0"/>
            <a:ext cx="3036960" cy="3171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148360" y="3213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501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06208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0" y="40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Order Of The Patriotic War (2nd Class).png"/>
          <p:cNvPicPr/>
          <p:nvPr/>
        </p:nvPicPr>
        <p:blipFill>
          <a:blip r:embed="rId3"/>
          <a:stretch/>
        </p:blipFill>
        <p:spPr>
          <a:xfrm>
            <a:off x="6102360" y="3573360"/>
            <a:ext cx="304164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3851280" y="522936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Отечественной войны II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ZV0053764.jpg"/>
          <p:cNvPicPr/>
          <p:nvPr/>
        </p:nvPicPr>
        <p:blipFill>
          <a:blip r:embed="rId4"/>
          <a:stretch/>
        </p:blipFill>
        <p:spPr>
          <a:xfrm>
            <a:off x="1908000" y="1628640"/>
            <a:ext cx="32403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24000" y="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даев Иван Александр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1913 - 199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616720" y="549360"/>
            <a:ext cx="3527280" cy="475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Hero of the Soviet Union medal.png"/>
          <p:cNvPicPr/>
          <p:nvPr/>
        </p:nvPicPr>
        <p:blipFill>
          <a:blip r:embed="rId2"/>
          <a:stretch/>
        </p:blipFill>
        <p:spPr>
          <a:xfrm>
            <a:off x="7451640" y="3933720"/>
            <a:ext cx="136224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0" y="1341360"/>
            <a:ext cx="57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 23 февраля 1913 года в деревне Садовка Вольского уезда. С детских лет с родителями жил в селе Новые Бурасы . Окончил начальную школу, затем сельскохозяйственный техникум. Работал в совхозе «Штурм». На фронт был призван военкоматом осенью 1942 года. Окончил курсы младших лейтен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ался впоследствии на Центральном и Белорусском фронтах. Принимал участие в Курской битве, освобождении Брянской и Черниговской областей, восточных районов Белоруссии. Звание Героя Советского Союза было присвоено 30 октября 1943 года за отвагу и мужество, проявленные при форсировании рек Сож и Днепр. В1945 году был комиссован из армии по инвалидности. Вернулся в Саратовскую область.  Жил в городе Энгель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ZV0053764.jpg"/>
          <p:cNvPicPr/>
          <p:nvPr/>
        </p:nvPicPr>
        <p:blipFill>
          <a:blip r:embed="rId1"/>
          <a:stretch/>
        </p:blipFill>
        <p:spPr>
          <a:xfrm>
            <a:off x="0" y="0"/>
            <a:ext cx="2952720" cy="2948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0" y="2997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062520" cy="3198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924360" y="5157720"/>
            <a:ext cx="25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564000" y="429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1915920" cy="348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Medal for Merit in Combat.jpg"/>
          <p:cNvPicPr/>
          <p:nvPr/>
        </p:nvPicPr>
        <p:blipFill>
          <a:blip r:embed="rId4"/>
          <a:stretch/>
        </p:blipFill>
        <p:spPr>
          <a:xfrm>
            <a:off x="7020000" y="404640"/>
            <a:ext cx="1863720" cy="345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6624720" y="4221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боевые заслуг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260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истаев Иван Васильевич  (1916 - 19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580000" y="237960"/>
            <a:ext cx="3462480" cy="4865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ero of the Soviet Union medal.png"/>
          <p:cNvPicPr/>
          <p:nvPr/>
        </p:nvPicPr>
        <p:blipFill>
          <a:blip r:embed="rId2"/>
          <a:stretch/>
        </p:blipFill>
        <p:spPr>
          <a:xfrm>
            <a:off x="7781760" y="3933720"/>
            <a:ext cx="1362240" cy="2667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0" y="1273320"/>
            <a:ext cx="53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 16 февраля 1916 года в селе Полчаниновка Пензенской области. Работал ветсанитаром в селе Малые Озерки Новобурасского района. В 1941 году он ускоренным курсом окончил курсы младших лейтенантов. Принимал участие в боях на Западном, Воронежском, Юго-Западном и 1-м Белорусском фронтах, дважды был тяжело ране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личился во время освобождения Польши. Звание Героя Советского Союза было присвоено в марте 1945 года за отвагу и мужество, проявленные во время боевых действий в составе разведывательного отряда в тылу противника, когда ему удалось добыть особо ценные документы врага и привести в расположение нашей воинской части 2 яз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 1946 году в звании капитана Кистаев был уволен в запас. Проживал в Сарато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ZV0053764.jpg"/>
          <p:cNvPicPr/>
          <p:nvPr/>
        </p:nvPicPr>
        <p:blipFill>
          <a:blip r:embed="rId1"/>
          <a:stretch/>
        </p:blipFill>
        <p:spPr>
          <a:xfrm>
            <a:off x="0" y="0"/>
            <a:ext cx="2620800" cy="2617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2852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494400" y="0"/>
            <a:ext cx="2649600" cy="2766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236000" y="2924280"/>
            <a:ext cx="19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The Order of the Red Banner.png"/>
          <p:cNvPicPr/>
          <p:nvPr/>
        </p:nvPicPr>
        <p:blipFill>
          <a:blip r:embed="rId3"/>
          <a:stretch/>
        </p:blipFill>
        <p:spPr>
          <a:xfrm>
            <a:off x="3132000" y="0"/>
            <a:ext cx="2133720" cy="2422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788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2916360" y="2421000"/>
            <a:ext cx="1927080" cy="3622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2484360" y="62164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взятие Берлин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5"/>
          <a:stretch/>
        </p:blipFill>
        <p:spPr>
          <a:xfrm>
            <a:off x="5219640" y="2781360"/>
            <a:ext cx="2038320" cy="3752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7272360" y="5013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освобождение Варшав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6"/>
          <a:stretch/>
        </p:blipFill>
        <p:spPr>
          <a:xfrm>
            <a:off x="0" y="3284640"/>
            <a:ext cx="1969920" cy="3573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3"/>
          <p:cNvSpPr/>
          <p:nvPr/>
        </p:nvSpPr>
        <p:spPr>
          <a:xfrm>
            <a:off x="1547640" y="4941720"/>
            <a:ext cx="11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-24-1024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2373480" cy="3691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479736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ршал Крылов Н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11280" y="260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ратовцы - Герои Советского союза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3475080" cy="252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59280" y="3860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ршал авиации Скоморохов Н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6372360" y="1052640"/>
            <a:ext cx="2286000" cy="3625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6156360" y="494172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енерал-лейтенант Шилин А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5643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92 земляка – саратовц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или это звание в годы войны. 102 из них не вернулись из боя. Трое стали дважды Героями Советского Союза.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6 Героев Советского Союза дала Родине новобурасская земл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692360" y="260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чкарёв  Михаил Степанович (1904—197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565360"/>
            <a:ext cx="572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ился во время боёв на озере Хас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юле-августе 1938 года Бочкарёв шесть раз водил своих бойцов в атаку. Дважды — 6 и 8 августа — был легко ранен, но остался в бою. Вместе со своими бойцами он сумел занять сопки Заозёрная и Безымянная, захваченные японскими подразделениями.  За отвагу был удостоен высокого звания Героя Советского Союза 28 июля 1941 года под городом Ельня Смоленской области получил тяжёлое ранение. После выздоровления был начальником военных училищ в Моршанске Тамбовской области и Пензе. В 1954 году в звании полковника Бочкарёв был уволен в запас. В Саратове Бочкарёву установлены памятник и мемориальная до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ero of the Soviet Union medal.png"/>
          <p:cNvPicPr/>
          <p:nvPr/>
        </p:nvPicPr>
        <p:blipFill>
          <a:blip r:embed="rId1"/>
          <a:stretch/>
        </p:blipFill>
        <p:spPr>
          <a:xfrm>
            <a:off x="0" y="0"/>
            <a:ext cx="105264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945040" y="836640"/>
            <a:ext cx="3198960" cy="5732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1332000" y="981000"/>
            <a:ext cx="43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 в селе Новые Бурасы. Полковник Советской Армии, участник Хасанских боёв и Великой Отечественной войны, Герой Советского Союза (193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2216160" cy="3600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39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Бочкар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he Order of the Red Banner.png"/>
          <p:cNvPicPr/>
          <p:nvPr/>
        </p:nvPicPr>
        <p:blipFill>
          <a:blip r:embed="rId2"/>
          <a:stretch/>
        </p:blipFill>
        <p:spPr>
          <a:xfrm>
            <a:off x="2411280" y="333360"/>
            <a:ext cx="1905120" cy="2162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6836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го Знам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Order Of The Patriotic War (2nd Class).png"/>
          <p:cNvPicPr/>
          <p:nvPr/>
        </p:nvPicPr>
        <p:blipFill>
          <a:blip r:embed="rId3"/>
          <a:stretch/>
        </p:blipFill>
        <p:spPr>
          <a:xfrm>
            <a:off x="6148440" y="2495520"/>
            <a:ext cx="3041640" cy="3284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5724360" y="594216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 Отечественной войны II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ZV0053764.jpg"/>
          <p:cNvPicPr/>
          <p:nvPr/>
        </p:nvPicPr>
        <p:blipFill>
          <a:blip r:embed="rId4"/>
          <a:stretch/>
        </p:blipFill>
        <p:spPr>
          <a:xfrm>
            <a:off x="2627280" y="4005360"/>
            <a:ext cx="2586240" cy="2582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0" y="4797360"/>
            <a:ext cx="24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чреждён для награждения за большие заслуги в деле обороны Союза 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Order of Lenin type4.jpg"/>
          <p:cNvPicPr/>
          <p:nvPr/>
        </p:nvPicPr>
        <p:blipFill>
          <a:blip r:embed="rId5"/>
          <a:stretch/>
        </p:blipFill>
        <p:spPr>
          <a:xfrm>
            <a:off x="4427640" y="230040"/>
            <a:ext cx="1903320" cy="3457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6516720" y="907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0" y="260280"/>
            <a:ext cx="52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янов Викто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1912 - 197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Родился В.Н. Буянов САРАТОВСКАЯ ОБЛАСТНАЯ УНИВЕРСАЛЬНАЯ НАУЧНАЯ БИБЛИОТЕКА"/>
          <p:cNvPicPr/>
          <p:nvPr/>
        </p:nvPicPr>
        <p:blipFill>
          <a:blip r:embed="rId1"/>
          <a:stretch/>
        </p:blipFill>
        <p:spPr>
          <a:xfrm>
            <a:off x="4859280" y="0"/>
            <a:ext cx="4086360" cy="544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Hero of the Soviet Union medal.png"/>
          <p:cNvPicPr/>
          <p:nvPr/>
        </p:nvPicPr>
        <p:blipFill>
          <a:blip r:embed="rId2"/>
          <a:stretch/>
        </p:blipFill>
        <p:spPr>
          <a:xfrm>
            <a:off x="7781760" y="4191120"/>
            <a:ext cx="136224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0" y="1916280"/>
            <a:ext cx="51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 18 ноября 1912 года в посёлке Вихляйка Новобурасского района в семье рабочего. В 1937 году окончил Энгельсскую военную авиационную школу лётчиков. С началом Великой Отечественной войны — в действующей армии. В. Н. Буянов совершил 309 боевых вылетов, в 127 воздушных боях сбил лично 12 и в группе 5 самолётов противника. С 1971 года генерал-майор авиации В. Н. Буянов — в запа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р 14 июля 1976 года в Одесс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1400040" cy="2543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26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he Order of the Red Banner.png"/>
          <p:cNvPicPr/>
          <p:nvPr/>
        </p:nvPicPr>
        <p:blipFill>
          <a:blip r:embed="rId2"/>
          <a:stretch/>
        </p:blipFill>
        <p:spPr>
          <a:xfrm>
            <a:off x="1763640" y="0"/>
            <a:ext cx="190512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69236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го Знам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6300720" y="2924280"/>
            <a:ext cx="2649600" cy="2766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398920" y="57006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ZV0053764.jpg"/>
          <p:cNvPicPr/>
          <p:nvPr/>
        </p:nvPicPr>
        <p:blipFill>
          <a:blip r:embed="rId4"/>
          <a:stretch/>
        </p:blipFill>
        <p:spPr>
          <a:xfrm>
            <a:off x="2916360" y="3284640"/>
            <a:ext cx="2225520" cy="2222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2627280" y="5516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edal for Merit in Combat.jpg"/>
          <p:cNvPicPr/>
          <p:nvPr/>
        </p:nvPicPr>
        <p:blipFill>
          <a:blip r:embed="rId5"/>
          <a:stretch/>
        </p:blipFill>
        <p:spPr>
          <a:xfrm>
            <a:off x="395280" y="3141720"/>
            <a:ext cx="1863720" cy="3454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2340000" y="62164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боевые заслуг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"/>
          <p:cNvPicPr/>
          <p:nvPr/>
        </p:nvPicPr>
        <p:blipFill>
          <a:blip r:embed="rId6"/>
          <a:stretch/>
        </p:blipFill>
        <p:spPr>
          <a:xfrm>
            <a:off x="3924360" y="0"/>
            <a:ext cx="2381040" cy="2276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6"/>
          <p:cNvSpPr/>
          <p:nvPr/>
        </p:nvSpPr>
        <p:spPr>
          <a:xfrm>
            <a:off x="4067280" y="227664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хословацкий Военный крес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39—1945 г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7" descr=""/>
          <p:cNvPicPr/>
          <p:nvPr/>
        </p:nvPicPr>
        <p:blipFill>
          <a:blip r:embed="rId7"/>
          <a:stretch/>
        </p:blipFill>
        <p:spPr>
          <a:xfrm>
            <a:off x="6443640" y="0"/>
            <a:ext cx="2065320" cy="2065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8"/>
          <p:cNvSpPr/>
          <p:nvPr/>
        </p:nvSpPr>
        <p:spPr>
          <a:xfrm>
            <a:off x="6659640" y="234936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Одру, Нису и Балтик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24000" y="333360"/>
            <a:ext cx="518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городне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1919 - 19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Zagorodnev VI.jpg"/>
          <p:cNvPicPr/>
          <p:nvPr/>
        </p:nvPicPr>
        <p:blipFill>
          <a:blip r:embed="rId1"/>
          <a:stretch/>
        </p:blipFill>
        <p:spPr>
          <a:xfrm>
            <a:off x="5583240" y="260280"/>
            <a:ext cx="3560760" cy="4362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ero of the Soviet Union medal.png"/>
          <p:cNvPicPr/>
          <p:nvPr/>
        </p:nvPicPr>
        <p:blipFill>
          <a:blip r:embed="rId2"/>
          <a:stretch/>
        </p:blipFill>
        <p:spPr>
          <a:xfrm>
            <a:off x="7781760" y="3860640"/>
            <a:ext cx="1362240" cy="2667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4"/>
          <p:cNvSpPr/>
          <p:nvPr/>
        </p:nvSpPr>
        <p:spPr>
          <a:xfrm>
            <a:off x="0" y="1341360"/>
            <a:ext cx="583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 29 декабря 1919 года в селе Лох Новобурасского района. С августа 1942 года — на фронтах Великой Отечественной войны. В боях четырежды был ранен. Отличился во время освобождения Брестской области Белорусской ССР и Польш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ях Загороднев получил два ранения, но продолжал сражаться. Во время последней контратаки противник бросил против роты Загороднева 20 танков и самоходных орудий, а также около двух пехотных баталь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5"/>
          <p:cNvSpPr/>
          <p:nvPr/>
        </p:nvSpPr>
        <p:spPr>
          <a:xfrm>
            <a:off x="0" y="4705200"/>
            <a:ext cx="759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йцы батальона нанесли ему большие потери. Когда у них кончились боеприпасы, они продолжали сражаться врукопашную, погибнув в полном составе. Подошедшие подкрепления довершили разгром немецких войск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ороднев был похоронен со своими бойцами в братской могиле в деревне Чернавчицы Брестского района Брестской области Белорусс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1927080" cy="3500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692360" y="1773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ZV0053764.jpg"/>
          <p:cNvPicPr/>
          <p:nvPr/>
        </p:nvPicPr>
        <p:blipFill>
          <a:blip r:embed="rId2"/>
          <a:stretch/>
        </p:blipFill>
        <p:spPr>
          <a:xfrm>
            <a:off x="3780000" y="0"/>
            <a:ext cx="2952720" cy="2948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24360" y="3213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7047000" y="2708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859280" y="4797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аль «За оборону Кавказ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79280" y="616572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х именами названы улицы Бреста». Аллея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324000" y="3573360"/>
            <a:ext cx="33620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76360" y="26028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роз Николай Никифорович (1924 - 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ero of the Soviet Union medal.png"/>
          <p:cNvPicPr/>
          <p:nvPr/>
        </p:nvPicPr>
        <p:blipFill>
          <a:blip r:embed="rId1"/>
          <a:stretch/>
        </p:blipFill>
        <p:spPr>
          <a:xfrm>
            <a:off x="324000" y="0"/>
            <a:ext cx="734760" cy="144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0" y="134136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28 декабря 1924 года в с. Славянке Новобурасского района Саратовской области. В 1942 г. был призван в Красную Армию. Окончил Симферопольское пулемётно-минометное училище, которое дислоцировалось в Балакове. Принимал участие в освобождении Украины, Молдавии, Польши, разгроме врага на территории Германии. Тяжело ранен в 1945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0" y="3789360"/>
            <a:ext cx="64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ание Героя Советского Союза с вручение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а Ленина и медали «Золотая Звезда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воено 27 июня 1945 года «за отвагу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ество, проявленные при форсировании Одера, захвате и удержании плацдарма на западном берегу ре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военные годы жил в г. Ростове-на-До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л в Ростовском институте народного хозяйства. Умер 23 мая 197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6027840" y="1484280"/>
            <a:ext cx="31161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12:15:21Z</dcterms:created>
  <dc:creator>Алексей</dc:creator>
  <dc:description/>
  <dc:language>en-US</dc:language>
  <cp:lastModifiedBy>inter</cp:lastModifiedBy>
  <dcterms:modified xsi:type="dcterms:W3CDTF">2020-04-01T09:04:50Z</dcterms:modified>
  <cp:revision>27</cp:revision>
  <dc:subject/>
  <dc:title>Слайд 1</dc:title>
</cp:coreProperties>
</file>