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C95-9695-4A5D-A0E9-C5E55220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E58-C225-439F-96D9-EAD1FA41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948-D282-4B5B-9A7C-60B219DA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D81-27C8-49DA-AE0A-44B0C5BA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C78-15B6-4AC6-964C-98AD2E05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DBC-E2C8-4CA0-A970-DBDB088F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0C6-52C9-4B8B-862F-E6801EC0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864-DDB4-457F-BB83-64BA8187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32F-1ED4-4424-B724-247E76B4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24E-90FE-486E-B330-61B14890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358-BBB9-44E2-A8F0-720CAD21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6F1-C020-4743-83C7-93A5C102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7DA-01F7-4437-8321-D2C578173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64310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omic Sans MS"/>
              </a:rPr>
              <a:t>До свидания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omic Sans MS"/>
              </a:rPr>
              <a:t>До новых встреч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18519" r="666" b="666"/>
          <a:stretch/>
        </p:blipFill>
        <p:spPr>
          <a:xfrm>
            <a:off x="152280" y="152280"/>
            <a:ext cx="8839440" cy="65725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9152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16256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64008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233280"/>
            <a:ext cx="7162560" cy="63961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6292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16256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8660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23888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1:58:02Z</dcterms:created>
  <dc:creator>ADMINISTRATOR</dc:creator>
  <dc:description/>
  <dc:language>en-US</dc:language>
  <cp:lastModifiedBy>ADMINISTRATOR</cp:lastModifiedBy>
  <dcterms:modified xsi:type="dcterms:W3CDTF">2010-04-24T11:58:29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