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F672-5F12-4C14-8D46-D83BD7FF18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d t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us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n't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ave to   5 should  6 must 7 don’t have to ( you have a choice) 8 shouldn’t  9 m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CE8C-A7D9-43BD-815A-4F2227D6B4AD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DA4-0C00-4F9F-9554-C4F521E5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BFE2-186D-4BF2-9801-9E1345C2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2C248-4D4F-4F34-92F8-24B24E28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B1568-091F-4A2B-B508-939B6E10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48194-B149-42F9-8E7D-E76B2015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95A356-AC8D-4BC8-A372-1935D82D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3EAF4-5B7F-4BDE-9E1E-E41CEDD5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0E362-6AFE-4337-8E5B-1192DDD5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18F05-3E9F-4D98-8E04-461BAE1B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2B284-0334-4FD3-89EC-DAF08B54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F71FF-E50F-4388-BAE5-4FA9239E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7E63A-5A6F-4438-B8B8-5585F99A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B34-8ACA-4473-BF97-156D3F0D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5B53C-F4FB-42A9-869B-200F61A3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6EEC71-C4EF-43B5-8FC8-D3B583B3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40F86-0BDC-42E0-89A5-36E00A22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50E81E-A3E8-4615-96D2-6A295D3E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0C0D8-514A-4FCA-B116-DAB2649D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00B08-548C-41C8-8531-5B341FA1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4EB74-C256-422D-B640-DD73AA18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9BD29-CD92-445A-959B-3EDEC0F0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07B80-72BD-4957-B009-3E0AA080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2F5BB-8736-4CA8-BBE0-B5009157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39E-E448-4C1F-8E11-52DB6B8D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BCB0B-17D7-480B-BE0F-CEFEBA93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28995-8AA6-48D1-B16A-61CDC7CC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7EE6B-2F0C-4803-A17A-050A0FC1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B1C0E-745D-46AE-BE34-0DECEBCC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D1C04-E0BD-4945-9D2F-8C3713B0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8CB8C-227B-412E-914D-22A5620F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628C2-2082-4D87-9074-CE1D2295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C3E9D-884F-4F5A-A7C6-7CD23798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E6150-723E-496E-B15E-38DF85C7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040F7-394D-41C9-8214-67ABBE13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8581-B5DB-42EE-8B69-B251E7A3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ED033-C909-4A8F-A1C2-59A8BA11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ADB2C-8D31-4485-BF5D-EA8BC3E8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BC07C-B48D-4F04-85FF-ADEB2B80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F94B5-DF1B-486C-A82A-1C4144EC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08529-93BC-4595-8791-680EB9B4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AFDC9D-A346-427E-97D3-E774AC08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59DB13-7924-49B5-B73D-886E84AF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CFB9F-2DB5-45C0-8EF3-AAD0E2B1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5FAA42-38B8-4935-AC9D-A5B6A1E2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88389-E015-4E06-AE2E-61983AAC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021B-B7CA-4823-9020-9F232C40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D114B-9E76-4438-9D8D-B367400D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7EE8E-E002-4658-AE43-00676310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A27082-87D7-4FE3-B6D4-C39A1CFE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CB6A62-E48C-41D5-8DED-B2E5CCE6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0CAA3-4B8E-439B-AEFE-AE0FCEB1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F3F6-256C-4ED3-B9FD-BBC0B54D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AF0C-7E1B-495F-9090-01B4B910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26F8-BBAB-4E46-9F84-ACA2C96E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8881-DEE0-421A-A10D-035D19FC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E64C-75D9-4F79-BD3B-7BF361E1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60F-36BA-433F-9D6B-1BC27026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B398-EDDB-4DA0-8E4F-901D106B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92A3-9EE6-4082-8A63-9B180D12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625A-65EB-4800-A725-75D8D1F9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5877-6044-46C2-A47B-729AAF27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80CF-55F3-42A2-9D8D-C53937D6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C3543-707F-400A-8985-41357B60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77597-8339-40C8-86F9-FC4940F4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B42A0-A89F-486C-B99D-9C1BBDB7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FE7BE-F300-4817-AFE5-EC31D67E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D617-C28E-47A6-B63A-A1D48416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FAD-327B-4ADD-BDDD-A9199C4A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9168A-F9B8-4281-940F-F839484D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B8B23-1C7D-4EDB-8237-FC363E6E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CFB9F-868A-4F52-A4BA-B60E40E6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1638E-A4EF-4C43-91EB-E03B9AE1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33504-D6C8-4718-832E-DDB18C34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AFEA3-D33C-45F2-9F88-DE748783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30BE0-6F4C-445E-8074-50B91CF7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052CB-50D4-4B29-B57C-FD7507AD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C7A03-073D-4CCD-A614-262B51B9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94AAF-E68E-4068-B8CC-FB35E2CD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9D8-85A5-4E87-A85F-3E5CEF7E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FF963-8D90-4620-88EE-32EB5881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E93A4-6374-4250-A345-D03C5340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E603C-7A2D-4D6D-BB6D-874E192C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E2C06-8E60-451A-BE85-DD26B441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4D3AF-4964-4417-AC17-1F7125C3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40384-696E-40AB-A06E-0C3075E3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1B699-F5F6-4A23-A524-18424D81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D6477-63B8-4DDB-800E-DECA53E5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C7B9A-7608-4252-99EE-54F5441B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14881-A71A-475C-8AC9-344014D4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CFE-9833-44B7-804E-44CAA698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8293E-FD0C-4E91-A33F-E7AEE190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9DD20-7B05-4747-8A5F-AEB47796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C09F2-028C-4914-9135-7ABB69EB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7D2E9-4F28-4275-AEA4-D3446306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BBEC0-9456-44E6-8C00-C8894ABF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0F5A7-CF16-4F9F-81ED-F7786ECD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91CD3-C6BA-4F39-B126-663B36D6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95083-961E-4C23-A2FA-B6B5786D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D8158-8D50-4BF8-87E4-6D096467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B72C2-17A8-47F1-A81A-87948FEE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A2B-E6A6-4BB8-9B1E-2424AC76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5B29E-6C06-426B-863A-58C0603D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7E337-5883-4EA1-9074-E24FCC96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32DB9-5286-46C3-B1EB-E52FC0C5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0CA5D-1F5F-4556-8B34-CAB60280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70257-D739-420E-BAF2-727362AD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26DF5-BE88-473A-BD8A-CCF5D238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6B2F5-9173-41D0-9923-5D4B3A52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7C2D5-2083-4C9C-A1B1-E8A7A228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F1E6D-924B-40D4-9983-A7C4D64F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6CDDA-0409-4662-9C1C-C17ED6C6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991-972D-4836-A9B9-5AAF56DD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9990E-26C0-4ED3-A26E-38AB17DD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B2109-18D2-4761-8F6A-A5CD9ECC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DAC70-F098-49C8-94DD-AEB60738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D7EBA-6F81-4C36-9C49-1E1104FE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8BA77-A6D0-4CB6-9366-6CECC507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CA476-4058-4ECB-8EBD-CEB08E8B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CA74C-F357-4FB8-8EAD-2DF6BEE2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0FC2F-A6D9-4405-ACF5-EA5BE887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DDAAF-9994-4473-BA49-9A35E3B3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551C4-81B3-4817-B6BC-BE301662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DDA5-9BFE-49A4-9707-EF2609CD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7D13C-6D08-4589-8E2E-428624CD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AA06B-1EC2-4414-98DD-13F0650A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417EB-70B9-43D4-A713-C752CA09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3B7AE-3FC8-40A0-B4A7-6EBD0438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9EDB9-E85F-41D7-A5A1-41C101E4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CC239-06B8-4A29-B0D9-5AC87AAF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5A667-D96F-459B-918C-E8A5705A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46018-544F-48E6-9AD9-199D1C43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DB1B0-CD7F-431C-A493-DA5DDDF2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0718A-511D-45AD-8646-39C057E4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DED-EEE2-4739-9AC0-504F8D30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728FB-F3CE-4199-A062-F90D9853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F87A3-23B4-48D9-916B-535B83CA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35CCB-3652-4835-8998-E8022200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7CE5E-3FEB-46B2-8515-0A3FFF1E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48A2E-45B5-4C6E-85E1-0B0C5874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31621-F701-44EC-9B97-B5E7A2CC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A9C5D-1A11-479C-A770-97BB8F42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A2710-01CB-4055-97D3-248D8009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5C537-91CE-4569-BCED-B82CAFFA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71B97-8B6A-4CB3-8BEA-17475647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8BCC-DE5F-45F5-BC94-A1C4895E6E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C1D8-5B18-443E-B346-13A98EA2C4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696C-9E90-472C-B651-F10040DEC5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F6B7-6B98-4E9D-98FD-AABF7DA030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2702-B26E-42B2-8D71-BABC9E35F4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DE3E-F539-4187-B11D-98440BD5A6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92AB-FB0C-4CC6-BFCA-553122727D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41C1-4796-407F-8982-64DAAEA9D0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42D6-8100-4D05-B2F4-EA0C333C4A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8A7C-DEB5-4C96-8AE6-273CCFC4D8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2A03-07D1-4B41-A0F6-3180FEC9C27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228C-C3ED-4E25-97C2-DE0DA1D799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11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16349"/>
                </a:solidFill>
                <a:latin typeface="Georgia"/>
              </a:rPr>
              <a:t>Must /have to / should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Рисунок 4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45244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9899"/>
                </a:solidFill>
                <a:latin typeface="Georgia"/>
              </a:rPr>
              <a:t>Have to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ередаёт необходимость совершить действие, т.к. этого требуют обстоятельства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Georgia"/>
              </a:rPr>
              <a:t>I have to go to school on Monday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понедельник я должен идти в школ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Georgia"/>
              </a:rPr>
              <a:t>I have to get up at seven</a:t>
            </a:r>
            <a:r>
              <a:rPr b="1" lang="ru-RU" sz="32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Georgia"/>
              </a:rPr>
              <a:t>tomorrow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втра утром я должен встать в семь часов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В </a:t>
            </a:r>
            <a:r>
              <a:rPr b="1" lang="en-US" sz="3600" spc="-1" strike="noStrike">
                <a:solidFill>
                  <a:srgbClr val="7b9899"/>
                </a:solidFill>
                <a:latin typeface="Georgia"/>
              </a:rPr>
              <a:t>отрицательных</a:t>
            </a: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 предложениях.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и отсутствии необходимости совершить действие употребляется </a:t>
            </a:r>
            <a:r>
              <a:rPr b="1" lang="en-US" sz="3600" spc="-1" strike="noStrike">
                <a:solidFill>
                  <a:srgbClr val="71481c"/>
                </a:solidFill>
                <a:latin typeface="Georgia"/>
              </a:rPr>
              <a:t>don’t have to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Georgia"/>
              </a:rPr>
              <a:t>You don’t have to help them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бе не надо им помога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В </a:t>
            </a:r>
            <a:r>
              <a:rPr b="1" lang="en-US" sz="3600" spc="-1" strike="noStrike">
                <a:solidFill>
                  <a:srgbClr val="7b9899"/>
                </a:solidFill>
                <a:latin typeface="Georgia"/>
              </a:rPr>
              <a:t>вопросительных</a:t>
            </a: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 предложениях.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опросительная формы глагола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have to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всегда образуются с помощью вспомогательного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800" spc="-1" strike="noStrike">
                <a:solidFill>
                  <a:srgbClr val="71481c"/>
                </a:solidFill>
                <a:latin typeface="Georgia"/>
              </a:rPr>
              <a:t>do/does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Georgia"/>
              </a:rPr>
              <a:t>Do I have to help them?</a:t>
            </a:r>
            <a:r>
              <a:rPr b="0" lang="ru-RU" sz="27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00"/>
                </a:solidFill>
                <a:latin typeface="Georgia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должен помогать им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9899"/>
                </a:solidFill>
                <a:latin typeface="Georgia"/>
              </a:rPr>
              <a:t>Must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250560" y="15573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Употребляется говорящим, когда он сам считает, что необходимо совершить действие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Georgia"/>
              </a:rPr>
              <a:t>You must read this book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ы должен прочитать эту книг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b9899"/>
                </a:solidFill>
                <a:latin typeface="Georgia"/>
              </a:rPr>
              <a:t>Must not = mustn’t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ыражает запрещени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Georgia"/>
              </a:rPr>
              <a:t>He mustn’t eat sweets.</a:t>
            </a:r>
            <a:r>
              <a:rPr b="1" lang="ru-RU" sz="36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му нельзя есть конфет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Georgia"/>
              </a:rPr>
              <a:t>You must not make noise at night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 Н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очью нельзя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ш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умет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Shou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употребляется для выражения настоятельного совета, рекомендации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Georgia"/>
              </a:rPr>
              <a:t>You should see a doctor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ам следует показаться врач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3416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se the correct verb: must, have to or should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hadn't enough money and I ... pay by chequ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…see it. It's the best film I've ever se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…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ter this room. It is dangerou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glish children . . . stay at school till the age of 16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think you … learn Spanish if you want to work the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…walk across the street on the crossing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… buy coffee in the cafeteri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…worry about it. It’s not importa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…remember to do your homewor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1" name="Объект 3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5225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1-17T17:17:24Z</dcterms:modified>
  <cp:revision>13</cp:revision>
  <dc:subject/>
  <dc:title>Презентация PowerPoint</dc:title>
</cp:coreProperties>
</file>