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3D5-3AFE-45C6-81C6-8DFAC862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EF4-3AB5-4BB6-A044-7F30E2F1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D70-4213-4B53-BA78-C8408CFF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5C5-37F8-45BB-B831-AFE22433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E1CC4-86FF-4016-AF48-F96FFC2E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8BA2A-C5BA-4925-9C6E-8E7A4719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3C267-D134-4500-8CE2-D37EA7E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3F4DB-6586-4283-9FEB-B1831AE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FBF0-E5C3-43D8-A083-E24ACD34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0A7D-4102-4CCA-882C-DDD70F7E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8D15C-D9C2-4883-A8FF-92BCC3BE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534-8F00-431C-A9A3-F2F9633A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8886-33D1-4F25-9D07-EBF7A8A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2DFB3-A9D3-4F38-A3B4-A3848CE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63D10-C23B-43A4-9534-2EA0C7BD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19AF3-3894-4873-A9F8-EC27204F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3DCF7-2ABA-4C68-B066-BB373D1D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E9406-27D7-4498-B868-35C033B9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D7C48-9D73-4E18-9A56-E36AE6F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2F41D-82DF-4310-AC07-D5F97F2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EC44E-2963-48B2-9731-51F345EC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7F1E3-FFB6-4F27-997E-50022E3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60B-748A-49F8-BC8C-F1BC565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618ED-5F3A-4D5D-BB17-CFE9955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B5DCA-580A-422A-BEDE-85CF6B3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51FEC-9B7D-43DC-9D37-88159E7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EC153-34C8-44E9-A606-F7A6945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1F009-D7F3-45EB-B52B-61C7E0D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366CE-70C1-452E-9E7D-6957D3E7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28BDE-8B1C-4AD5-B547-625A1AD2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A95F-2824-4BCD-9E7E-82B1631A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3F9E-CCA6-44F9-B1FB-0314FE51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05F2-7567-4AF2-8EC8-A41645FB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F7A-A236-4532-9D60-9850C88C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FE31-EF7F-4C48-B47D-DB1E53F1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10A6-DE9B-4399-998A-6421D86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D574-A4C1-4028-860D-A96D92A6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70AF-4516-4AC3-8B57-5C58EA1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D68D-6114-4042-92B4-CA00DCD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632C-E730-44D8-98F0-B321D40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D506-9077-4F91-81D0-B9579B8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FA5C-5948-4614-B894-41DA1675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FC966-AB57-4CD6-9286-0556D719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140E-40C5-40B2-BE63-724217C9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542-7F43-4A04-91C2-BC1020B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0EB1-7FBE-43DA-A649-4AB8B67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C440-19DD-4ABC-97AC-7BAC9FB5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F6220-C547-4A61-9FAF-1ABD989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6717-1488-479A-9275-D20D0BF9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B4ED2-F231-4870-B810-24953300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4D45-F6EB-4A2D-9DBE-9C01288D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DDD6-B297-4835-BA57-D53E84D1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F7BF-26C7-49B7-9DE6-0B6FAF8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130B-E3E4-4AAC-9DA6-E7E1033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A184-93BF-4DAA-867E-F46F5A0C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6D7-944F-45EE-9C9F-0FE311A2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856E-2F82-44AE-AD67-F5A7D2E9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D3B26-997C-408F-B723-3BD12EF5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0BF1D-347F-4315-BAD4-C52D58E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6D692-4946-4C1F-9CA0-6310EEA6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E5432-32A8-48AA-91B4-BFFAB428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BEC5-4772-4B61-A0FF-5B3907E4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6915-FC32-44E2-8E73-0403A280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234B-5404-45D2-B6C0-61530DA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3377-919E-4083-A67A-F31C3D4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365D-F6C4-4CFD-9B82-5114D822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2EA-02C3-45EA-9A01-EF521ED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55E7-9846-47D5-94D1-9AFD623B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D8CF9-1452-425A-9C1F-F1CEB3F3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BABAD-30E9-4E0A-BBD1-357AFCAB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8C5D-D0A9-4CC5-AEC7-E1A205A4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829E-2AF0-44DF-850C-0EDC979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9571-6F87-450D-A1CA-3C8D4900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1573-ED19-4178-A816-C1E0002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E6A3-AAB2-434B-A989-CF422A37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986C-AA71-4A7E-8CBD-0AA274E9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1392-2242-4F17-BB50-D42E1D8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17E-7552-4A77-89FC-D52C0A7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3C31-B8F4-492B-88D9-060F7D3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15730-501E-4950-98D1-41319DB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C6D4-D844-46EE-8229-28B3BF7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8CC6-337B-49C1-88D2-F30B5F89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E9FF0-1EF4-4F40-849C-302A6A8E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EF1-88BE-4F75-BDAD-44EADFD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174A-6B39-4DF8-97F7-23256470A7A7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DFB1-777A-4FFB-AD7F-FB05771D403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A106-4197-43BA-91BA-36C1C5503852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E78D-00C1-4F7C-9BC9-CFB3F477415C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7C5-4BA7-40BB-AA75-A90BB812390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2F2F-BCA9-4A24-92EE-ECF6E3D88CF2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370-C596-4F7C-825B-376618F6D9EB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1904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МОДАЛЬНЫЕ ГЛАГОЛЫ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И ИХ ЭКВИВАЛЕНТЫ</a:t>
            </a:r>
            <a:endParaRPr b="0" lang="en-US" sz="4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1262520" y="366084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Овал 3" descr=""/>
          <p:cNvPicPr/>
          <p:nvPr/>
        </p:nvPicPr>
        <p:blipFill>
          <a:blip r:embed="rId1"/>
          <a:stretch/>
        </p:blipFill>
        <p:spPr>
          <a:xfrm>
            <a:off x="360360" y="4456080"/>
            <a:ext cx="2455920" cy="2109960"/>
          </a:xfrm>
          <a:prstGeom prst="rect">
            <a:avLst/>
          </a:prstGeom>
          <a:ln w="0">
            <a:noFill/>
          </a:ln>
        </p:spPr>
      </p:pic>
      <p:pic>
        <p:nvPicPr>
          <p:cNvPr id="304" name="Овал 4" descr=""/>
          <p:cNvPicPr/>
          <p:nvPr/>
        </p:nvPicPr>
        <p:blipFill>
          <a:blip r:embed="rId2"/>
          <a:stretch/>
        </p:blipFill>
        <p:spPr>
          <a:xfrm>
            <a:off x="3859200" y="4389480"/>
            <a:ext cx="2529000" cy="2108160"/>
          </a:xfrm>
          <a:prstGeom prst="rect">
            <a:avLst/>
          </a:prstGeom>
          <a:ln w="0">
            <a:noFill/>
          </a:ln>
        </p:spPr>
      </p:pic>
      <p:pic>
        <p:nvPicPr>
          <p:cNvPr id="305" name="Овал 5" descr=""/>
          <p:cNvPicPr/>
          <p:nvPr/>
        </p:nvPicPr>
        <p:blipFill>
          <a:blip r:embed="rId3"/>
          <a:stretch/>
        </p:blipFill>
        <p:spPr>
          <a:xfrm>
            <a:off x="3213000" y="1798560"/>
            <a:ext cx="3821040" cy="2529000"/>
          </a:xfrm>
          <a:prstGeom prst="rect">
            <a:avLst/>
          </a:prstGeom>
          <a:ln w="0">
            <a:noFill/>
          </a:ln>
        </p:spPr>
      </p:pic>
      <p:pic>
        <p:nvPicPr>
          <p:cNvPr id="306" name="Овал 6" descr=""/>
          <p:cNvPicPr/>
          <p:nvPr/>
        </p:nvPicPr>
        <p:blipFill>
          <a:blip r:embed="rId4"/>
          <a:stretch/>
        </p:blipFill>
        <p:spPr>
          <a:xfrm>
            <a:off x="390600" y="2017800"/>
            <a:ext cx="2455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8920" y="1483920"/>
            <a:ext cx="9153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come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take your car?                             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настоящ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 not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at ice-cream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go out tonight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said that 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take her book. 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прошедшее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have come yesterday.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          время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>
              <a:lnSpc>
                <a:spcPct val="100000"/>
              </a:lnSpc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100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haroni"/>
                <a:ea typeface="Aharoni"/>
              </a:rPr>
              <a:t>MAY – </a:t>
            </a:r>
            <a:r>
              <a:rPr b="1" lang="ru-RU" sz="43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МОЖНО (РАЗРЕШЕНИЕ)</a:t>
            </a:r>
            <a:endParaRPr b="0" lang="en-US" sz="43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Правая фигурная скобка 3"/>
          <p:cNvSpPr/>
          <p:nvPr/>
        </p:nvSpPr>
        <p:spPr>
          <a:xfrm>
            <a:off x="4821120" y="2421000"/>
            <a:ext cx="308160" cy="1439640"/>
          </a:xfrm>
          <a:custGeom>
            <a:avLst/>
            <a:gdLst>
              <a:gd name="textAreaLeft" fmla="*/ 0 w 308160"/>
              <a:gd name="textAreaRight" fmla="*/ 111240 w 308160"/>
              <a:gd name="textAreaTop" fmla="*/ 7920 h 1439640"/>
              <a:gd name="textAreaBottom" fmla="*/ 143172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2"/>
                  <a:pt x="10800" y="384"/>
                </a:cubicBezTo>
                <a:lnTo>
                  <a:pt x="10800" y="10416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2"/>
                  <a:pt x="10800" y="11184"/>
                </a:cubicBezTo>
                <a:lnTo>
                  <a:pt x="10800" y="21216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авая фигурная скобка 4"/>
          <p:cNvSpPr/>
          <p:nvPr/>
        </p:nvSpPr>
        <p:spPr>
          <a:xfrm>
            <a:off x="5823000" y="4959360"/>
            <a:ext cx="288720" cy="8269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826920"/>
              <a:gd name="textAreaBottom" fmla="*/ 81972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4"/>
                  <a:pt x="10800" y="627"/>
                </a:cubicBezTo>
                <a:lnTo>
                  <a:pt x="10800" y="10173"/>
                </a:lnTo>
                <a:cubicBezTo>
                  <a:pt x="10800" y="10487"/>
                  <a:pt x="16200" y="10800"/>
                  <a:pt x="21600" y="10800"/>
                </a:cubicBezTo>
                <a:cubicBezTo>
                  <a:pt x="16200" y="10800"/>
                  <a:pt x="10800" y="11114"/>
                  <a:pt x="10800" y="11427"/>
                </a:cubicBezTo>
                <a:lnTo>
                  <a:pt x="10800" y="20973"/>
                </a:lnTo>
                <a:cubicBezTo>
                  <a:pt x="10800" y="21287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4000" y="1915920"/>
            <a:ext cx="849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m allowed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as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/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ill be allowed to</a:t>
            </a:r>
            <a:r>
              <a:rPr b="0" lang="en-US" sz="32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for a part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BE ALLOWED TO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РАЗРЕШЕНО ЧТО-ТО С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ru-RU" sz="40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– ЭКВИВАЛЕНТ ГЛАГОЛА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4000" y="1699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alk. – Нам надо поговорить. </a:t>
            </a:r>
            <a:br>
              <a:rPr sz="2800"/>
            </a:b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N’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означает, что лицу, о котором идет речь, не было необходимости совершать действие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eedn'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done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м не нужно было этого делать.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</a:rPr>
              <a:t>NEED TO – </a:t>
            </a:r>
            <a:r>
              <a:rPr b="1" lang="ru-RU" sz="4400" spc="-1" strike="noStrike">
                <a:solidFill>
                  <a:srgbClr val="ff0000"/>
                </a:solidFill>
                <a:latin typeface="Franklin Gothic Medium"/>
              </a:rPr>
              <a:t>НУЖНО (НЕОБХОДИМОСТЬ)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24000" y="1700280"/>
            <a:ext cx="8712000" cy="1224000"/>
          </a:xfrm>
          <a:prstGeom prst="rect">
            <a:avLst/>
          </a:prstGeom>
          <a:solidFill>
            <a:srgbClr val="e0e3d5"/>
          </a:solidFill>
          <a:ln w="0">
            <a:noFill/>
          </a:ln>
        </p:spPr>
        <p:txBody>
          <a:bodyPr anchor="t">
            <a:normAutofit fontScale="35000"/>
          </a:bodyPr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 модальных глаголов не употребляется частичк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альные глаголы не спрягаются;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154800" indent="-15480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c669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модальных глаголов не применяются вспомогательные глаголы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, does, will, did, is, are, am)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88760" y="476280"/>
            <a:ext cx="52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-64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24000" y="4581360"/>
          <a:ext cx="8583480" cy="1987560"/>
        </p:xfrm>
        <a:graphic>
          <a:graphicData uri="http://schemas.openxmlformats.org/drawingml/2006/table">
            <a:tbl>
              <a:tblPr/>
              <a:tblGrid>
                <a:gridCol w="858348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41280" y="3206880"/>
          <a:ext cx="8510760" cy="1083960"/>
        </p:xfrm>
        <a:graphic>
          <a:graphicData uri="http://schemas.openxmlformats.org/drawingml/2006/table">
            <a:tbl>
              <a:tblPr/>
              <a:tblGrid>
                <a:gridCol w="8510760"/>
              </a:tblGrid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Блок-схема: процесс 5"/>
          <p:cNvSpPr/>
          <p:nvPr/>
        </p:nvSpPr>
        <p:spPr>
          <a:xfrm>
            <a:off x="2268360" y="1773360"/>
            <a:ext cx="46072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формы спряжения: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93122"/>
                </a:solidFill>
                <a:uFillTx/>
                <a:latin typeface="Franklin Gothic Medium"/>
              </a:rPr>
              <a:t>Настоящее время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3122"/>
                </a:solidFill>
                <a:latin typeface="Franklin Gothic Medium"/>
              </a:rPr>
              <a:t>    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Franklin Gothic Medium"/>
              </a:rPr>
              <a:t>Can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23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CAN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 – МОЧЬ, УМЕТЬ (УМСТВЕННАЯ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, 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Franklin Gothic Medium"/>
                <a:ea typeface="Aharoni"/>
              </a:rPr>
              <a:t>ФИЗИЧЕСКАЯ ВОЗМОЖНОСТЬ ЧТО-ТО ДЕЛАТЬ</a:t>
            </a:r>
            <a:r>
              <a:rPr b="0" lang="ru-RU" sz="2900" spc="-1" strike="noStrike">
                <a:solidFill>
                  <a:srgbClr val="544848"/>
                </a:solidFill>
                <a:latin typeface="Franklin Gothic Medium"/>
              </a:rPr>
              <a:t>)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63640" y="3860640"/>
          <a:ext cx="6096240" cy="1828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  <a:ea typeface="Arial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 learn the poem by hear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  <a:ea typeface="Arial"/>
                        </a:rPr>
                        <a:t>can not (can’t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learn the poem by heart.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  <a:ea typeface="Arial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 I learn the poem by heart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Birds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  <a:ea typeface="Arial"/>
                        </a:rPr>
                        <a:t>ca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 fly but people 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Franklin Gothic Medium"/>
                          <a:ea typeface="Arial"/>
                        </a:rPr>
                        <a:t>can’t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Arial"/>
                        </a:rPr>
                        <a:t>f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4"/>
          <p:cNvSpPr/>
          <p:nvPr/>
        </p:nvSpPr>
        <p:spPr>
          <a:xfrm>
            <a:off x="1476360" y="3102120"/>
            <a:ext cx="6048360" cy="2232000"/>
          </a:xfrm>
          <a:prstGeom prst="rect">
            <a:avLst/>
          </a:prstGeom>
          <a:solidFill>
            <a:srgbClr val="c6695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1413000"/>
            <a:ext cx="8407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шедшее время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  <a:p>
            <a:pPr marL="44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uld</a:t>
            </a:r>
            <a:endParaRPr b="0" lang="en-US" sz="4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476360" y="312264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swi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not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(couldn’t) swim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he swim?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Franklin Gothic Medium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drive a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4000" y="1628280"/>
            <a:ext cx="806436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будущем времени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 able to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употребляется и спрягается во времени как обычный глагол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BE ABLE TO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БЫТЬ СПОСОБНЫМ ЧТО-ТО</a:t>
            </a: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ДЕЛАТЬ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– 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50920" y="31417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m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./I can dance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as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English when I was 1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 not be 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ter the university.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 able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universit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авая фигурная скобка 5"/>
          <p:cNvSpPr/>
          <p:nvPr/>
        </p:nvSpPr>
        <p:spPr>
          <a:xfrm>
            <a:off x="5508720" y="5084640"/>
            <a:ext cx="576000" cy="86544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865440"/>
              <a:gd name="textAreaBottom" fmla="*/ 8506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авая фигурная скобка 6"/>
          <p:cNvSpPr/>
          <p:nvPr/>
        </p:nvSpPr>
        <p:spPr>
          <a:xfrm>
            <a:off x="5764320" y="4005360"/>
            <a:ext cx="576000" cy="718920"/>
          </a:xfrm>
          <a:custGeom>
            <a:avLst/>
            <a:gdLst>
              <a:gd name="textAreaLeft" fmla="*/ 0 w 576000"/>
              <a:gd name="textAreaRight" fmla="*/ 208080 w 576000"/>
              <a:gd name="textAreaTop" fmla="*/ 14760 h 718920"/>
              <a:gd name="textAreaBottom" fmla="*/ 7041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0"/>
                  <a:pt x="10800" y="1440"/>
                </a:cubicBezTo>
                <a:lnTo>
                  <a:pt x="10800" y="9360"/>
                </a:lnTo>
                <a:cubicBezTo>
                  <a:pt x="10800" y="10080"/>
                  <a:pt x="16200" y="10800"/>
                  <a:pt x="21600" y="10800"/>
                </a:cubicBezTo>
                <a:cubicBezTo>
                  <a:pt x="16200" y="10800"/>
                  <a:pt x="10800" y="11520"/>
                  <a:pt x="10800" y="12240"/>
                </a:cubicBezTo>
                <a:lnTo>
                  <a:pt x="10800" y="20160"/>
                </a:lnTo>
                <a:cubicBezTo>
                  <a:pt x="10800" y="2088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476360" y="1700280"/>
            <a:ext cx="7343640" cy="433440"/>
          </a:xfrm>
          <a:prstGeom prst="rect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процесс 2"/>
          <p:cNvSpPr/>
          <p:nvPr/>
        </p:nvSpPr>
        <p:spPr>
          <a:xfrm>
            <a:off x="179280" y="5589720"/>
            <a:ext cx="8209080" cy="9349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ет моральный долг или долг по закону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respect my parents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must go to school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We must work</a:t>
            </a:r>
            <a:r>
              <a:rPr b="0" lang="ru-RU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every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She must not come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must not cook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must not stay at home today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Must you stay at home today?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глагола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ST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потребляется в настоящем времени.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89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MUST – 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ДОЛЖЕН, ДОЛЖНА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ЕРЕДАЕТ ДОЛЖЕНСТВОВАНИЕ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Блок-схема: процесс 5"/>
          <p:cNvSpPr/>
          <p:nvPr/>
        </p:nvSpPr>
        <p:spPr>
          <a:xfrm>
            <a:off x="6012000" y="5300640"/>
            <a:ext cx="2016000" cy="432000"/>
          </a:xfrm>
          <a:prstGeom prst="flowChartProcess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процесс 4"/>
          <p:cNvSpPr/>
          <p:nvPr/>
        </p:nvSpPr>
        <p:spPr>
          <a:xfrm>
            <a:off x="4859280" y="2421000"/>
            <a:ext cx="2305080" cy="360360"/>
          </a:xfrm>
          <a:prstGeom prst="flowChartProcess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280" y="1628640"/>
            <a:ext cx="874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d to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d to come to his parents.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едш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idn’t have to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have to do this work./I must do this work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has to go to his parents./He must go to his parents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don’t  have to get visa./They mustn’t get visa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I will have to do this work tomorrow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He will have to go to his parents next week.</a:t>
            </a:r>
            <a:r>
              <a:rPr b="0" lang="ru-RU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щее время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They will not have to get visa in a month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915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HAVE TO 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ПРИХОДИТЬСЯ ЧТО-ТО ДЕЛАТЬ</a:t>
            </a:r>
            <a:r>
              <a:rPr b="1" lang="ru-RU" sz="29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ЭКВИВАЛЕНТ ГЛАГОЛА </a:t>
            </a:r>
            <a:r>
              <a:rPr b="1" lang="en-US" sz="2900" spc="-1" strike="noStrike">
                <a:solidFill>
                  <a:srgbClr val="ff0000"/>
                </a:solidFill>
                <a:latin typeface="Aharoni"/>
                <a:ea typeface="Aharoni"/>
              </a:rPr>
              <a:t>MUST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1" name="Правая фигурная скобка 3"/>
          <p:cNvSpPr/>
          <p:nvPr/>
        </p:nvSpPr>
        <p:spPr>
          <a:xfrm>
            <a:off x="4067280" y="1989000"/>
            <a:ext cx="215640" cy="12970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7080"/>
              <a:gd name="textAreaBottom" fmla="*/ 12916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авая фигурная скобка 6"/>
          <p:cNvSpPr/>
          <p:nvPr/>
        </p:nvSpPr>
        <p:spPr>
          <a:xfrm>
            <a:off x="6875640" y="3429000"/>
            <a:ext cx="215640" cy="129528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280"/>
              <a:gd name="textAreaBottom" fmla="*/ 1289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авая фигурная скобка 7"/>
          <p:cNvSpPr/>
          <p:nvPr/>
        </p:nvSpPr>
        <p:spPr>
          <a:xfrm>
            <a:off x="5651640" y="4941720"/>
            <a:ext cx="215640" cy="1295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1295640"/>
              <a:gd name="textAreaBottom" fmla="*/ 1290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7097760" y="3892680"/>
            <a:ext cx="2165040" cy="3988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щ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Блок-схема: процесс 3"/>
          <p:cNvSpPr/>
          <p:nvPr/>
        </p:nvSpPr>
        <p:spPr>
          <a:xfrm>
            <a:off x="250920" y="5229360"/>
            <a:ext cx="7777080" cy="57600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процесс 2"/>
          <p:cNvSpPr/>
          <p:nvPr/>
        </p:nvSpPr>
        <p:spPr>
          <a:xfrm>
            <a:off x="2916360" y="1628640"/>
            <a:ext cx="4032000" cy="50508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264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n’t do it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you do it?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not go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study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едшее время  Perfect Infinitive 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haroni"/>
                <a:ea typeface="Aharoni"/>
              </a:rPr>
              <a:t>SHOULD – </a:t>
            </a: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(СОВЕТ, РЕКОМЕНДАЦИЯ)</a:t>
            </a:r>
            <a:endParaRPr b="0" lang="en-US" sz="45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809280" y="6021360"/>
            <a:ext cx="36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892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have called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Блок-схема: процесс 2"/>
          <p:cNvSpPr/>
          <p:nvPr/>
        </p:nvSpPr>
        <p:spPr>
          <a:xfrm>
            <a:off x="1187280" y="1628640"/>
            <a:ext cx="7272360" cy="720720"/>
          </a:xfrm>
          <a:prstGeom prst="flowChartProcess">
            <a:avLst/>
          </a:prstGeom>
          <a:solidFill>
            <a:srgbClr val="c6695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447560"/>
            <a:ext cx="78915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353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оящее и будущее время</a:t>
            </a:r>
            <a:endParaRPr b="0" lang="en-US" sz="36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learn English./You should learn English. –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Тебе следует изучать английский язык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Глагол </a:t>
            </a: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OUGHT TO </a:t>
            </a:r>
            <a:r>
              <a:rPr b="0" lang="ru-RU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в сочетании с Perfect Infinitive употребляется в отношении прошедшего времени и указывает на то, что действие не было выполнено: 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88920" indent="35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Times New Roman"/>
                <a:ea typeface="Times New Roman"/>
              </a:rPr>
              <a:t>You ought to have done this exercise.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OUGHT TO (</a:t>
            </a:r>
            <a:r>
              <a:rPr b="1" lang="ru-RU" sz="36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СЛЕДУЕТ</a:t>
            </a: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) –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Franklin Gothic Medium"/>
                <a:ea typeface="Aharoni"/>
              </a:rPr>
              <a:t>ЭКВИВАЛЕНТ ГЛАГОЛА 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1:07:05Z</dcterms:created>
  <dc:creator>Арина</dc:creator>
  <dc:description/>
  <dc:language>en-US</dc:language>
  <cp:lastModifiedBy>User</cp:lastModifiedBy>
  <dcterms:modified xsi:type="dcterms:W3CDTF">2016-11-17T17:19:01Z</dcterms:modified>
  <cp:revision>50</cp:revision>
  <dc:subject/>
  <dc:title>Слайд 1</dc:title>
</cp:coreProperties>
</file>