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3.gif" ContentType="image/gif"/>
  <Override PartName="/ppt/media/image20.gif" ContentType="image/gif"/>
  <Override PartName="/ppt/media/image18.gif" ContentType="image/gif"/>
  <Override PartName="/ppt/media/image17.jpeg" ContentType="image/jpeg"/>
  <Override PartName="/ppt/media/image5.gif" ContentType="image/gif"/>
  <Override PartName="/ppt/media/image10.gif" ContentType="image/gif"/>
  <Override PartName="/ppt/media/image16.gif" ContentType="image/gif"/>
  <Override PartName="/ppt/media/image2.png" ContentType="image/png"/>
  <Override PartName="/ppt/media/image15.gif" ContentType="image/gif"/>
  <Override PartName="/ppt/media/image14.gif" ContentType="image/gif"/>
  <Override PartName="/ppt/media/image1.png" ContentType="image/png"/>
  <Override PartName="/ppt/media/image19.gif" ContentType="image/gif"/>
  <Override PartName="/ppt/media/image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EC2E-CCF7-4985-9A0C-64FD13F57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1A15-1E13-43C6-B57A-C338F3716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DB39-213F-48F9-9745-9C35F407F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3321-2485-45EB-8C49-AECFA7854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E1D8C-640E-4BC8-B4EC-EF6A7A972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3BEA9-A0FC-43C6-B4FC-9FFFB4904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BF6C3-C6E2-46B7-8231-835EE9C00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B47AE-4F60-493B-BF38-67DF6EEAB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5BAE2-5DBF-4315-A20B-A80E8F3D3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61675-AF6C-4D16-82E1-A23221229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9F513-D0AF-4114-B7B8-3BE6EA28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95E9-F936-4D6D-ACCA-3D6CFF88A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2B838-F594-43FE-9F9F-34B44F2C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CEBA1-CAE4-40FA-8091-FC4692D3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CC7E3-917A-45DC-86FD-33C5D825B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9E801-93A2-4555-B623-A2B1E0A5A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3844F-3CD8-4BFE-9620-1CD82AE63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964F-F17B-48BD-94FA-51B91EBEA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AA7B-83FD-401B-85AC-B033A734C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46A8-06D0-4370-82E7-D0AC628D4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0135-7BC1-4FDC-AE67-0158167F2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51BD-7673-4E25-BD48-31B2D258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4756-0F44-4674-A099-0E51F6C5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20D9-8818-4368-A6BE-E207B7A0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39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Rectangle 3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0000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Freeform 6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>
                  <a:gd name="textAreaLeft" fmla="*/ 0 w 1680840"/>
                  <a:gd name="textAreaRight" fmla="*/ 1681200 w 1680840"/>
                  <a:gd name="textAreaTop" fmla="*/ 0 h 272880"/>
                  <a:gd name="textAreaBottom" fmla="*/ 273240 h 272880"/>
                </a:gdLst>
                <a:ahLst/>
                <a:rect l="textAreaLeft" t="textAreaTop" r="textAreaRight" b="textAreaBottom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77caa"/>
                  </a:gs>
                  <a:gs pos="100000">
                    <a:srgbClr val="99cc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>
                  <a:gd name="textAreaLeft" fmla="*/ 0 w 6543360"/>
                  <a:gd name="textAreaRight" fmla="*/ 6543720 w 6543360"/>
                  <a:gd name="textAreaTop" fmla="*/ 0 h 1000080"/>
                  <a:gd name="textAreaBottom" fmla="*/ 1000440 h 1000080"/>
                </a:gdLst>
                <a:ahLst/>
                <a:rect l="textAreaLeft" t="textAreaTop" r="textAreaRight" b="textAreaBottom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" name="Group 8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Oval 9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c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" name="Oval 10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" name="Oval 11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" name="Oval 12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" name="Oval 13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" name="Oval 14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" name="Oval 16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" name="Oval 17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" name="Rectangle 18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5139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373CF-8327-471E-9E5D-8BCC74F90897}" type="slidenum">
              <a:rPr b="0" lang="ru-RU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39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9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0" name="Rectangle 4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0000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Rectangle 5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2" name="Rectangle 6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5139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" name="Group 7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4" name="Freeform 8"/>
            <p:cNvSpPr/>
            <p:nvPr/>
          </p:nvSpPr>
          <p:spPr>
            <a:xfrm rot="21092400">
              <a:off x="0" y="2344680"/>
              <a:ext cx="1681200" cy="273240"/>
            </a:xfrm>
            <a:custGeom>
              <a:avLst/>
              <a:gdLst>
                <a:gd name="textAreaLeft" fmla="*/ 0 w 1681200"/>
                <a:gd name="textAreaRight" fmla="*/ 1681560 w 168120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77caa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9"/>
            <p:cNvSpPr/>
            <p:nvPr/>
          </p:nvSpPr>
          <p:spPr>
            <a:xfrm rot="21092400">
              <a:off x="1862280" y="1371240"/>
              <a:ext cx="6543360" cy="1000080"/>
            </a:xfrm>
            <a:custGeom>
              <a:avLst/>
              <a:gdLst>
                <a:gd name="textAreaLeft" fmla="*/ 0 w 6543360"/>
                <a:gd name="textAreaRight" fmla="*/ 6543720 w 6543360"/>
                <a:gd name="textAreaTop" fmla="*/ 0 h 1000080"/>
                <a:gd name="textAreaBottom" fmla="*/ 1000440 h 1000080"/>
              </a:gdLst>
              <a:ahLst/>
              <a:rect l="textAreaLeft" t="textAreaTop" r="textAreaRight" b="textAreaBottom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6" name="Group 10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7" name="Oval 11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Oval 12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Oval 13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Oval 14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Oval 15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Oval 16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Oval 17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Oval 18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Oval 19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42B9F-88A1-40DA-846A-05DEE9C89B6C}" type="slidenum">
              <a:rPr b="0" lang="ru-RU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18.gif"/><Relationship Id="rId10" Type="http://schemas.openxmlformats.org/officeDocument/2006/relationships/image" Target="../media/image19.gi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81056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0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18" name="Picture 10" descr="molnia010"/>
          <p:cNvPicPr/>
          <p:nvPr/>
        </p:nvPicPr>
        <p:blipFill>
          <a:blip r:embed="rId1"/>
          <a:stretch/>
        </p:blipFill>
        <p:spPr>
          <a:xfrm>
            <a:off x="395280" y="4292640"/>
            <a:ext cx="1228680" cy="19731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a218"/>
          <p:cNvPicPr/>
          <p:nvPr/>
        </p:nvPicPr>
        <p:blipFill>
          <a:blip r:embed="rId2"/>
          <a:stretch/>
        </p:blipFill>
        <p:spPr>
          <a:xfrm>
            <a:off x="2411280" y="3284640"/>
            <a:ext cx="949320" cy="1085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3" descr="a213"/>
          <p:cNvPicPr/>
          <p:nvPr/>
        </p:nvPicPr>
        <p:blipFill>
          <a:blip r:embed="rId3"/>
          <a:stretch/>
        </p:blipFill>
        <p:spPr>
          <a:xfrm>
            <a:off x="0" y="476280"/>
            <a:ext cx="1800360" cy="1963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5" descr="a221"/>
          <p:cNvPicPr/>
          <p:nvPr/>
        </p:nvPicPr>
        <p:blipFill>
          <a:blip r:embed="rId4"/>
          <a:stretch/>
        </p:blipFill>
        <p:spPr>
          <a:xfrm>
            <a:off x="5508720" y="3357720"/>
            <a:ext cx="1554120" cy="104436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6"/>
          <p:cNvSpPr/>
          <p:nvPr/>
        </p:nvSpPr>
        <p:spPr>
          <a:xfrm>
            <a:off x="2340000" y="1844640"/>
            <a:ext cx="52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лимпиада по окружающему мир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Narrow"/>
              </a:rPr>
              <a:t>Блицтурнир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835280" y="1916280"/>
            <a:ext cx="73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Кто кукует у кукушки (самец или самка)?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Как называется плодородный слой земли?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Какая нить в природе самая тонкая?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Какое свойство воды человек использует, когда моет посуду, стирает белье и моется сам?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Дышит ли человек через кожу?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Что делит Землю на Северное и Южное полушария?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У какого хищного зверя наших лесов следы похожи на человеческие?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Чем покрыты зубы человека?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Narrow"/>
              </a:rPr>
              <a:t>Узнай по описанию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835280" y="1628280"/>
            <a:ext cx="7129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Растут грибы гнездами, иногда по нескольку десятков штук, и всегда встречаются лишь на пнях или корнях деревьев. Собирать их можно осенью. Шляпка у этих грибов светло-коричневая, с мелкими чешуйками. Ножка тонкая, с белой пленкой. Какие это грибы?_______________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Небольшая птичка. На голове у неё черная шапочка и такого же цвета галстучек. Спинка серенькая, крылышки и хвост коричневые, а брюшко белое. Длинный темный хвост птички всё время покачивается. Кажется, что она испугалась чего-то. Это ___________.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Подземный житель. Он только в редких случаях выходит на поверхность. Шерсть у него черного цвета, густая, короткая, бархатистая. Главная пища – дождевые черви. Это _____________.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Narrow"/>
              </a:rPr>
              <a:t>Путешествие по карте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907640" y="1981080"/>
            <a:ext cx="698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Точки, где ось вращения земли пересекает земную поверхность, называются ……  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Какая часть света состоит их двух материков?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В каком море ловят рыбу жители трёх частей света?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В каких горах вырос «Каменный цветок» П.П. Бажова?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Narrow"/>
              </a:rPr>
              <a:t>Узнай природную зону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63280" y="1981080"/>
            <a:ext cx="705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Narrow"/>
              </a:rPr>
              <a:t>Напиши названия природных зон вместо линий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____________ - это природная зона, где растительный покров из кустарников, трав, лишайников, мхов, отсутствуют деревья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____________ - это природная зона, где растительность из деревьев, кустарников, трав, мхов, лишайников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___________ - это природная зона, где отсутствует сплошной растительный покров, встречаются лишайники, мхи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Narrow"/>
              </a:rPr>
              <a:t>Человек и природа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835280" y="1773000"/>
            <a:ext cx="7092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Каким животным помогут люди, если будут охранять в лесу сосны и ели?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Выпиши, что относится к живой и неживой природе: камень, мох, спички, ящерица, снег, мост, радуга, человек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Какой из предметов сделан из того, что когда-то было живым?  - Глиняная кружка, стальной нож, льняное платье, кирпичный дом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В холодную зиму птиц часто подкармливают. Какой корм им нельзя давать? – семена растений, хлеб ржаной, солёное сало, несолёное сало.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66" name="Picture 4" descr="B_Fly02"/>
          <p:cNvPicPr/>
          <p:nvPr/>
        </p:nvPicPr>
        <p:blipFill>
          <a:blip r:embed="rId1"/>
          <a:stretch/>
        </p:blipFill>
        <p:spPr>
          <a:xfrm>
            <a:off x="324000" y="2997360"/>
            <a:ext cx="1904760" cy="22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19280" y="40428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cc"/>
                </a:solidFill>
                <a:latin typeface="Arial Narrow"/>
              </a:rPr>
              <a:t>Этапы олимпиады: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979640" y="1844640"/>
          <a:ext cx="6912000" cy="4614840"/>
        </p:xfrm>
        <a:graphic>
          <a:graphicData uri="http://schemas.openxmlformats.org/drawingml/2006/table">
            <a:tbl>
              <a:tblPr/>
              <a:tblGrid>
                <a:gridCol w="6912000"/>
              </a:tblGrid>
              <a:tr h="4642560"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Arial Narrow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Все обо всем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Arial Narrow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Защитим Землю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Arial Narrow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В мире животных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Arial Narrow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В мире растений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Arial Narrow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Блицтурнир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Arial Narrow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Узнай по описанию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Arial Narrow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Путешествие по карт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Arial Narrow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Узнай природную землю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Arial Narrow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Человек и природ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Picture 36" descr="a30"/>
          <p:cNvPicPr/>
          <p:nvPr/>
        </p:nvPicPr>
        <p:blipFill>
          <a:blip r:embed="rId1"/>
          <a:stretch/>
        </p:blipFill>
        <p:spPr>
          <a:xfrm>
            <a:off x="7164360" y="2133720"/>
            <a:ext cx="1150920" cy="10461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7" descr="a410"/>
          <p:cNvPicPr/>
          <p:nvPr/>
        </p:nvPicPr>
        <p:blipFill>
          <a:blip r:embed="rId2"/>
          <a:stretch/>
        </p:blipFill>
        <p:spPr>
          <a:xfrm>
            <a:off x="6516720" y="4076640"/>
            <a:ext cx="1554120" cy="21830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8" descr="a25"/>
          <p:cNvPicPr/>
          <p:nvPr/>
        </p:nvPicPr>
        <p:blipFill>
          <a:blip r:embed="rId3"/>
          <a:stretch/>
        </p:blipFill>
        <p:spPr>
          <a:xfrm>
            <a:off x="5003640" y="2276640"/>
            <a:ext cx="19782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Narrow"/>
              </a:rPr>
              <a:t>Все обо всем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27280" y="1628640"/>
            <a:ext cx="741672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Arial Narrow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Narrow"/>
              </a:rPr>
              <a:t>Найди ошибку в утверждении. Выпиши слово-ошибку, затем напиши правильное слово.</a:t>
            </a: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80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Петербург был основан на гористой местности в устье реки Невы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80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Слово-ошибка: _______________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80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Правильное слово: ____________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80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Narrow"/>
              </a:rPr>
              <a:t>II</a:t>
            </a:r>
            <a:r>
              <a:rPr b="0" lang="ru-RU" sz="2800" spc="-1" strike="noStrike">
                <a:solidFill>
                  <a:srgbClr val="ffcc00"/>
                </a:solidFill>
                <a:latin typeface="Arial Narrow"/>
              </a:rPr>
              <a:t>. Укажи цифру правильного утверждения.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80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Где могут встретится друг с другом белый медведь и пингвин?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80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1 – в Арктике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80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2 – в Антарктике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80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3 – в зоопарке</a:t>
            </a:r>
            <a:r>
              <a:rPr b="0" lang="ru-RU" sz="2800" spc="-1" strike="noStrike">
                <a:solidFill>
                  <a:srgbClr val="ffcc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30" name="Picture 4" descr="a233"/>
          <p:cNvPicPr/>
          <p:nvPr/>
        </p:nvPicPr>
        <p:blipFill>
          <a:blip r:embed="rId1"/>
          <a:stretch/>
        </p:blipFill>
        <p:spPr>
          <a:xfrm>
            <a:off x="7451640" y="4797360"/>
            <a:ext cx="150336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Narrow"/>
              </a:rPr>
              <a:t>Все обо всем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692360" y="1700280"/>
            <a:ext cx="71992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Narrow"/>
              </a:rPr>
              <a:t>III.</a:t>
            </a:r>
            <a:r>
              <a:rPr b="0" lang="ru-RU" sz="2400" spc="-1" strike="noStrike">
                <a:solidFill>
                  <a:srgbClr val="ffcc00"/>
                </a:solidFill>
                <a:latin typeface="Arial Narrow"/>
              </a:rPr>
              <a:t> Найди лишнее слово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Кирпич, глина, цемент, асфальт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Лемминг, бурундук, северный олень, песец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Традесканция, ландыш, колеус, бегония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Земля, Венера, Меркурий, Луна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Дуб, клен, лиственница, береза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511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Narrow"/>
              </a:rPr>
              <a:t>IV</a:t>
            </a:r>
            <a:r>
              <a:rPr b="0" lang="ru-RU" sz="2400" spc="-1" strike="noStrike">
                <a:solidFill>
                  <a:srgbClr val="ffcc00"/>
                </a:solidFill>
                <a:latin typeface="Arial Narrow"/>
              </a:rPr>
              <a:t>. В природе «все связано со всем» невидимыми ниточками. Составь из указанных объектов две цепочки (по три объекта в каждой)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511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Ёж 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короед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опавшие листья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511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Ель 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дятел 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дождливый червь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511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1-я цепочка__________________________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511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2-я цепочка__________________________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51192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  <a:p>
            <a:pPr marL="511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33" name="Picture 5" descr="a28"/>
          <p:cNvPicPr/>
          <p:nvPr/>
        </p:nvPicPr>
        <p:blipFill>
          <a:blip r:embed="rId1"/>
          <a:stretch/>
        </p:blipFill>
        <p:spPr>
          <a:xfrm>
            <a:off x="7935840" y="2205000"/>
            <a:ext cx="957240" cy="1944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a237"/>
          <p:cNvPicPr/>
          <p:nvPr/>
        </p:nvPicPr>
        <p:blipFill>
          <a:blip r:embed="rId2"/>
          <a:stretch/>
        </p:blipFill>
        <p:spPr>
          <a:xfrm>
            <a:off x="250920" y="4869000"/>
            <a:ext cx="129204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Narrow"/>
              </a:rPr>
              <a:t>Все обо всем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07640" y="1981080"/>
            <a:ext cx="6550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Narrow"/>
              </a:rPr>
              <a:t>V</a:t>
            </a:r>
            <a:r>
              <a:rPr b="0" lang="ru-RU" sz="2400" spc="-1" strike="noStrike">
                <a:solidFill>
                  <a:srgbClr val="ffcc00"/>
                </a:solidFill>
                <a:latin typeface="Arial Narrow"/>
              </a:rPr>
              <a:t>. Ответь, верны ли утверждения(да или нет):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Смена времен года происходит потому, что Земля вращается вокруг своей оси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Перелётные птицы (ласточки, аисты) улетают на юг, чтобы вывести там потомство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Природа может обойтись без человека, а человек без природы – нет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Россия расположена на материке Евразия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В лесу растут древесные и травянистые растения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Зимой крот впадает в спячку, потому что не может в этот период найти пищу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37" name="Picture 4" descr="a21"/>
          <p:cNvPicPr/>
          <p:nvPr/>
        </p:nvPicPr>
        <p:blipFill>
          <a:blip r:embed="rId1"/>
          <a:stretch/>
        </p:blipFill>
        <p:spPr>
          <a:xfrm>
            <a:off x="179280" y="2414520"/>
            <a:ext cx="1368360" cy="12574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a21"/>
          <p:cNvPicPr/>
          <p:nvPr/>
        </p:nvPicPr>
        <p:blipFill>
          <a:blip r:embed="rId2"/>
          <a:stretch/>
        </p:blipFill>
        <p:spPr>
          <a:xfrm>
            <a:off x="395280" y="2781360"/>
            <a:ext cx="1368360" cy="12571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a21"/>
          <p:cNvPicPr/>
          <p:nvPr/>
        </p:nvPicPr>
        <p:blipFill>
          <a:blip r:embed="rId3"/>
          <a:stretch/>
        </p:blipFill>
        <p:spPr>
          <a:xfrm>
            <a:off x="-252360" y="2997360"/>
            <a:ext cx="136836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Narrow"/>
              </a:rPr>
              <a:t>Все обо всем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1600" y="1773360"/>
            <a:ext cx="77724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Narrow"/>
              </a:rPr>
              <a:t>VI. </a:t>
            </a:r>
            <a:r>
              <a:rPr b="0" lang="ru-RU" sz="2800" spc="-1" strike="noStrike">
                <a:solidFill>
                  <a:srgbClr val="ffcc00"/>
                </a:solidFill>
                <a:latin typeface="Arial Narrow"/>
              </a:rPr>
              <a:t>Назови понятия, соответствующие данным определениям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Уменьшенное изображение земной поверхности на плоскости с помощью условных знаков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Время, за которое Земля совершает полный оборот вокруг Солнца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Особая территория, на которой растения и животные находятся под охраной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Narrow"/>
              </a:rPr>
              <a:t>VII</a:t>
            </a:r>
            <a:r>
              <a:rPr b="0" lang="ru-RU" sz="2800" spc="-1" strike="noStrike">
                <a:solidFill>
                  <a:srgbClr val="ffcc00"/>
                </a:solidFill>
                <a:latin typeface="Arial Narrow"/>
              </a:rPr>
              <a:t>. Напиши определения к указанным понятиям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Горизонт - …….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Глобус - ………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42" name="Picture 4" descr="sphera"/>
          <p:cNvPicPr/>
          <p:nvPr/>
        </p:nvPicPr>
        <p:blipFill>
          <a:blip r:embed="rId1"/>
          <a:stretch/>
        </p:blipFill>
        <p:spPr>
          <a:xfrm>
            <a:off x="1908000" y="692280"/>
            <a:ext cx="973440" cy="6872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"/>
          <p:cNvPicPr/>
          <p:nvPr/>
        </p:nvPicPr>
        <p:blipFill>
          <a:blip r:embed="rId2"/>
          <a:stretch/>
        </p:blipFill>
        <p:spPr>
          <a:xfrm>
            <a:off x="7020000" y="5300640"/>
            <a:ext cx="129708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Narrow"/>
              </a:rPr>
              <a:t>Защитим Землю 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95280" y="2349360"/>
          <a:ext cx="3529080" cy="4248360"/>
        </p:xfrm>
        <a:graphic>
          <a:graphicData uri="http://schemas.openxmlformats.org/drawingml/2006/table">
            <a:tbl>
              <a:tblPr/>
              <a:tblGrid>
                <a:gridCol w="353880"/>
                <a:gridCol w="351000"/>
                <a:gridCol w="353880"/>
                <a:gridCol w="352440"/>
                <a:gridCol w="354240"/>
                <a:gridCol w="352440"/>
                <a:gridCol w="352440"/>
                <a:gridCol w="366480"/>
                <a:gridCol w="338040"/>
                <a:gridCol w="354240"/>
              </a:tblGrid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58"/>
                          </a:solidFill>
                          <a:latin typeface="Arial Narrow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58"/>
                          </a:solidFill>
                          <a:latin typeface="Arial Narrow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58"/>
                          </a:solidFill>
                          <a:latin typeface="Arial Narrow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58"/>
                          </a:solidFill>
                          <a:latin typeface="Arial Narrow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58"/>
                          </a:solidFill>
                          <a:latin typeface="Arial Narrow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58"/>
                          </a:solidFill>
                          <a:latin typeface="Arial Narrow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58"/>
                          </a:solidFill>
                          <a:latin typeface="Arial Narrow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58"/>
                          </a:solidFill>
                          <a:latin typeface="Arial Narrow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Text Box 608"/>
          <p:cNvSpPr/>
          <p:nvPr/>
        </p:nvSpPr>
        <p:spPr>
          <a:xfrm>
            <a:off x="3995640" y="1817640"/>
            <a:ext cx="4969080" cy="50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аз, необходимый для жизни растен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едяная гора, плавающая в океан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амая большая африканская пустын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еленое насаждение, пополняющее атмосферу кислород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асть света в Северном полушар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есто, где река впадает в другой водое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ука о связи живых существ со средой обит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620"/>
          <p:cNvSpPr/>
          <p:nvPr/>
        </p:nvSpPr>
        <p:spPr>
          <a:xfrm>
            <a:off x="324000" y="170028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Реши кроссвор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621" descr="babochka016"/>
          <p:cNvPicPr/>
          <p:nvPr/>
        </p:nvPicPr>
        <p:blipFill>
          <a:blip r:embed="rId1"/>
          <a:stretch/>
        </p:blipFill>
        <p:spPr>
          <a:xfrm>
            <a:off x="2411280" y="3716280"/>
            <a:ext cx="186372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Narrow"/>
              </a:rPr>
              <a:t>В мире животных 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834920" y="1700280"/>
            <a:ext cx="6621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Narrow"/>
              </a:rPr>
              <a:t>Помоги заботливым родителям найти своих детишек. Где они спрятались? Покажи стрелками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51" name="Picture 4" descr="Image0021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2195640" y="2565360"/>
            <a:ext cx="612144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Narrow"/>
              </a:rPr>
              <a:t>В мире растений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763280" y="1628640"/>
            <a:ext cx="72010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Narrow"/>
              </a:rPr>
              <a:t>1.</a:t>
            </a:r>
            <a:r>
              <a:rPr b="0" lang="ru-RU" sz="1800" spc="-1" strike="noStrike">
                <a:solidFill>
                  <a:srgbClr val="ffcc00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Arial Narrow"/>
              </a:rPr>
              <a:t>Где произрастают эти растения? Соедини линией.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Просо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Тимофеевка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Луг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Рогоз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Вороний глаз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Поле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Ряска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Ячмень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Водоём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Кукуруза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Мятлик 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лес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Narrow"/>
              </a:rPr>
              <a:t>2. Распредели данные растения по ярусам. Осина, мох, черника, ветреница, береза, калина, сосна, орешник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1 ярус __________________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2 ярус __________________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3 ярус __________________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54" name="Picture 4" descr="a117"/>
          <p:cNvPicPr/>
          <p:nvPr/>
        </p:nvPicPr>
        <p:blipFill>
          <a:blip r:embed="rId9"/>
          <a:stretch/>
        </p:blipFill>
        <p:spPr>
          <a:xfrm>
            <a:off x="395280" y="1052640"/>
            <a:ext cx="822240" cy="53244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t021"/>
          <p:cNvPicPr/>
          <p:nvPr/>
        </p:nvPicPr>
        <p:blipFill>
          <a:blip r:embed="rId10"/>
          <a:stretch/>
        </p:blipFill>
        <p:spPr>
          <a:xfrm>
            <a:off x="6732720" y="2778120"/>
            <a:ext cx="205092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4T12:28:05Z</dcterms:created>
  <dc:creator/>
  <dc:description/>
  <dc:language>en-US</dc:language>
  <cp:lastModifiedBy>ВИП</cp:lastModifiedBy>
  <dcterms:modified xsi:type="dcterms:W3CDTF">2013-12-15T13:27:01Z</dcterms:modified>
  <cp:revision>98</cp:revision>
  <dc:subject/>
  <dc:title>Олимпиада по окружающему миру</dc:title>
</cp:coreProperties>
</file>