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7.jpeg" ContentType="image/jpeg"/>
  <Override PartName="/ppt/media/image5.gif" ContentType="image/gif"/>
  <Override PartName="/ppt/media/image10.gif" ContentType="image/gif"/>
  <Override PartName="/ppt/media/image16.gif" ContentType="image/gif"/>
  <Override PartName="/ppt/media/image2.png" ContentType="image/png"/>
  <Override PartName="/ppt/media/image15.gif" ContentType="image/gif"/>
  <Override PartName="/ppt/media/image14.gif" ContentType="image/gif"/>
  <Override PartName="/ppt/media/image1.png" ContentType="image/png"/>
  <Override PartName="/ppt/media/image19.gif" ContentType="image/gif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BA0B-8192-425D-9930-0B6142688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97F9-3750-461A-BA4E-80EA9A18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1595-F3FC-4385-BF95-6343FA0B0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1888-0B8B-44BE-B3D2-F856ABADD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E34B-9E4D-44FE-B2AE-F40C0446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0120-3164-4E2E-9BE1-FD9A4DA0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B917-4D79-40D1-8E22-9C6E841B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8F83-C091-4A44-B1AA-B89F93FB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B7FD-5726-4C5D-9E5A-322AA6C5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BF8F-9CDC-44F6-9CBB-AC037EF4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4034-3C43-415F-B481-5A2CA98D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0D80-5774-425A-9353-50F0B619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B14E-01CF-4F09-A3E6-D662BF6D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14EC-7056-425E-93C4-E6412299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9BA6-183C-4B23-9092-9CD33BE4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9084-787D-47FF-9B47-C6CFFC6E4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FF99-DFB5-4BD7-8691-97AF5705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8BF5-55AD-405A-9E70-2EE44D33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86CD-75B1-43DE-82EC-2B0AB6AB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B94A-12EF-4BD4-A07C-1A0DD175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15D0-8649-43BF-B16D-B22F6D61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A2F7-2F42-40FA-8E4B-700D5044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E717-D0C2-47BB-A89E-C59C5DCE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7737-2362-4129-AA9D-4F0CAFBC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39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0000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>
                  <a:gd name="textAreaLeft" fmla="*/ 0 w 1680840"/>
                  <a:gd name="textAreaRight" fmla="*/ 1681200 w 168084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77caa"/>
                  </a:gs>
                  <a:gs pos="100000">
                    <a:srgbClr val="99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>
                  <a:gd name="textAreaLeft" fmla="*/ 0 w 6543360"/>
                  <a:gd name="textAreaRight" fmla="*/ 6543720 w 6543360"/>
                  <a:gd name="textAreaTop" fmla="*/ 0 h 1000080"/>
                  <a:gd name="textAreaBottom" fmla="*/ 1000440 h 1000080"/>
                </a:gdLst>
                <a:ahLst/>
                <a:rect l="textAreaLeft" t="textAreaTop" r="textAreaRight" b="textAreaBottom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5139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A1AB-FFA0-49F5-9B37-F7EE0923C111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39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Rectangle 4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0000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5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" name="Rectangle 6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5139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Group 7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Freeform 8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77caa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>
                <a:gd name="textAreaLeft" fmla="*/ 0 w 6543360"/>
                <a:gd name="textAreaRight" fmla="*/ 6543720 w 6543360"/>
                <a:gd name="textAreaTop" fmla="*/ 0 h 1000080"/>
                <a:gd name="textAreaBottom" fmla="*/ 1000440 h 1000080"/>
              </a:gdLst>
              <a:ahLst/>
              <a:rect l="textAreaLeft" t="textAreaTop" r="textAreaRight" b="textAreaBottom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" name="Group 10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Oval 11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Oval 12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Oval 13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Oval 14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Oval 15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Oval 16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Oval 17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Oval 18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Oval 19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A2C1-BF45-4068-9165-34FD6A6214A3}" type="slidenum">
              <a:rPr b="0" lang="ru-RU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8.gif"/><Relationship Id="rId10" Type="http://schemas.openxmlformats.org/officeDocument/2006/relationships/image" Target="../media/image19.gi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1056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18" name="Picture 10" descr="molnia010"/>
          <p:cNvPicPr/>
          <p:nvPr/>
        </p:nvPicPr>
        <p:blipFill>
          <a:blip r:embed="rId1"/>
          <a:stretch/>
        </p:blipFill>
        <p:spPr>
          <a:xfrm>
            <a:off x="395280" y="4292640"/>
            <a:ext cx="1228680" cy="1973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a218"/>
          <p:cNvPicPr/>
          <p:nvPr/>
        </p:nvPicPr>
        <p:blipFill>
          <a:blip r:embed="rId2"/>
          <a:stretch/>
        </p:blipFill>
        <p:spPr>
          <a:xfrm>
            <a:off x="2411280" y="3284640"/>
            <a:ext cx="949320" cy="1085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a213"/>
          <p:cNvPicPr/>
          <p:nvPr/>
        </p:nvPicPr>
        <p:blipFill>
          <a:blip r:embed="rId3"/>
          <a:stretch/>
        </p:blipFill>
        <p:spPr>
          <a:xfrm>
            <a:off x="0" y="476280"/>
            <a:ext cx="1800360" cy="1963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a221"/>
          <p:cNvPicPr/>
          <p:nvPr/>
        </p:nvPicPr>
        <p:blipFill>
          <a:blip r:embed="rId4"/>
          <a:stretch/>
        </p:blipFill>
        <p:spPr>
          <a:xfrm>
            <a:off x="5508720" y="3357720"/>
            <a:ext cx="1554120" cy="1044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6"/>
          <p:cNvSpPr/>
          <p:nvPr/>
        </p:nvSpPr>
        <p:spPr>
          <a:xfrm>
            <a:off x="2340000" y="184464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лимпиада по окружающему мир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Блицтурнир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835280" y="1916280"/>
            <a:ext cx="73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Кто кукует у кукушки (самец или самка)?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Как называется плодородный слой земли?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Какая нить в природе самая тонкая?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Какое свойство воды человек использует, когда моет посуду, стирает белье и моется сам?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Дышит ли человек через кожу?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Что делит Землю на Северное и Южное полушария?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У какого хищного зверя наших лесов следы похожи на человеческие?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Чем покрыты зубы человека?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Узнай по описанию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835280" y="1628280"/>
            <a:ext cx="712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Растут грибы гнездами, иногда по нескольку десятков штук, и всегда встречаются лишь на пнях или корнях деревьев. Собирать их можно осенью. Шляпка у этих грибов светло-коричневая, с мелкими чешуйками. Ножка тонкая, с белой пленкой. Какие это грибы?_______________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Небольшая птичка. На голове у неё черная шапочка и такого же цвета галстучек. Спинка серенькая, крылышки и хвост коричневые, а брюшко белое. Длинный темный хвост птички всё время покачивается. Кажется, что она испугалась чего-то. Это ___________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одземный житель. Он только в редких случаях выходит на поверхность. Шерсть у него черного цвета, густая, короткая, бархатистая. Главная пища – дождевые черви. Это _____________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Путешествие по карте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907640" y="1981080"/>
            <a:ext cx="698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Точки, где ось вращения земли пересекает земную поверхность, называются ……  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Какая часть света состоит их двух материков?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В каком море ловят рыбу жители трёх частей света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В каких горах вырос «Каменный цветок» П.П. Бажова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Узнай природную зону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63280" y="1981080"/>
            <a:ext cx="705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Narrow"/>
              </a:rPr>
              <a:t>Напиши названия природных зон вместо линий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____________ - это природная зона, где растительный покров из кустарников, трав, лишайников, мхов, отсутствуют деревья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____________ - это природная зона, где растительность из деревьев, кустарников, трав, мхов, лишайников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___________ - это природная зона, где отсутствует сплошной растительный покров, встречаются лишайники, мхи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Человек и природа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835280" y="1773000"/>
            <a:ext cx="7092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Каким животным помогут люди, если будут охранять в лесу сосны и ели?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ыпиши, что относится к живой и неживой природе: камень, мох, спички, ящерица, снег, мост, радуга, человек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Какой из предметов сделан из того, что когда-то было живым?  - Глиняная кружка, стальной нож, льняное платье, кирпичный дом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 холодную зиму птиц часто подкармливают. Какой корм им нельзя давать? – семена растений, хлеб ржаной, солёное сало, несолёное сало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66" name="Picture 4" descr="B_Fly02"/>
          <p:cNvPicPr/>
          <p:nvPr/>
        </p:nvPicPr>
        <p:blipFill>
          <a:blip r:embed="rId1"/>
          <a:stretch/>
        </p:blipFill>
        <p:spPr>
          <a:xfrm>
            <a:off x="324000" y="2997360"/>
            <a:ext cx="1904760" cy="22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19280" y="40428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Arial Narrow"/>
              </a:rPr>
              <a:t>Этапы олимпиады: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979640" y="1844640"/>
          <a:ext cx="6912000" cy="4614840"/>
        </p:xfrm>
        <a:graphic>
          <a:graphicData uri="http://schemas.openxmlformats.org/drawingml/2006/table">
            <a:tbl>
              <a:tblPr/>
              <a:tblGrid>
                <a:gridCol w="691200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Arial Narrow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се обо все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Arial Narrow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Защитим Землю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Arial Narrow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 мире животных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Arial Narrow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 мире растений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Arial Narrow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Блицтурнир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Arial Narrow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Узнай по описанию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Arial Narrow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утешествие по карт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Arial Narrow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Узнай природную землю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Arial Narrow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Человек и приро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Picture 36" descr="a30"/>
          <p:cNvPicPr/>
          <p:nvPr/>
        </p:nvPicPr>
        <p:blipFill>
          <a:blip r:embed="rId1"/>
          <a:stretch/>
        </p:blipFill>
        <p:spPr>
          <a:xfrm>
            <a:off x="7164360" y="2133720"/>
            <a:ext cx="1150920" cy="1046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7" descr="a410"/>
          <p:cNvPicPr/>
          <p:nvPr/>
        </p:nvPicPr>
        <p:blipFill>
          <a:blip r:embed="rId2"/>
          <a:stretch/>
        </p:blipFill>
        <p:spPr>
          <a:xfrm>
            <a:off x="6516720" y="4076640"/>
            <a:ext cx="1554120" cy="2183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8" descr="a25"/>
          <p:cNvPicPr/>
          <p:nvPr/>
        </p:nvPicPr>
        <p:blipFill>
          <a:blip r:embed="rId3"/>
          <a:stretch/>
        </p:blipFill>
        <p:spPr>
          <a:xfrm>
            <a:off x="5003640" y="2276640"/>
            <a:ext cx="19782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Все обо всем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27280" y="1628640"/>
            <a:ext cx="7416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 Narrow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Narrow"/>
              </a:rPr>
              <a:t>Найди ошибку в утверждении. Выпиши слово-ошибку, затем напиши правильное слово.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Петербург был основан на гористой местности в устье реки Невы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Слово-ошибка: _______________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Правильное слово: ____________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Narrow"/>
              </a:rPr>
              <a:t>II</a:t>
            </a:r>
            <a:r>
              <a:rPr b="0" lang="ru-RU" sz="2800" spc="-1" strike="noStrike">
                <a:solidFill>
                  <a:srgbClr val="ffcc00"/>
                </a:solidFill>
                <a:latin typeface="Arial Narrow"/>
              </a:rPr>
              <a:t>. Укажи цифру правильного утверждения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Где могут встретится друг с другом белый медведь и пингвин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1 – в Арктике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2 – в Антарктике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3 – в зоопарке</a:t>
            </a:r>
            <a:r>
              <a:rPr b="0" lang="ru-RU" sz="2800" spc="-1" strike="noStrike">
                <a:solidFill>
                  <a:srgbClr val="ffcc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0" name="Picture 4" descr="a233"/>
          <p:cNvPicPr/>
          <p:nvPr/>
        </p:nvPicPr>
        <p:blipFill>
          <a:blip r:embed="rId1"/>
          <a:stretch/>
        </p:blipFill>
        <p:spPr>
          <a:xfrm>
            <a:off x="7451640" y="4797360"/>
            <a:ext cx="15033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Все обо всем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92360" y="1700280"/>
            <a:ext cx="71992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Narrow"/>
              </a:rPr>
              <a:t>III.</a:t>
            </a:r>
            <a:r>
              <a:rPr b="0" lang="ru-RU" sz="2400" spc="-1" strike="noStrike">
                <a:solidFill>
                  <a:srgbClr val="ffcc00"/>
                </a:solidFill>
                <a:latin typeface="Arial Narrow"/>
              </a:rPr>
              <a:t> Найди лишнее слово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Кирпич, глина, цемент, асфальт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Лемминг, бурундук, северный олень, песец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Традесканция, ландыш, колеус, бегония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Земля, Венера, Меркурий, Луна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Дуб, клен, лиственница, береза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Narrow"/>
              </a:rPr>
              <a:t>IV</a:t>
            </a:r>
            <a:r>
              <a:rPr b="0" lang="ru-RU" sz="2400" spc="-1" strike="noStrike">
                <a:solidFill>
                  <a:srgbClr val="ffcc00"/>
                </a:solidFill>
                <a:latin typeface="Arial Narrow"/>
              </a:rPr>
              <a:t>. В природе «все связано со всем» невидимыми ниточками. Составь из указанных объектов две цепочки (по три объекта в каждой)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Ёж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короед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опавшие листья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Ель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дятел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дождливый червь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1-я цепочка__________________________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2-я цепочка__________________________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119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  <a:p>
            <a:pPr marL="511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3" name="Picture 5" descr="a28"/>
          <p:cNvPicPr/>
          <p:nvPr/>
        </p:nvPicPr>
        <p:blipFill>
          <a:blip r:embed="rId1"/>
          <a:stretch/>
        </p:blipFill>
        <p:spPr>
          <a:xfrm>
            <a:off x="7935840" y="2205000"/>
            <a:ext cx="957240" cy="194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a237"/>
          <p:cNvPicPr/>
          <p:nvPr/>
        </p:nvPicPr>
        <p:blipFill>
          <a:blip r:embed="rId2"/>
          <a:stretch/>
        </p:blipFill>
        <p:spPr>
          <a:xfrm>
            <a:off x="250920" y="4869000"/>
            <a:ext cx="129204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Все обо всем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07640" y="1981080"/>
            <a:ext cx="6550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Narrow"/>
              </a:rPr>
              <a:t>V</a:t>
            </a:r>
            <a:r>
              <a:rPr b="0" lang="ru-RU" sz="2400" spc="-1" strike="noStrike">
                <a:solidFill>
                  <a:srgbClr val="ffcc00"/>
                </a:solidFill>
                <a:latin typeface="Arial Narrow"/>
              </a:rPr>
              <a:t>. Ответь, верны ли утверждения(да или нет)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Смена времен года происходит потому, что Земля вращается вокруг своей оси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ерелётные птицы (ласточки, аисты) улетают на юг, чтобы вывести там потомство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рирода может обойтись без человека, а человек без природы – нет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Россия расположена на материке Евразия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 лесу растут древесные и травянистые растения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Зимой крот впадает в спячку, потому что не может в этот период найти пищу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7" name="Picture 4" descr="a21"/>
          <p:cNvPicPr/>
          <p:nvPr/>
        </p:nvPicPr>
        <p:blipFill>
          <a:blip r:embed="rId1"/>
          <a:stretch/>
        </p:blipFill>
        <p:spPr>
          <a:xfrm>
            <a:off x="179280" y="2414520"/>
            <a:ext cx="1368360" cy="1257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a21"/>
          <p:cNvPicPr/>
          <p:nvPr/>
        </p:nvPicPr>
        <p:blipFill>
          <a:blip r:embed="rId2"/>
          <a:stretch/>
        </p:blipFill>
        <p:spPr>
          <a:xfrm>
            <a:off x="395280" y="2781360"/>
            <a:ext cx="1368360" cy="1257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a21"/>
          <p:cNvPicPr/>
          <p:nvPr/>
        </p:nvPicPr>
        <p:blipFill>
          <a:blip r:embed="rId3"/>
          <a:stretch/>
        </p:blipFill>
        <p:spPr>
          <a:xfrm>
            <a:off x="-252360" y="2997360"/>
            <a:ext cx="136836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Все обо всем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Narrow"/>
              </a:rPr>
              <a:t>VI. </a:t>
            </a:r>
            <a:r>
              <a:rPr b="0" lang="ru-RU" sz="2800" spc="-1" strike="noStrike">
                <a:solidFill>
                  <a:srgbClr val="ffcc00"/>
                </a:solidFill>
                <a:latin typeface="Arial Narrow"/>
              </a:rPr>
              <a:t>Назови понятия, соответствующие данным определениям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Уменьшенное изображение земной поверхности на плоскости с помощью условных знаков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Время, за которое Земля совершает полный оборот вокруг Солнца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Особая территория, на которой растения и животные находятся под охраной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Narrow"/>
              </a:rPr>
              <a:t>VII</a:t>
            </a:r>
            <a:r>
              <a:rPr b="0" lang="ru-RU" sz="2800" spc="-1" strike="noStrike">
                <a:solidFill>
                  <a:srgbClr val="ffcc00"/>
                </a:solidFill>
                <a:latin typeface="Arial Narrow"/>
              </a:rPr>
              <a:t>. Напиши определения к указанным понятиям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Горизонт - …….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Глобус - ………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2" name="Picture 4" descr="sphera"/>
          <p:cNvPicPr/>
          <p:nvPr/>
        </p:nvPicPr>
        <p:blipFill>
          <a:blip r:embed="rId1"/>
          <a:stretch/>
        </p:blipFill>
        <p:spPr>
          <a:xfrm>
            <a:off x="1908000" y="692280"/>
            <a:ext cx="973440" cy="687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7020000" y="5300640"/>
            <a:ext cx="12970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Защитим Землю 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95280" y="2349360"/>
          <a:ext cx="3529080" cy="4248360"/>
        </p:xfrm>
        <a:graphic>
          <a:graphicData uri="http://schemas.openxmlformats.org/drawingml/2006/table">
            <a:tbl>
              <a:tblPr/>
              <a:tblGrid>
                <a:gridCol w="353880"/>
                <a:gridCol w="351000"/>
                <a:gridCol w="353880"/>
                <a:gridCol w="352440"/>
                <a:gridCol w="354240"/>
                <a:gridCol w="352440"/>
                <a:gridCol w="352440"/>
                <a:gridCol w="366480"/>
                <a:gridCol w="338040"/>
                <a:gridCol w="354240"/>
              </a:tblGrid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58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58"/>
                          </a:solidFill>
                          <a:latin typeface="Arial Narrow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58"/>
                          </a:solidFill>
                          <a:latin typeface="Arial Narrow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58"/>
                          </a:solidFill>
                          <a:latin typeface="Arial Narrow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58"/>
                          </a:solidFill>
                          <a:latin typeface="Arial Narrow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58"/>
                          </a:solidFill>
                          <a:latin typeface="Arial Narrow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58"/>
                          </a:solidFill>
                          <a:latin typeface="Arial Narrow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58"/>
                          </a:solidFill>
                          <a:latin typeface="Arial Narrow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 Box 608"/>
          <p:cNvSpPr/>
          <p:nvPr/>
        </p:nvSpPr>
        <p:spPr>
          <a:xfrm>
            <a:off x="3995640" y="1817640"/>
            <a:ext cx="496908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з, необходимый для жизни раст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дяная гора, плавающая в океа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мая большая африканская пустын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еленое насаждение, пополняющее атмосферу кислород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асть света в Северном полушар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сто, где река впадает в другой водо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ука о связи живых существ со средой обит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620"/>
          <p:cNvSpPr/>
          <p:nvPr/>
        </p:nvSpPr>
        <p:spPr>
          <a:xfrm>
            <a:off x="324000" y="170028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Реши кроссвор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621" descr="babochka016"/>
          <p:cNvPicPr/>
          <p:nvPr/>
        </p:nvPicPr>
        <p:blipFill>
          <a:blip r:embed="rId1"/>
          <a:stretch/>
        </p:blipFill>
        <p:spPr>
          <a:xfrm>
            <a:off x="2411280" y="3716280"/>
            <a:ext cx="186372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В мире животных 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834920" y="1700280"/>
            <a:ext cx="662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Narrow"/>
              </a:rPr>
              <a:t>Помоги заботливым родителям найти своих детишек. Где они спрятались? Покажи стрелками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1" name="Picture 4" descr="Image0021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2195640" y="2565360"/>
            <a:ext cx="612144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В мире растений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63280" y="1628640"/>
            <a:ext cx="7201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Narrow"/>
              </a:rPr>
              <a:t>1.</a:t>
            </a:r>
            <a:r>
              <a:rPr b="0" lang="ru-RU" sz="1800" spc="-1" strike="noStrike">
                <a:solidFill>
                  <a:srgbClr val="ffcc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 Narrow"/>
              </a:rPr>
              <a:t>Где произрастают эти растения? Соедини линией.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росо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Тимофеевка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Луг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Рогоз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ороний глаз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оле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Ряск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Ячмень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одоём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Кукуру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Мятлик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лес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Narrow"/>
              </a:rPr>
              <a:t>2. Распредели данные растения по ярусам. Осина, мох, черника, ветреница, береза, калина, сосна, орешник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1 ярус __________________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2 ярус __________________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3 ярус __________________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4" name="Picture 4" descr="a117"/>
          <p:cNvPicPr/>
          <p:nvPr/>
        </p:nvPicPr>
        <p:blipFill>
          <a:blip r:embed="rId9"/>
          <a:stretch/>
        </p:blipFill>
        <p:spPr>
          <a:xfrm>
            <a:off x="395280" y="1052640"/>
            <a:ext cx="822240" cy="5324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t021"/>
          <p:cNvPicPr/>
          <p:nvPr/>
        </p:nvPicPr>
        <p:blipFill>
          <a:blip r:embed="rId10"/>
          <a:stretch/>
        </p:blipFill>
        <p:spPr>
          <a:xfrm>
            <a:off x="6732720" y="2778120"/>
            <a:ext cx="205092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2:28:05Z</dcterms:created>
  <dc:creator/>
  <dc:description/>
  <dc:language>en-US</dc:language>
  <cp:lastModifiedBy>ВИП</cp:lastModifiedBy>
  <dcterms:modified xsi:type="dcterms:W3CDTF">2013-12-15T13:27:01Z</dcterms:modified>
  <cp:revision>98</cp:revision>
  <dc:subject/>
  <dc:title>Олимпиада по окружающему миру</dc:title>
</cp:coreProperties>
</file>