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D8B-1CE7-40B9-BDE4-0334DCD1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F96-51AE-438B-BFE7-094E7E3C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CB2-D099-4603-8E4E-27CC7E82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8EC-53BF-4384-9C92-66F2184D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08F0-6CF0-494F-ADB0-8A9F9A78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346A-5FF4-47D8-8A6C-0D7D3E79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96FF-5A3C-4249-A9B8-FED166F4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5D3C-B696-4BAE-ACDA-E0EDC845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5114-CA75-474A-A24C-5E84B7AF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ED29-EC58-4885-B807-E0C4BE43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C60B-9FF8-4B95-8674-8C0EB5D8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1F0-EC3B-4DD6-8DBC-E5A1049D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794E-FA6B-4D4D-A48E-3492C00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0773-A1E7-4FA1-BF8D-DB52063C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0A62-FE1C-4FF3-9FF1-1C74D3BA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3F80-63A7-4F63-AC42-EB8A2A93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6722-F951-421D-89E2-E521E9CC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7DE87-0132-48E7-B214-5267FA79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AE4C-0958-41D7-A81E-16FE64A4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3D57-181E-4A93-8034-DA9E6E08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4D1F-CCDD-4E5F-B25F-DCD8247E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14DB-E83E-49FD-82EF-6570005E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AFD-662F-402D-BC9E-F74CA507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8AD46-0CB5-4DBB-8C7C-1BD28C4A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9AE7-C02B-4972-BBC7-4BC0FF49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78E2-A84B-4585-A972-C650E846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17A25-F383-4C66-9BE2-B4C97416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4A06-E6F8-47B1-BCF9-555D5EE6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3D10-5FB8-4E59-B5F5-88DAEC64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3B4C-C35E-405D-BFDC-CFA2174A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3D61-009A-462B-BE80-697C4FB3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56E33-1AF8-49EB-83B6-7F11AF5E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B295-A014-4A55-A1E8-8156BE87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508-80B6-4746-AAAE-54BE7350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2EA1-8F4C-4554-82B4-98932A24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2C09-C1BE-4CAA-88B6-CFC0AEC9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0838-0A81-40FA-9341-AEB57F9B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EB32-24BC-4F11-B3FB-6BB3E399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4C1D-9B1D-4927-8E41-61EE58F0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07DC-0190-4975-AC46-9DBD8F6D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3082-2CC8-45E8-B64E-670A791A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21622-B6C5-40F1-86E0-879C143A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1544-6486-476C-9512-164FC728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21534-0257-4300-B5E8-6D0FD2B5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F8C-AC59-40AF-9870-08872666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C898-25EF-42EA-A9B6-59F1FDE5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ADA6-ADE0-4964-B6AA-53B215EF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91E5E-228D-4B42-AB2E-15F40DB9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1B57-ED55-4D2E-8FD1-920D4A77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95D3-4DAA-4CBC-80E2-8D33B8D7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0A5F-1EB3-432F-A71D-1AD4E36B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AD07E-2E52-4E8F-8118-F23BD6E8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29913-B717-48CA-A690-2C335505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8C43-539D-4831-8919-276160C2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D0EAA-BD18-4D3A-9C55-ACDB126C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218-18A3-4CAC-8A23-28658913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84B1E-FBD9-40F8-A94D-A22695AE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B17-E83A-4BD5-985B-73DF00F0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CC7-ED88-4F47-B873-67D9B7B6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BCF-234E-4C5D-BA0D-7D1A79F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3F65-E2C7-4589-AA20-FB0E4BA49D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ECE5-73ED-4194-82DD-CE853DC693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2BA-8D84-4954-9BF6-C9FAE052E0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37FD-4FE7-44F8-B05F-2867645013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E49B-36F5-46BE-8D01-1D4DBB2DEC5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Учитель 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Куляпина Елизавета Сергеевн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АКТИКУМ 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PAINT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"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324000" y="14760"/>
            <a:ext cx="8496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Урок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Создание рисунков в графическом редакт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рафический редактор – программа для создания, сохранения и печати рисунков. Редакторы бывают растровые и векторные. В растровых редакторах рисунки состоят из пикселей – отдельных точек, а в векторных редакторах рисунки состоят из геометрических фигу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рафический редактор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int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дназначен для работы с растровыми изображениями. Он запускается командой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уск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се программы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тандартные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int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сновную часть окна составляет рабочая область. Слева от рабочей области – Панель инструментов, под ней – окно свойств каждого инструмента, ниже рабочей области – палитра цветов, наверху – ме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500120" y="2943360"/>
            <a:ext cx="5303880" cy="36432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3"/>
          <p:cNvSpPr/>
          <p:nvPr/>
        </p:nvSpPr>
        <p:spPr>
          <a:xfrm>
            <a:off x="5072040" y="4643280"/>
            <a:ext cx="1333440" cy="314640"/>
          </a:xfrm>
          <a:prstGeom prst="wedgeRoundRectCallout">
            <a:avLst>
              <a:gd name="adj1" fmla="val 42712"/>
              <a:gd name="adj2" fmla="val 23363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бочая обла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5143680" y="3000240"/>
            <a:ext cx="657000" cy="314640"/>
          </a:xfrm>
          <a:prstGeom prst="wedgeRoundRectCallout">
            <a:avLst>
              <a:gd name="adj1" fmla="val -189421"/>
              <a:gd name="adj2" fmla="val -6333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ен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357280" y="3643200"/>
            <a:ext cx="1124280" cy="247680"/>
          </a:xfrm>
          <a:prstGeom prst="wedgeRoundRectCallout">
            <a:avLst>
              <a:gd name="adj1" fmla="val -68814"/>
              <a:gd name="adj2" fmla="val 16769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2357280" y="5000760"/>
            <a:ext cx="1733760" cy="266400"/>
          </a:xfrm>
          <a:prstGeom prst="wedgeRoundRectCallout">
            <a:avLst>
              <a:gd name="adj1" fmla="val -64944"/>
              <a:gd name="adj2" fmla="val 13785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ойства инструмен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6072120" y="6215040"/>
            <a:ext cx="914400" cy="314280"/>
          </a:xfrm>
          <a:prstGeom prst="wedgeRoundRectCallout">
            <a:avLst>
              <a:gd name="adj1" fmla="val -132500"/>
              <a:gd name="adj2" fmla="val 2757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лит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2428920" y="6072120"/>
            <a:ext cx="3085920" cy="266760"/>
          </a:xfrm>
          <a:prstGeom prst="wedgeRoundRectCallout">
            <a:avLst>
              <a:gd name="adj1" fmla="val -73518"/>
              <a:gd name="adj2" fmla="val 5712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Цвет переднего плана (левая кнопка мыш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2643120" y="6429240"/>
            <a:ext cx="2543400" cy="257400"/>
          </a:xfrm>
          <a:prstGeom prst="wedgeRoundRectCallout">
            <a:avLst>
              <a:gd name="adj1" fmla="val -86027"/>
              <a:gd name="adj2" fmla="val -662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Цвет фона (правая кнопка мыш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357120" y="285840"/>
            <a:ext cx="581040" cy="53964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93744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Свободное рис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пуст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int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Установи размер страницы 900 на 600 пикселей (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ИСУНОК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ТРИБУТ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Залей страницу голубым цветом. Используя инструмент Карандаш, который рисует линии в один пиксель толщиной, нарисуй облака и волны. Используя залитый эллипс и линии в три пикселя толщиной, нарисуй солнце. Закрашенным многоугольником нарисуй лодку и парус. Лишние детали можно стирать ластиком или выделять и удалять кнопкой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ete</a:t>
            </a:r>
            <a:r>
              <a:rPr b="1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428840" y="3286080"/>
            <a:ext cx="6610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3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46692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25"/>
          <p:cNvSpPr/>
          <p:nvPr/>
        </p:nvSpPr>
        <p:spPr>
          <a:xfrm>
            <a:off x="142920" y="1714680"/>
            <a:ext cx="581040" cy="5410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1428840" y="2214720"/>
            <a:ext cx="493560" cy="4730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9"/>
          <p:cNvSpPr/>
          <p:nvPr/>
        </p:nvSpPr>
        <p:spPr>
          <a:xfrm>
            <a:off x="928800" y="2214720"/>
            <a:ext cx="415800" cy="3999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3"/>
          <p:cNvSpPr/>
          <p:nvPr/>
        </p:nvSpPr>
        <p:spPr>
          <a:xfrm>
            <a:off x="2000160" y="2286000"/>
            <a:ext cx="324000" cy="309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0"/>
          <p:cNvSpPr/>
          <p:nvPr/>
        </p:nvSpPr>
        <p:spPr>
          <a:xfrm>
            <a:off x="2428920" y="2357280"/>
            <a:ext cx="200160" cy="190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2"/>
          <p:cNvSpPr/>
          <p:nvPr/>
        </p:nvSpPr>
        <p:spPr>
          <a:xfrm rot="7566000">
            <a:off x="2895840" y="2334240"/>
            <a:ext cx="109440" cy="330120"/>
          </a:xfrm>
          <a:prstGeom prst="triangle">
            <a:avLst>
              <a:gd name="adj" fmla="val 6185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1"/>
          <p:cNvSpPr/>
          <p:nvPr/>
        </p:nvSpPr>
        <p:spPr>
          <a:xfrm rot="10800000">
            <a:off x="3214440" y="2356920"/>
            <a:ext cx="293400" cy="236520"/>
          </a:xfrm>
          <a:custGeom>
            <a:avLst/>
            <a:gdLst>
              <a:gd name="textAreaLeft" fmla="*/ 61200 w 293400"/>
              <a:gd name="textAreaRight" fmla="*/ 232560 w 293400"/>
              <a:gd name="textAreaTop" fmla="*/ 49320 h 236520"/>
              <a:gd name="textAreaBottom" fmla="*/ 18720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1"/>
          <p:cNvSpPr/>
          <p:nvPr/>
        </p:nvSpPr>
        <p:spPr>
          <a:xfrm flipH="1">
            <a:off x="3928680" y="2143080"/>
            <a:ext cx="104760" cy="5968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 flipH="1">
            <a:off x="3929040" y="2214720"/>
            <a:ext cx="217440" cy="2635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>
            <a:off x="3929040" y="2143080"/>
            <a:ext cx="38160" cy="327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9"/>
          <p:cNvSpPr/>
          <p:nvPr/>
        </p:nvSpPr>
        <p:spPr>
          <a:xfrm flipH="1">
            <a:off x="4000680" y="2143080"/>
            <a:ext cx="131760" cy="2556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6"/>
          <p:cNvSpPr/>
          <p:nvPr/>
        </p:nvSpPr>
        <p:spPr>
          <a:xfrm>
            <a:off x="3929040" y="2071800"/>
            <a:ext cx="47520" cy="3096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4000680" y="2286000"/>
            <a:ext cx="37800" cy="284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2571840" y="3786120"/>
            <a:ext cx="1047240" cy="609840"/>
            <a:chOff x="2571840" y="3786120"/>
            <a:chExt cx="1047240" cy="609840"/>
          </a:xfrm>
        </p:grpSpPr>
        <p:sp>
          <p:nvSpPr>
            <p:cNvPr id="257" name="Oval 17"/>
            <p:cNvSpPr/>
            <p:nvPr/>
          </p:nvSpPr>
          <p:spPr>
            <a:xfrm>
              <a:off x="2571840" y="3786120"/>
              <a:ext cx="438480" cy="409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6"/>
            <p:cNvSpPr/>
            <p:nvPr/>
          </p:nvSpPr>
          <p:spPr>
            <a:xfrm>
              <a:off x="2876040" y="3786120"/>
              <a:ext cx="438480" cy="4093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5"/>
            <p:cNvSpPr/>
            <p:nvPr/>
          </p:nvSpPr>
          <p:spPr>
            <a:xfrm>
              <a:off x="3180600" y="3794400"/>
              <a:ext cx="438480" cy="409320"/>
            </a:xfrm>
            <a:prstGeom prst="ellipse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4"/>
            <p:cNvSpPr/>
            <p:nvPr/>
          </p:nvSpPr>
          <p:spPr>
            <a:xfrm>
              <a:off x="2688120" y="3969720"/>
              <a:ext cx="438480" cy="409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3"/>
            <p:cNvSpPr/>
            <p:nvPr/>
          </p:nvSpPr>
          <p:spPr>
            <a:xfrm>
              <a:off x="3037320" y="3986640"/>
              <a:ext cx="438480" cy="40932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AutoShape 11"/>
          <p:cNvSpPr/>
          <p:nvPr/>
        </p:nvSpPr>
        <p:spPr>
          <a:xfrm>
            <a:off x="142920" y="2714760"/>
            <a:ext cx="581040" cy="5410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928800" y="3786120"/>
            <a:ext cx="581040" cy="54144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1857240" y="4643280"/>
            <a:ext cx="493920" cy="473400"/>
            <a:chOff x="1857240" y="4643280"/>
            <a:chExt cx="493920" cy="473400"/>
          </a:xfrm>
        </p:grpSpPr>
        <p:sp>
          <p:nvSpPr>
            <p:cNvPr id="265" name="Oval 9"/>
            <p:cNvSpPr/>
            <p:nvPr/>
          </p:nvSpPr>
          <p:spPr>
            <a:xfrm>
              <a:off x="1857240" y="4643280"/>
              <a:ext cx="493920" cy="473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1904040" y="4690800"/>
              <a:ext cx="408240" cy="390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"/>
            <p:cNvSpPr/>
            <p:nvPr/>
          </p:nvSpPr>
          <p:spPr>
            <a:xfrm>
              <a:off x="1952640" y="4738320"/>
              <a:ext cx="303120" cy="2905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6"/>
            <p:cNvSpPr/>
            <p:nvPr/>
          </p:nvSpPr>
          <p:spPr>
            <a:xfrm>
              <a:off x="1991160" y="4781520"/>
              <a:ext cx="221760" cy="206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5"/>
            <p:cNvSpPr/>
            <p:nvPr/>
          </p:nvSpPr>
          <p:spPr>
            <a:xfrm>
              <a:off x="2039760" y="4829760"/>
              <a:ext cx="125640" cy="119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32" descr=""/>
          <p:cNvPicPr/>
          <p:nvPr/>
        </p:nvPicPr>
        <p:blipFill>
          <a:blip r:embed="rId2"/>
          <a:stretch/>
        </p:blipFill>
        <p:spPr>
          <a:xfrm>
            <a:off x="5143680" y="2286000"/>
            <a:ext cx="1657080" cy="2141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8" descr=""/>
          <p:cNvPicPr/>
          <p:nvPr/>
        </p:nvPicPr>
        <p:blipFill>
          <a:blip r:embed="rId3"/>
          <a:stretch/>
        </p:blipFill>
        <p:spPr>
          <a:xfrm>
            <a:off x="6357960" y="3357720"/>
            <a:ext cx="2371680" cy="33051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4"/>
          <p:cNvSpPr/>
          <p:nvPr/>
        </p:nvSpPr>
        <p:spPr>
          <a:xfrm>
            <a:off x="0" y="5580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Урок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Совмещение объек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5"/>
          <p:cNvSpPr/>
          <p:nvPr/>
        </p:nvSpPr>
        <p:spPr>
          <a:xfrm>
            <a:off x="928800" y="404280"/>
            <a:ext cx="7858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ществует два режима совмещения объектов – с фоновым цветом и прозрачным фоном. При конструировании рисунка из нескольких объектов надо пользоваться вторым вариантом – прозрачным фон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сли линия создаётся при нажатой кнопке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ift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то она получается строго горизонтальной или вертикальной, а фигура – правильно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тобы получить копию объекта нужно выделить его прямоугольной или произвольной рамкой, а затем, нажав кнопку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trl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перетащить копируемый объект левой кнопкой мыши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8"/>
          <p:cNvSpPr/>
          <p:nvPr/>
        </p:nvSpPr>
        <p:spPr>
          <a:xfrm>
            <a:off x="500040" y="1745640"/>
            <a:ext cx="86439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рисуй снеговика, собрав его из отдельных деталей. Вторую руку – скопируй. Глаза нарисуй большой круглой кистью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4481640" y="456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6"/>
          <p:cNvSpPr/>
          <p:nvPr/>
        </p:nvSpPr>
        <p:spPr>
          <a:xfrm>
            <a:off x="928800" y="2861280"/>
            <a:ext cx="38574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рисуй одну черную окружность в 3 пикселя толщиной. Скопируй её 4 раза и залей в синий, зеленый, красный и жёлтый цвета. Собери их вместе, чтобы получились олимпийские кольц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7"/>
          <p:cNvSpPr/>
          <p:nvPr/>
        </p:nvSpPr>
        <p:spPr>
          <a:xfrm>
            <a:off x="142920" y="5286240"/>
            <a:ext cx="581040" cy="54144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8" descr=""/>
          <p:cNvPicPr/>
          <p:nvPr/>
        </p:nvPicPr>
        <p:blipFill>
          <a:blip r:embed="rId4"/>
          <a:stretch/>
        </p:blipFill>
        <p:spPr>
          <a:xfrm>
            <a:off x="4643280" y="4857840"/>
            <a:ext cx="1879920" cy="7430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1"/>
          <p:cNvSpPr/>
          <p:nvPr/>
        </p:nvSpPr>
        <p:spPr>
          <a:xfrm>
            <a:off x="785880" y="5575680"/>
            <a:ext cx="5643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ользуя многоугольник с заливкой и цветной границей нарисуй одну дощечку для забора. Круглой маленькой кистью набей два гвоздя. Затем  нарисуй два параллельных бруска по линии расположения гвоздей. С помощью копирования нарисуй забор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2" descr=""/>
          <p:cNvPicPr/>
          <p:nvPr/>
        </p:nvPicPr>
        <p:blipFill>
          <a:blip r:embed="rId5"/>
          <a:stretch/>
        </p:blipFill>
        <p:spPr>
          <a:xfrm>
            <a:off x="7286760" y="2286000"/>
            <a:ext cx="1333440" cy="1374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3" descr=""/>
          <p:cNvPicPr/>
          <p:nvPr/>
        </p:nvPicPr>
        <p:blipFill>
          <a:blip r:embed="rId6"/>
          <a:stretch/>
        </p:blipFill>
        <p:spPr>
          <a:xfrm>
            <a:off x="4857840" y="4357800"/>
            <a:ext cx="1490400" cy="5140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0"/>
          <p:cNvSpPr/>
          <p:nvPr/>
        </p:nvSpPr>
        <p:spPr>
          <a:xfrm>
            <a:off x="785880" y="4572000"/>
            <a:ext cx="581040" cy="54144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Урок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Использование кри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1928880" y="1785960"/>
            <a:ext cx="1495440" cy="11192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790920"/>
            <a:ext cx="871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струмен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рива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служит для изображения кривых линий (зигзагов) в три приёма: сначала нужно провести отрезок нужной длины, затем левой кнопкой мыши оттянуть участок Кривой в сторону и зафиксировать щелчком, второй изгиб выполняется аналогич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"/>
          <p:cNvPicPr/>
          <p:nvPr/>
        </p:nvPicPr>
        <p:blipFill>
          <a:blip r:embed="rId2"/>
          <a:stretch/>
        </p:blipFill>
        <p:spPr>
          <a:xfrm>
            <a:off x="1857240" y="4214880"/>
            <a:ext cx="2714760" cy="2227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3"/>
          <a:stretch/>
        </p:blipFill>
        <p:spPr>
          <a:xfrm>
            <a:off x="-4075200" y="1076400"/>
            <a:ext cx="1141560" cy="9619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9"/>
          <p:cNvSpPr/>
          <p:nvPr/>
        </p:nvSpPr>
        <p:spPr>
          <a:xfrm>
            <a:off x="285840" y="30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214200" y="2948400"/>
            <a:ext cx="835848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Пра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пользуя инструмент Кривая и части эллипсов, нарисуй арбузы, мяч и зон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142920" y="2571840"/>
            <a:ext cx="581040" cy="5410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8" descr=""/>
          <p:cNvPicPr/>
          <p:nvPr/>
        </p:nvPicPr>
        <p:blipFill>
          <a:blip r:embed="rId4"/>
          <a:stretch/>
        </p:blipFill>
        <p:spPr>
          <a:xfrm>
            <a:off x="357120" y="4572000"/>
            <a:ext cx="11415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2857680" y="1714680"/>
            <a:ext cx="3643200" cy="21160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4"/>
          <p:cNvSpPr/>
          <p:nvPr/>
        </p:nvSpPr>
        <p:spPr>
          <a:xfrm>
            <a:off x="214200" y="142920"/>
            <a:ext cx="581040" cy="54144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214200" y="3429000"/>
            <a:ext cx="581040" cy="54144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"/>
          <p:cNvSpPr/>
          <p:nvPr/>
        </p:nvSpPr>
        <p:spPr>
          <a:xfrm>
            <a:off x="1000080" y="4286160"/>
            <a:ext cx="200160" cy="1810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426240"/>
            <a:ext cx="9144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рисуй рисунки, используя копирование с помощью кнопки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trl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рисуй сначала только оду ягоду. А затем копируй её, начиная с самой нижней и  постепенно продвигаясь вверх. При рисовании второго листа используй отражение копии сверху вниз и слева направо (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ИСУНОК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тразить/Повернут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0" y="3791880"/>
            <a:ext cx="91440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рисуй змею. Сначала нарисуй окружность тёмного цвета и залей её внутри светлым тоном.          Затем, выдели окружность рамкой с прозрачным фоном и перетаскивай её левой кнопкой мыши при нажатой клавише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ift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Будет происходить многократное копирование объекта. Затем, нарисуй змее черты ли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1" descr=""/>
          <p:cNvPicPr/>
          <p:nvPr/>
        </p:nvPicPr>
        <p:blipFill>
          <a:blip r:embed="rId2"/>
          <a:stretch/>
        </p:blipFill>
        <p:spPr>
          <a:xfrm>
            <a:off x="4500720" y="5072040"/>
            <a:ext cx="41432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684360" y="138600"/>
            <a:ext cx="845964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Урок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Выполнение накл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тобы наклонить любой объект на некоторое количество градусов влево или вправо надо выделить объект прямоугольной рамкой, затем открыть в меню пунк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ИСУНОК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стянуть/Наклонит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во второй рамке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КЛОНИТ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написать количество градусов по горизонтали или по вертикали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981000" cy="13809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0" y="1857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пример:        45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о горизонтали      и 2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о горизонтали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2143080" y="2357280"/>
            <a:ext cx="1257480" cy="1238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"/>
          <p:cNvPicPr/>
          <p:nvPr/>
        </p:nvPicPr>
        <p:blipFill>
          <a:blip r:embed="rId3"/>
          <a:stretch/>
        </p:blipFill>
        <p:spPr>
          <a:xfrm>
            <a:off x="4286160" y="2428920"/>
            <a:ext cx="771480" cy="10954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-49320" y="3648600"/>
            <a:ext cx="939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 выполнении наклонов линии сильно растягиваются, поэтому их надо рисов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сколько пикселей толщиной. Иначе линия будет иметь разрывы через которые кра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 заливке выливается. Толщина выбирается в окне свойства линии, даже если рис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ужно эллипсы или прямоуголь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-2880" y="4732560"/>
            <a:ext cx="117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Практ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1071720" y="5073480"/>
            <a:ext cx="7929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рисуй, используя наклоны и кривые ягоду крыжовника, шарики, цветок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3" descr=""/>
          <p:cNvPicPr/>
          <p:nvPr/>
        </p:nvPicPr>
        <p:blipFill>
          <a:blip r:embed="rId4"/>
          <a:stretch/>
        </p:blipFill>
        <p:spPr>
          <a:xfrm>
            <a:off x="1189080" y="5530680"/>
            <a:ext cx="1176120" cy="1184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"/>
          <p:cNvPicPr/>
          <p:nvPr/>
        </p:nvPicPr>
        <p:blipFill>
          <a:blip r:embed="rId5"/>
          <a:stretch/>
        </p:blipFill>
        <p:spPr>
          <a:xfrm>
            <a:off x="3357720" y="5572080"/>
            <a:ext cx="915840" cy="10717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5"/>
          <p:cNvSpPr/>
          <p:nvPr/>
        </p:nvSpPr>
        <p:spPr>
          <a:xfrm>
            <a:off x="142920" y="5000760"/>
            <a:ext cx="785880" cy="6429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6" descr=""/>
          <p:cNvPicPr/>
          <p:nvPr/>
        </p:nvPicPr>
        <p:blipFill>
          <a:blip r:embed="rId6"/>
          <a:stretch/>
        </p:blipFill>
        <p:spPr>
          <a:xfrm>
            <a:off x="5500800" y="5500800"/>
            <a:ext cx="1109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Documents and Settings\levina\Рабочий стол\дис урок\Снеговики.bmp"/>
          <p:cNvPicPr/>
          <p:nvPr/>
        </p:nvPicPr>
        <p:blipFill>
          <a:blip r:embed="rId1"/>
          <a:stretch/>
        </p:blipFill>
        <p:spPr>
          <a:xfrm>
            <a:off x="23760" y="533520"/>
            <a:ext cx="90964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"/>
          <p:cNvSpPr/>
          <p:nvPr/>
        </p:nvSpPr>
        <p:spPr>
          <a:xfrm>
            <a:off x="214200" y="2714760"/>
            <a:ext cx="714600" cy="71424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14400"/>
            <a:ext cx="9144000" cy="26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Урок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Монтаж рисунка из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здавая рисунок из объектов, хранящихся в разных файлах удобно открывать сразу несколько окон программы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int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В одном окне создаётся готовый рисунок, а в других подготавливаются  объекты, перемещаемые в основное окно. Для этого нужный объект выделяется и копируется с помощью меню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АВКА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ПИРОВАТ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а в основном окне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АВКА</a:t>
            </a:r>
            <a:r>
              <a:rPr b="1" lang="ru-RU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ВСТАВИТЬ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жно также использовать комбинации клавиш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trl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ля копирован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trl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ля вставки. Скопированный объект помещается в буфер обмена (в оперативной памяти). При вставке он остается выделенным и его можно перемещать на ну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1071720" y="285912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крыть любую готовую картинку и изменить её. Дорисовать, копировав на неё другой объект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1857240" y="3500280"/>
            <a:ext cx="4143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5:04:32Z</dcterms:created>
  <dc:creator>levina</dc:creator>
  <dc:description/>
  <dc:language>en-US</dc:language>
  <cp:lastModifiedBy>Admin</cp:lastModifiedBy>
  <dcterms:modified xsi:type="dcterms:W3CDTF">2020-04-01T16:08:03Z</dcterms:modified>
  <cp:revision>22</cp:revision>
  <dc:subject/>
  <dc:title>Слайд 1</dc:title>
</cp:coreProperties>
</file>