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165C-AC32-447C-92E6-598842BAB3E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5CF3-9BD3-4150-AAD4-0B05847636D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03C-315B-46E2-95D7-9E5EEF34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541-E631-49F2-8168-6F0B6D09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3D2-07F8-4747-972C-B30165CA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C25-7584-4030-B9DD-1BBFA47A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F57F-3D79-401E-805D-89D6AF88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71B-EDA4-4F56-BF8B-C5061934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11DA-763A-4531-90C0-2147E612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7DB-A67B-4F5E-876F-AB8B328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C6D-E3A0-443A-A630-06D4E77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8241-DA7B-4E6B-B4A1-FA3590E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816C-87DF-4498-BD78-71B6E86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B4B-8B50-402F-8189-5C3B9D5F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204-F89D-44EE-8104-BF7E33B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3F8-3FE3-497C-AB1A-0678949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36C-FB0A-4349-B0F9-AB9269D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4909-2340-4D0E-9ABB-0CE4D226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57AB-EAC2-4597-8520-7D3C43C4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B329-265B-4180-AA7B-557C3D5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F003-485A-4436-9B6B-6C1BB11D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F3A6-E6C9-4192-947E-033F08AE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354E-0636-4C12-AC1C-74076EC7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975E-F371-43B4-A649-AC7C07E8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87C-F2AD-4D9B-AFDE-1A35D64F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9726-E12B-432A-8255-E9925BA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3263-BF01-4C30-BB9C-3358253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587D-0F45-4609-943C-EAAEE08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F0C7-25D5-45B6-B376-72781BB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30C2-C55D-4850-A483-E18C346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F0F7-CEF5-4713-9BBF-5B94CE53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F1A2-25B6-47EF-927C-A5EDB624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7651-5DF5-46AD-AB43-5D91D75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7D59-091C-42FD-BDC1-8FBA96C8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B760-23E2-4205-B3E5-9329D5C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EB2-9D38-422D-938A-E7657477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6BA1-FFFA-4193-8B19-B19A2C92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4B21-A3E2-4ECD-A0F6-4120E3D0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1F32-9C37-4FDA-9FAC-3E2942E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FC0D-5930-4632-AF48-294DA1D8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CED40-773E-411B-8783-F9AF56A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6486-D15A-4A8F-8A10-528BB7B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BDF8-664C-4FB4-B1DE-E67F1408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B8D8-8AC6-4D7C-8593-12DE46A7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E26D-F4E6-42CC-81EB-A3C0EA12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DD0-E879-47AC-8E80-05AC2245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CB5-CD47-47C4-B7EA-4A26622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F61-1B5C-4E06-B2E1-AAA3762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956-9F19-42A3-9EF4-8F86FD0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FF7-F64E-414E-8B73-3BD9D20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983-DD7E-44E0-9D02-7C8F2738A88F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6C9-79E0-4AA9-892B-62664B763504}" type="slidenum">
              <a:rPr b="0" lang="ru-RU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8F4-A31B-44B9-A5D0-CC186A740FA6}" type="slidenum">
              <a:rPr b="0" lang="ru-RU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980C-E06F-45DC-A18A-154015F73E72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549360"/>
            <a:ext cx="89280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шедшее простое врем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ndar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6" descr="post-8317-0-90409300-1309433633_thumb.jpg"/>
          <p:cNvPicPr/>
          <p:nvPr/>
        </p:nvPicPr>
        <p:blipFill>
          <a:blip r:embed="rId1"/>
          <a:srcRect l="0" t="4687" r="0" b="3887"/>
          <a:stretch/>
        </p:blipFill>
        <p:spPr>
          <a:xfrm>
            <a:off x="1835280" y="3573360"/>
            <a:ext cx="51433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одержимое 2"/>
          <p:cNvSpPr/>
          <p:nvPr/>
        </p:nvSpPr>
        <p:spPr>
          <a:xfrm>
            <a:off x="142920" y="285840"/>
            <a:ext cx="87152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, обращая вним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особенности произнесения окончания 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t]                      </a:t>
            </a:r>
            <a:r>
              <a:rPr b="1" lang="en-US" sz="2800" spc="-1" strike="noStrike">
                <a:solidFill>
                  <a:srgbClr val="0bd0d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d]                               [id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– look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 – liv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– deci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– work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– copi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– 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– help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– lov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 – atten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 – talke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– us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- depen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– lik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 – playe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nd – soun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одержимое 2"/>
          <p:cNvSpPr/>
          <p:nvPr/>
        </p:nvSpPr>
        <p:spPr>
          <a:xfrm>
            <a:off x="285840" y="285840"/>
            <a:ext cx="840096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ределите слова по трём столбикам в соответствии с произнесением окончания 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t]</a:t>
            </a:r>
            <a:r>
              <a:rPr b="1" lang="ru-RU" sz="2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d]</a:t>
            </a:r>
            <a:r>
              <a:rPr b="1" lang="ru-RU" sz="2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59aaf2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id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ed, sanded, printed, translated, stranded, waited, carried, mended, opened, tied, tried, studied, smoked, peopled,  asked,  laughed,  knitted, jumped, developed, passed, realized, insisted, trained, stopped, danced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одержимое 2"/>
          <p:cNvSpPr/>
          <p:nvPr/>
        </p:nvSpPr>
        <p:spPr>
          <a:xfrm>
            <a:off x="395280" y="476280"/>
            <a:ext cx="842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бавьте окончание 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помня об особенностях прибавления этого оконч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oy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l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nd 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–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y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h –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692280"/>
            <a:ext cx="720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ые глаголы    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ru-RU" sz="3600" spc="-1" strike="noStrike" u="sng">
                <a:solidFill>
                  <a:srgbClr val="0033cc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50920" y="1312920"/>
            <a:ext cx="8569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s, were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ch – c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 – bec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        choose - c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– be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  come - c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w – b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                cost - co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– b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cut - cu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– b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do - 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– bui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draw - d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y – b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h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drink - d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524720" y="476280"/>
            <a:ext cx="792360" cy="7920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24000" y="620640"/>
            <a:ext cx="8569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 – d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                get - 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t – 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give - 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-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                          go -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 -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     grow -g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 –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have -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ht –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ht                   hear - hea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– f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                    keep - 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 – f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know -k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 –forg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               learn - lear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24000" y="620640"/>
            <a:ext cx="8569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 – l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ring - 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– let                           run - 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e – lo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say -s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– m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               see - 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– 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                  sell - 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– p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send - se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– put                        shake - s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– read                    show - sho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e – 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                    shut - shu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24000" y="620640"/>
            <a:ext cx="85690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 – 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                       teach - t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– 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                          tell - 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 – s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hink - t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 – sp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throw - th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nd – spe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wake - 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– s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wear - 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l – s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win - 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 – s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                  write -w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- 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одержимое 2"/>
          <p:cNvSpPr/>
          <p:nvPr/>
        </p:nvSpPr>
        <p:spPr>
          <a:xfrm>
            <a:off x="457200" y="142920"/>
            <a:ext cx="8229600" cy="62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9ca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е форму следующих глаголов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k, sleep, invited,  bathe, had, spoke, fought, eat, drew, bought, cleaned, discussed, knew, prepare, depend, cry, sewed, went, crossed, correct, decorated, begun, afraid, danced, celebrate,  took, lear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одержимое 2"/>
          <p:cNvSpPr/>
          <p:nvPr/>
        </p:nvSpPr>
        <p:spPr>
          <a:xfrm>
            <a:off x="457200" y="21420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ишите в правый столбик прави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ы, а в левый – неправильны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, cut, think, cross, have, ask, read, look, change, swim, study, go, tell, pick, put, win, be, bring, watch, catch, teach, cover, answer, blow, clean, mean, drive, dance, fade, gather, travel, run, play, answ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одержимое 2"/>
          <p:cNvSpPr/>
          <p:nvPr/>
        </p:nvSpPr>
        <p:spPr>
          <a:xfrm>
            <a:off x="500040" y="285840"/>
            <a:ext cx="818676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ишите три формы следующих глаголов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ain, to sing, to sleep, to run, to wait, to cut, to watch, to look, to make, to get, to go, to speak, to ring, to shut, to take, to stop, to write, to travel, to sit, to tie, to play, to begin, to give, to do, to st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4278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0033cc"/>
                </a:solidFill>
                <a:latin typeface="Times New Roman"/>
                <a:ea typeface="FangSong"/>
              </a:rPr>
              <a:t>Past Simple</a:t>
            </a: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360" y="2707920"/>
            <a:ext cx="831672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начает действие,  которое произошло 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л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nstanti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5" descr="6d114b4d2cbc.gif"/>
          <p:cNvPicPr/>
          <p:nvPr/>
        </p:nvPicPr>
        <p:blipFill>
          <a:blip r:embed="rId1"/>
          <a:stretch/>
        </p:blipFill>
        <p:spPr>
          <a:xfrm>
            <a:off x="4286160" y="442908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4181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ke up sentences and say what you did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4920" y="1628640"/>
            <a:ext cx="772956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  played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chool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sterd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a walk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on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nt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uter games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days ag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ook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t n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eek ag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ая соединительная линия 4"/>
          <p:cNvSpPr/>
          <p:nvPr/>
        </p:nvSpPr>
        <p:spPr>
          <a:xfrm flipH="1">
            <a:off x="1042560" y="1628640"/>
            <a:ext cx="1800" cy="295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Прямая соединительная линия 6"/>
          <p:cNvSpPr/>
          <p:nvPr/>
        </p:nvSpPr>
        <p:spPr>
          <a:xfrm>
            <a:off x="2556000" y="1628640"/>
            <a:ext cx="0" cy="295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5651640" y="1700280"/>
            <a:ext cx="0" cy="2879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вьте глаголы в скобках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10920" y="148428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(know) all the words very w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he (write) the let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Yesterday I (live) in the count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We (see) the film a week 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y (go) home by metr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I (play) tennis last Saturd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He (leave) two minutes 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My brother (work) in London in 1998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We (rest) at the seaside 2 years 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Mary (take) off  her c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. He (stand) up and (walk)across the roo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.They (be) at school yesterd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. The girl (see) somebody in the wind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. The teacher (enter) the classroom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42920" y="1357200"/>
            <a:ext cx="1714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332000" y="404640"/>
            <a:ext cx="7127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Плюс 3"/>
          <p:cNvSpPr/>
          <p:nvPr/>
        </p:nvSpPr>
        <p:spPr>
          <a:xfrm>
            <a:off x="1785960" y="135720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59280" y="1268280"/>
            <a:ext cx="178560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6588000" y="1341360"/>
            <a:ext cx="13780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" name="Группа 10"/>
          <p:cNvGrpSpPr/>
          <p:nvPr/>
        </p:nvGrpSpPr>
        <p:grpSpPr>
          <a:xfrm>
            <a:off x="714240" y="2857680"/>
            <a:ext cx="7358040" cy="703440"/>
            <a:chOff x="714240" y="2857680"/>
            <a:chExt cx="7358040" cy="703440"/>
          </a:xfrm>
        </p:grpSpPr>
        <p:sp>
          <p:nvSpPr>
            <p:cNvPr id="248" name="TextBox 11"/>
            <p:cNvSpPr/>
            <p:nvPr/>
          </p:nvSpPr>
          <p:spPr>
            <a:xfrm>
              <a:off x="714240" y="2857680"/>
              <a:ext cx="735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e work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d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cafe yesterday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Прямая соединительная линия 9"/>
            <p:cNvSpPr/>
            <p:nvPr/>
          </p:nvSpPr>
          <p:spPr>
            <a:xfrm>
              <a:off x="5429160" y="3429000"/>
              <a:ext cx="2214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" name="Группа 13"/>
          <p:cNvGrpSpPr/>
          <p:nvPr/>
        </p:nvGrpSpPr>
        <p:grpSpPr>
          <a:xfrm>
            <a:off x="468360" y="3789360"/>
            <a:ext cx="8429400" cy="703440"/>
            <a:chOff x="468360" y="3789360"/>
            <a:chExt cx="8429400" cy="703440"/>
          </a:xfrm>
        </p:grpSpPr>
        <p:sp>
          <p:nvSpPr>
            <p:cNvPr id="251" name="TextBox 14"/>
            <p:cNvSpPr/>
            <p:nvPr/>
          </p:nvSpPr>
          <p:spPr>
            <a:xfrm>
              <a:off x="468360" y="3789360"/>
              <a:ext cx="84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e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did not </a:t>
              </a:r>
              <a:r>
                <a:rPr b="1" lang="en-US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wor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a cafe yesterday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Прямая соединительная линия 12"/>
            <p:cNvSpPr/>
            <p:nvPr/>
          </p:nvSpPr>
          <p:spPr>
            <a:xfrm flipV="1">
              <a:off x="6084720" y="4437000"/>
              <a:ext cx="2251080" cy="6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53" name="Прямая со стрелкой 13"/>
          <p:cNvCxnSpPr/>
          <p:nvPr/>
        </p:nvCxnSpPr>
        <p:spPr>
          <a:xfrm flipH="1">
            <a:off x="4427280" y="3428640"/>
            <a:ext cx="2160" cy="7167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54" name="Группа 25"/>
          <p:cNvGrpSpPr/>
          <p:nvPr/>
        </p:nvGrpSpPr>
        <p:grpSpPr>
          <a:xfrm>
            <a:off x="1258920" y="4581360"/>
            <a:ext cx="7358040" cy="703440"/>
            <a:chOff x="1258920" y="4581360"/>
            <a:chExt cx="7358040" cy="703440"/>
          </a:xfrm>
        </p:grpSpPr>
        <p:sp>
          <p:nvSpPr>
            <p:cNvPr id="255" name="TextBox 26"/>
            <p:cNvSpPr/>
            <p:nvPr/>
          </p:nvSpPr>
          <p:spPr>
            <a:xfrm>
              <a:off x="1258920" y="4581360"/>
              <a:ext cx="735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m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aw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ilm yesterday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Прямая соединительная линия 16"/>
            <p:cNvSpPr/>
            <p:nvPr/>
          </p:nvSpPr>
          <p:spPr>
            <a:xfrm>
              <a:off x="5651640" y="5229360"/>
              <a:ext cx="2214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57" name="Прямая со стрелкой 17"/>
          <p:cNvCxnSpPr/>
          <p:nvPr/>
        </p:nvCxnSpPr>
        <p:spPr>
          <a:xfrm flipH="1">
            <a:off x="4571640" y="5229360"/>
            <a:ext cx="2160" cy="7149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8" name="Прямоугольник 18"/>
          <p:cNvSpPr/>
          <p:nvPr/>
        </p:nvSpPr>
        <p:spPr>
          <a:xfrm>
            <a:off x="684360" y="57801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 not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lm  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ая соединительная линия 20"/>
          <p:cNvSpPr/>
          <p:nvPr/>
        </p:nvSpPr>
        <p:spPr>
          <a:xfrm>
            <a:off x="5580000" y="6381720"/>
            <a:ext cx="2214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люс 21"/>
          <p:cNvSpPr/>
          <p:nvPr/>
        </p:nvSpPr>
        <p:spPr>
          <a:xfrm>
            <a:off x="5148360" y="1413000"/>
            <a:ext cx="1285920" cy="121428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280"/>
              <a:gd name="textAreaBottom" fmla="*/ 663120 h 1214280"/>
            </a:gdLst>
            <a:ahLst/>
            <a:rect l="textAreaLeft" t="textAreaTop" r="textAreaRight" b="textAreaBottom"/>
            <a:pathLst>
              <a:path w="1285875" h="1214438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90"/>
                </a:lnTo>
                <a:lnTo>
                  <a:pt x="699008" y="663290"/>
                </a:lnTo>
                <a:lnTo>
                  <a:pt x="699008" y="1053464"/>
                </a:lnTo>
                <a:lnTo>
                  <a:pt x="586867" y="1053464"/>
                </a:lnTo>
                <a:lnTo>
                  <a:pt x="586867" y="663290"/>
                </a:lnTo>
                <a:lnTo>
                  <a:pt x="170443" y="6632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Содержимое 2"/>
          <p:cNvSpPr/>
          <p:nvPr/>
        </p:nvSpPr>
        <p:spPr>
          <a:xfrm>
            <a:off x="395280" y="1413000"/>
            <a:ext cx="8497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We got to the cinema twenty minutes ag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She wrote the postcard last wee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The man  came to the party  an hour ag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The family  went to the seaside last yea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They were in Moscow last mon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Ann played basketball 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Children swam in the river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I lived in St. Petersburg two years ago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97164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йте предложения отрицательны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142920" y="1357200"/>
            <a:ext cx="1714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1332000" y="404640"/>
            <a:ext cx="7127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вопрос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Плюс 3"/>
          <p:cNvSpPr/>
          <p:nvPr/>
        </p:nvSpPr>
        <p:spPr>
          <a:xfrm>
            <a:off x="1785960" y="135720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2987640" y="1341360"/>
            <a:ext cx="122400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5508720" y="1413000"/>
            <a:ext cx="12952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714240" y="285768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or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afe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468360" y="39337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afe yesterda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0" name="Прямая со стрелкой 13"/>
          <p:cNvCxnSpPr/>
          <p:nvPr/>
        </p:nvCxnSpPr>
        <p:spPr>
          <a:xfrm flipH="1">
            <a:off x="4427280" y="3428640"/>
            <a:ext cx="2160" cy="7167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1" name="TextBox 26"/>
          <p:cNvSpPr/>
          <p:nvPr/>
        </p:nvSpPr>
        <p:spPr>
          <a:xfrm>
            <a:off x="468360" y="4653000"/>
            <a:ext cx="81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lm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Прямая со стрелкой 17"/>
          <p:cNvCxnSpPr/>
          <p:nvPr/>
        </p:nvCxnSpPr>
        <p:spPr>
          <a:xfrm flipH="1">
            <a:off x="4571640" y="5229360"/>
            <a:ext cx="2160" cy="7149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3" name="Прямоугольник 19"/>
          <p:cNvSpPr/>
          <p:nvPr/>
        </p:nvSpPr>
        <p:spPr>
          <a:xfrm>
            <a:off x="900000" y="602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m   yesterda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люс 34"/>
          <p:cNvSpPr/>
          <p:nvPr/>
        </p:nvSpPr>
        <p:spPr>
          <a:xfrm>
            <a:off x="4211640" y="1413000"/>
            <a:ext cx="1285920" cy="121428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280"/>
              <a:gd name="textAreaBottom" fmla="*/ 663120 h 1214280"/>
            </a:gdLst>
            <a:ahLst/>
            <a:rect l="textAreaLeft" t="textAreaTop" r="textAreaRight" b="textAreaBottom"/>
            <a:pathLst>
              <a:path w="1285875" h="1214438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90"/>
                </a:lnTo>
                <a:lnTo>
                  <a:pt x="699008" y="663290"/>
                </a:lnTo>
                <a:lnTo>
                  <a:pt x="699008" y="1053464"/>
                </a:lnTo>
                <a:lnTo>
                  <a:pt x="586867" y="1053464"/>
                </a:lnTo>
                <a:lnTo>
                  <a:pt x="586867" y="663290"/>
                </a:lnTo>
                <a:lnTo>
                  <a:pt x="170443" y="6632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7885080" y="1413000"/>
            <a:ext cx="100800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Плюс 36"/>
          <p:cNvSpPr/>
          <p:nvPr/>
        </p:nvSpPr>
        <p:spPr>
          <a:xfrm>
            <a:off x="6804000" y="1413000"/>
            <a:ext cx="1152720" cy="1214280"/>
          </a:xfrm>
          <a:custGeom>
            <a:avLst/>
            <a:gdLst>
              <a:gd name="textAreaLeft" fmla="*/ 152640 w 1152720"/>
              <a:gd name="textAreaRight" fmla="*/ 1000080 w 1152720"/>
              <a:gd name="textAreaTop" fmla="*/ 554040 h 1214280"/>
              <a:gd name="textAreaBottom" fmla="*/ 660240 h 1214280"/>
            </a:gdLst>
            <a:ahLst/>
            <a:rect l="textAreaLeft" t="textAreaTop" r="textAreaRight" b="textAreaBottom"/>
            <a:pathLst>
              <a:path w="1152525" h="1214438">
                <a:moveTo>
                  <a:pt x="152767" y="554007"/>
                </a:moveTo>
                <a:lnTo>
                  <a:pt x="523050" y="554007"/>
                </a:lnTo>
                <a:lnTo>
                  <a:pt x="523050" y="160974"/>
                </a:lnTo>
                <a:lnTo>
                  <a:pt x="629475" y="160974"/>
                </a:lnTo>
                <a:lnTo>
                  <a:pt x="629475" y="554007"/>
                </a:lnTo>
                <a:lnTo>
                  <a:pt x="999758" y="554007"/>
                </a:lnTo>
                <a:lnTo>
                  <a:pt x="999758" y="660431"/>
                </a:lnTo>
                <a:lnTo>
                  <a:pt x="629475" y="660431"/>
                </a:lnTo>
                <a:lnTo>
                  <a:pt x="629475" y="1053464"/>
                </a:lnTo>
                <a:lnTo>
                  <a:pt x="523050" y="1053464"/>
                </a:lnTo>
                <a:lnTo>
                  <a:pt x="523050" y="660431"/>
                </a:lnTo>
                <a:lnTo>
                  <a:pt x="152767" y="66043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539640" y="1720800"/>
            <a:ext cx="799308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visited our grandparents 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topped in  this  village 2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met Alice last we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bought flowers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ind became strong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did my homework in the eve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ashed her face and hands  at 6 o’clo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phoned my mum half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t jumped and broke the v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826920" y="76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йте общий вопрос к предложени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0" y="1341360"/>
            <a:ext cx="14032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179280" y="404640"/>
            <a:ext cx="8748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ьный вопрос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Плюс 3"/>
          <p:cNvSpPr/>
          <p:nvPr/>
        </p:nvSpPr>
        <p:spPr>
          <a:xfrm>
            <a:off x="3635280" y="1197000"/>
            <a:ext cx="1285920" cy="121428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280"/>
              <a:gd name="textAreaBottom" fmla="*/ 663120 h 1214280"/>
            </a:gdLst>
            <a:ahLst/>
            <a:rect l="textAreaLeft" t="textAreaTop" r="textAreaRight" b="textAreaBottom"/>
            <a:pathLst>
              <a:path w="1285875" h="1214438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90"/>
                </a:lnTo>
                <a:lnTo>
                  <a:pt x="699008" y="663290"/>
                </a:lnTo>
                <a:lnTo>
                  <a:pt x="699008" y="1053464"/>
                </a:lnTo>
                <a:lnTo>
                  <a:pt x="586867" y="1053464"/>
                </a:lnTo>
                <a:lnTo>
                  <a:pt x="586867" y="663290"/>
                </a:lnTo>
                <a:lnTo>
                  <a:pt x="170443" y="6632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4859280" y="1341360"/>
            <a:ext cx="8650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6659640" y="1341360"/>
            <a:ext cx="7920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714240" y="285768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or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afe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468360" y="3860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esterda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Прямая со стрелкой 8"/>
          <p:cNvCxnSpPr/>
          <p:nvPr/>
        </p:nvCxnSpPr>
        <p:spPr>
          <a:xfrm flipH="1">
            <a:off x="4427280" y="3428640"/>
            <a:ext cx="2160" cy="7167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TextBox 26"/>
          <p:cNvSpPr/>
          <p:nvPr/>
        </p:nvSpPr>
        <p:spPr>
          <a:xfrm>
            <a:off x="468360" y="4581360"/>
            <a:ext cx="81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lm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Прямая со стрелкой 10"/>
          <p:cNvCxnSpPr/>
          <p:nvPr/>
        </p:nvCxnSpPr>
        <p:spPr>
          <a:xfrm flipH="1">
            <a:off x="4571640" y="5229360"/>
            <a:ext cx="2160" cy="7149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оугольник 11"/>
          <p:cNvSpPr/>
          <p:nvPr/>
        </p:nvSpPr>
        <p:spPr>
          <a:xfrm>
            <a:off x="900000" y="602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Плюс 12"/>
          <p:cNvSpPr/>
          <p:nvPr/>
        </p:nvSpPr>
        <p:spPr>
          <a:xfrm>
            <a:off x="5508720" y="1197000"/>
            <a:ext cx="1285920" cy="121428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280"/>
              <a:gd name="textAreaBottom" fmla="*/ 663120 h 1214280"/>
            </a:gdLst>
            <a:ahLst/>
            <a:rect l="textAreaLeft" t="textAreaTop" r="textAreaRight" b="textAreaBottom"/>
            <a:pathLst>
              <a:path w="1285875" h="1214438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90"/>
                </a:lnTo>
                <a:lnTo>
                  <a:pt x="699008" y="663290"/>
                </a:lnTo>
                <a:lnTo>
                  <a:pt x="699008" y="1053464"/>
                </a:lnTo>
                <a:lnTo>
                  <a:pt x="586867" y="1053464"/>
                </a:lnTo>
                <a:lnTo>
                  <a:pt x="586867" y="663290"/>
                </a:lnTo>
                <a:lnTo>
                  <a:pt x="170443" y="6632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2411280" y="1413000"/>
            <a:ext cx="12970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Плюс 14"/>
          <p:cNvSpPr/>
          <p:nvPr/>
        </p:nvSpPr>
        <p:spPr>
          <a:xfrm>
            <a:off x="1258920" y="126828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Плюс 15"/>
          <p:cNvSpPr/>
          <p:nvPr/>
        </p:nvSpPr>
        <p:spPr>
          <a:xfrm>
            <a:off x="7308720" y="126828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8352000" y="1413000"/>
            <a:ext cx="7920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179280" y="170172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I walked to school . (Ho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He visited his granny last week. (Wh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went to  the British Museum. (Wher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Mother went to the kitchen to cook.  (Wh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read the book two days ago. (Wh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Father washed his car yesterday. (Wher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students  wrote the essay. (Wh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oy  played tennis . (Wh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351720" y="765000"/>
            <a:ext cx="87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йте специальный вопрос к предложени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179280" y="1341360"/>
            <a:ext cx="2124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0" y="404640"/>
            <a:ext cx="9325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 к подлежащему 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Плюс 3"/>
          <p:cNvSpPr/>
          <p:nvPr/>
        </p:nvSpPr>
        <p:spPr>
          <a:xfrm>
            <a:off x="2268360" y="134136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3564000" y="1341360"/>
            <a:ext cx="3456000" cy="25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d/2V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Box 11"/>
          <p:cNvSpPr/>
          <p:nvPr/>
        </p:nvSpPr>
        <p:spPr>
          <a:xfrm>
            <a:off x="714240" y="285768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or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afe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468360" y="3860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afe  yesterda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Прямая со стрелкой 8"/>
          <p:cNvCxnSpPr/>
          <p:nvPr/>
        </p:nvCxnSpPr>
        <p:spPr>
          <a:xfrm flipH="1">
            <a:off x="4427280" y="3428640"/>
            <a:ext cx="2160" cy="7167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4" name="TextBox 26"/>
          <p:cNvSpPr/>
          <p:nvPr/>
        </p:nvSpPr>
        <p:spPr>
          <a:xfrm>
            <a:off x="468360" y="4581360"/>
            <a:ext cx="81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ilm yester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Прямая со стрелкой 10"/>
          <p:cNvCxnSpPr/>
          <p:nvPr/>
        </p:nvCxnSpPr>
        <p:spPr>
          <a:xfrm flipH="1">
            <a:off x="4571640" y="5229360"/>
            <a:ext cx="2160" cy="714960"/>
          </a:xfrm>
          <a:prstGeom prst="straightConnector1">
            <a:avLst/>
          </a:prstGeom>
          <a:ln w="82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6" name="Прямоугольник 11"/>
          <p:cNvSpPr/>
          <p:nvPr/>
        </p:nvSpPr>
        <p:spPr>
          <a:xfrm>
            <a:off x="900000" y="602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 saw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m   yesterda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люс 12"/>
          <p:cNvSpPr/>
          <p:nvPr/>
        </p:nvSpPr>
        <p:spPr>
          <a:xfrm>
            <a:off x="6948360" y="1341360"/>
            <a:ext cx="1285920" cy="1214640"/>
          </a:xfrm>
          <a:custGeom>
            <a:avLst/>
            <a:gdLst>
              <a:gd name="textAreaLeft" fmla="*/ 170280 w 1285920"/>
              <a:gd name="textAreaRight" fmla="*/ 1115640 w 1285920"/>
              <a:gd name="textAreaTop" fmla="*/ 551160 h 1214640"/>
              <a:gd name="textAreaBottom" fmla="*/ 663480 h 1214640"/>
            </a:gdLst>
            <a:ahLst/>
            <a:rect l="textAreaLeft" t="textAreaTop" r="textAreaRight" b="textAreaBottom"/>
            <a:pathLst>
              <a:path w="1285875" h="1214437">
                <a:moveTo>
                  <a:pt x="170443" y="551148"/>
                </a:moveTo>
                <a:lnTo>
                  <a:pt x="586867" y="551148"/>
                </a:lnTo>
                <a:lnTo>
                  <a:pt x="586867" y="160974"/>
                </a:lnTo>
                <a:lnTo>
                  <a:pt x="699008" y="160974"/>
                </a:lnTo>
                <a:lnTo>
                  <a:pt x="699008" y="551148"/>
                </a:lnTo>
                <a:lnTo>
                  <a:pt x="1115432" y="551148"/>
                </a:lnTo>
                <a:lnTo>
                  <a:pt x="1115432" y="663289"/>
                </a:lnTo>
                <a:lnTo>
                  <a:pt x="699008" y="663289"/>
                </a:lnTo>
                <a:lnTo>
                  <a:pt x="699008" y="1053463"/>
                </a:lnTo>
                <a:lnTo>
                  <a:pt x="586867" y="1053463"/>
                </a:lnTo>
                <a:lnTo>
                  <a:pt x="586867" y="663289"/>
                </a:lnTo>
                <a:lnTo>
                  <a:pt x="170443" y="66328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8101080" y="1413000"/>
            <a:ext cx="71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179280" y="1844640"/>
            <a:ext cx="8640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e  got up and washed his f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  played   computer ga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tched TV yesterday eve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irl painted  a  very nice pi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granny   liked  knit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sson finished at   5  o’cl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bought a new dress yeste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1547640" y="90792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йте  вопрос к подлежаще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казатели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st Simpl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9640" y="1071720"/>
            <a:ext cx="8353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Yesterda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че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terday I saw your frien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Last (month)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шлом месяц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spent the holidays in the country last summ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A week ago</a:t>
            </a:r>
            <a:r>
              <a:rPr b="1" lang="ru-RU" sz="2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неделю наз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went to the park a week a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The day before yesterday</a:t>
            </a:r>
            <a:r>
              <a:rPr b="1" lang="ru-RU" sz="2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позавче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watched TV the day before yesterday.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3" descr="i (26).jpg"/>
          <p:cNvPicPr/>
          <p:nvPr/>
        </p:nvPicPr>
        <p:blipFill>
          <a:blip r:embed="rId1"/>
          <a:stretch/>
        </p:blipFill>
        <p:spPr>
          <a:xfrm>
            <a:off x="0" y="1052640"/>
            <a:ext cx="4321080" cy="373356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2"/>
          <p:cNvSpPr/>
          <p:nvPr/>
        </p:nvSpPr>
        <p:spPr>
          <a:xfrm>
            <a:off x="3492360" y="3357720"/>
            <a:ext cx="53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 for your work!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-479880"/>
            <a:ext cx="6870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9000"/>
            <a:ext cx="7696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en years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10 лет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week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неделю)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o (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ад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month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месяц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is pictu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week ag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ear (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ду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st (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шлым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        summer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ом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ight (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чью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t summ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was in the cou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4284720" y="333360"/>
            <a:ext cx="718920" cy="1511280"/>
          </a:xfrm>
          <a:custGeom>
            <a:avLst/>
            <a:gdLst>
              <a:gd name="textAreaLeft" fmla="*/ 0 w 718920"/>
              <a:gd name="textAreaRight" fmla="*/ 259560 w 718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3851280" y="3789360"/>
            <a:ext cx="647640" cy="1512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разование     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st Simpl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412640"/>
            <a:ext cx="8208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е          неправильны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60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Line 5"/>
          <p:cNvSpPr/>
          <p:nvPr/>
        </p:nvSpPr>
        <p:spPr>
          <a:xfrm flipH="1">
            <a:off x="3276720" y="2133720"/>
            <a:ext cx="57456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5003640" y="2133720"/>
            <a:ext cx="57636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1116000" y="4076640"/>
            <a:ext cx="1152360" cy="1081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5580000" y="4076640"/>
            <a:ext cx="1152720" cy="107964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одержимое 2"/>
          <p:cNvSpPr/>
          <p:nvPr/>
        </p:nvSpPr>
        <p:spPr>
          <a:xfrm>
            <a:off x="324000" y="743040"/>
            <a:ext cx="857232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ые глаголы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т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ую и третью формы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м прибавления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ервой форме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а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а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одержимое 2"/>
          <p:cNvSpPr/>
          <p:nvPr/>
        </p:nvSpPr>
        <p:spPr>
          <a:xfrm>
            <a:off x="214200" y="214200"/>
            <a:ext cx="8715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изнесения окончания 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сится как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глухих согласных (кроме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sh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сится как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звонких согласных (кроме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гласных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сится как как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nt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одержимое 2"/>
          <p:cNvSpPr/>
          <p:nvPr/>
        </p:nvSpPr>
        <p:spPr>
          <a:xfrm>
            <a:off x="357120" y="214200"/>
            <a:ext cx="857268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ибавления окончания 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о оканчивается на немую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е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о теряет эту гласную при прибавлении суффикса: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v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 liv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о д н о с л о ж н ы й   глагол в инфинитиве оканчивается на одну согласную с предшествующим  к р а т к и м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ым звуком, то конечная согласная удваивается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ed = sto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457200" y="285840"/>
            <a:ext cx="822960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о оканчивается на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у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едшествующей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о г л а с н о й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лово меняет –у на 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ed = cr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перед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у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л а с н а 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–у сохраняется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ed = pla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лагол оканчивается н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ваивается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ce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ed = cance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04:35Z</dcterms:created>
  <dc:creator>Семья</dc:creator>
  <dc:description/>
  <dc:language>en-US</dc:language>
  <cp:lastModifiedBy>Пользователь</cp:lastModifiedBy>
  <dcterms:modified xsi:type="dcterms:W3CDTF">2018-03-25T11:26:16Z</dcterms:modified>
  <cp:revision>121</cp:revision>
  <dc:subject/>
  <dc:title>Слайд 1</dc:title>
</cp:coreProperties>
</file>