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478-BF76-4C53-A2DC-FF5ADA5E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456-4939-466C-83D5-A7098BC4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1F6-D89C-42E2-9B25-07A8FE67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F57-E7D8-4EDF-9C28-A00B5076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D81C-8730-47C1-B195-1FCB7648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6255-FD2A-45D6-B574-66E0851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E5D1-FE33-427E-81BF-C7EBE30C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88A4-D83F-4229-87A7-C89F4E44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1A3B-3ABA-439A-B485-961933AE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8341-44B5-4542-B45B-E8CED970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EE2-3F61-4E46-9BA9-BC76E53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12C-1BAB-41DD-95D4-ED83804B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5B1-EDBE-4193-9E3A-79F078C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0D3-F23A-43D5-A8C2-FBC8708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B925-32A9-4723-B587-2309B3D9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F588-E3B8-48F8-B755-3C5DDD78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CFD7-0608-4690-A3DE-370A5F70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B564-A53C-4AA9-8B04-F82FFB56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F11B-407A-493C-8508-CCDF7BFC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3C96-7369-40C5-9332-39D143E2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2A5C-48C1-4413-83EC-9FB3D026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A1BB-C1D1-4BEC-8157-158C8157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093-9210-4A24-84E1-0775AA0B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C968-523D-4919-AAD6-AFC3DE31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6870-A821-458E-9E35-BE54410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672C-9E06-400A-9694-07E1CC9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C73F-75D0-411D-BC40-9CD0D893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6C23-E0A8-4122-AA3F-6E99C67F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9D65-9FCC-4884-93AE-A023059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1753-4987-4452-B4E7-1FDD772C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D946-DED3-4815-ABFA-FDCE650E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76B1-AD6B-4486-B283-B85BD52C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6F8D-8228-44E4-9054-A38E66DB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E16-54F7-4204-9C5A-562E7A62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8826-CC4E-441C-B1DF-7AF9318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3E90-26C7-4014-82E5-4555D8BC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45CA-A297-478B-8B05-8EEE6A65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D068-C103-424D-90EC-76E1B03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18BF-2DBB-485B-9643-E53667C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DE03-3B3A-4782-911F-FDB26E2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77A8-8A6C-4C9A-957D-810C5C4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1AF9-C04F-42CC-B68D-DD91FA88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6D822-0960-4A32-8863-86DEDF63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1EF1-8124-47F8-830C-FE23BAB7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F81-275C-4259-8040-485BFB7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D178-C1B2-470C-9DDA-145DBC86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B489-2E21-4532-A488-14A0266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4932-8DE7-4D68-8F68-3787BCFE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934B-6892-4091-9BAD-CAEE5CC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3D51-5C81-44D0-B2D6-E913786E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E58B-0478-4208-97E8-58188201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4B4C-0DCB-46C0-ACBD-FB165A64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E9BFE-F1F4-4454-8613-D48C007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ECB8-4FD7-4814-B253-7B5B288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289B-A206-485F-8C46-78EBB65F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053-7803-426D-BA56-140306A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22DE-00EF-4837-B223-5EA4CB23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B97-26FB-413B-90D3-AFCEA22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82C-F014-466E-8D97-7F794A6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32C-9438-4F31-98B3-E7D0744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4E24-DC5E-4299-87E5-D3EB50E376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2BF-8EE1-426D-9108-6240513E9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BD41-7666-4502-A2DD-636BBFF19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8E6-FAF8-4675-B5BC-FBFE0B984B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9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9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061F-118C-454C-B565-689EB86CB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692280"/>
            <a:ext cx="8226360" cy="2665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«Развивающие игры Воскобович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21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готовил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питател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имбал Р.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79280" y="381600"/>
            <a:ext cx="842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время занятий с детьми по играм Воскобовича педагогам надо 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еред тем, как предлагать ребенку игру – ознакомьтесь с методическими рекомендациями и самой игр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ном дети работают руками и мало говорят. Во время занятий расспрашивайте ребенка, что он делает, почему выбрал именно эту фигуру, а не другую, просите пересказать сказочное задание или придумать свой сюж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ич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Занимаясь с игровыми материалами, ребенок чаще всего находится в одной и той же сидячей  позе. Необходимо учитывать возрастные особенности детей и вовремя отвлекать «заигравшихся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дчив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ля игры с пособиями Воскобовича требуется усидчивость, а это не каждому ребенку по душе и по сил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79930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Рисунок 5" descr="C:\Users\ACER\AppData\Local\Temp\Rar$DIa0.125\малыш Гео.jpg"/>
          <p:cNvPicPr/>
          <p:nvPr/>
        </p:nvPicPr>
        <p:blipFill>
          <a:blip r:embed="rId1"/>
          <a:stretch/>
        </p:blipFill>
        <p:spPr>
          <a:xfrm>
            <a:off x="4067280" y="3141720"/>
            <a:ext cx="13935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24_225"/>
          <p:cNvPicPr/>
          <p:nvPr/>
        </p:nvPicPr>
        <p:blipFill>
          <a:blip r:embed="rId1"/>
          <a:stretch/>
        </p:blipFill>
        <p:spPr>
          <a:xfrm>
            <a:off x="684360" y="277920"/>
            <a:ext cx="3600360" cy="49514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00360" y="404280"/>
            <a:ext cx="381636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ячеслав Вадимови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в Запорожье. Ныне проживает в Санкт-Петербург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е 90-х Вячеслав Вадимович Воскобович организовал фирму по выпуску игр. В настоящий момент это ОО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звивающие игры Воскобови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единственный производитель игр и пособ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84f30"/>
                </a:solidFill>
                <a:uFillTx/>
                <a:latin typeface="Comic Sans MS"/>
              </a:rPr>
              <a:t>Характеристика развивающих игр Воскобович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. Многофункциональность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. Широкий возрастной диапазон участников игр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3. Сказочная «огранка»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4. Творческий потенциа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5. Конструктивные элемен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8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2808360" cy="28796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5038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omic Sans MS"/>
              </a:rPr>
              <a:t>ГЕОКОНТ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4824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народе называется просто — дощечка с гвоздик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рез гвоздики протянута разноцветная резинка таким образом, что получаются контуры геометрических фигур. Задания различаются в зависимости от возраста дете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маленькие просто выдумывают свою геометрическую фигуру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дошкольники постарше – «натягивают» фигуру по шаблон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2" name="Рисунок 2" descr="C:\Users\ACER\AppData\Local\Temp\Rar$DIa0.899\ворон метр.jpg"/>
          <p:cNvPicPr/>
          <p:nvPr/>
        </p:nvPicPr>
        <p:blipFill>
          <a:blip r:embed="rId2"/>
          <a:stretch/>
        </p:blipFill>
        <p:spPr>
          <a:xfrm>
            <a:off x="324000" y="189000"/>
            <a:ext cx="1128600" cy="1476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&amp;Gcy;&amp;iecy;&amp;ocy;&amp;vcy;&amp;icy;&amp;zcy;&amp;ocy;&amp;rcy;"/>
          <p:cNvPicPr/>
          <p:nvPr/>
        </p:nvPicPr>
        <p:blipFill>
          <a:blip r:embed="rId3"/>
          <a:stretch/>
        </p:blipFill>
        <p:spPr>
          <a:xfrm>
            <a:off x="5796000" y="3573360"/>
            <a:ext cx="2736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c00000"/>
                </a:solidFill>
                <a:latin typeface="Comic Sans MS"/>
              </a:rPr>
              <a:t>Квадрат Воскобович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60836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Rounded MT Bold"/>
              </a:rPr>
              <a:t>Квадрат Воскобовича</a:t>
            </a:r>
            <a:r>
              <a:rPr b="1" lang="ru-RU" sz="2000" spc="-1" strike="noStrike">
                <a:solidFill>
                  <a:srgbClr val="002060"/>
                </a:solidFill>
                <a:latin typeface="Arial Rounded MT Bold"/>
              </a:rPr>
              <a:t> -  Косынка, Вечное Оригами, Кленовый листок – все это синонимы Квадрата Воскобовича. Выглядит он довольно просто: на квадратной основе из ткани наклеены треугольники. С одной стороны – красного цвета, с другой – зелено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Rounded MT Bold"/>
              </a:rPr>
              <a:t>Квадрат может складываться в различные фигуры: малыши с легкостью сделают домик с зеленой крышей или конфетку в красной обертке, детки постарше смогут различить спрятанные в домике геометрические фигуры. Вариантов сложения – 1.000.000 (!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Рисунок 7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446640" cy="3767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000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Коврограф «Ларчи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716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omic Sans MS"/>
              </a:rPr>
              <a:t>Коврограф «Ларчик», 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веревочки («прилипают» к коврику). Коврограф, игровой обучающий комплекс, чрезвычайно распространенный в дошкольных учреждениях, заменяет собой фланелеграф. Коврограф позволяет в игровой форме решать самые разнообразные задач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Рисунок 11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2725560" cy="273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&amp;Ncy;&amp;acy;&amp;bcy;&amp;ocy;&amp;rcy; &amp;ocy;&amp;bcy;&amp;rcy;&amp;acy;&amp;zcy;&amp;ncy;&amp;ycy;&amp;khcy; &amp;pcy;&amp;rcy;&amp;ocy;&amp;scy;&amp;tcy;&amp;rcy;&amp;acy;&amp;ncy;&amp;scy;&amp;tcy;&amp;vcy;&amp;iecy;&amp;ncy;&amp;ncy;&amp;ycy;&amp;khcy; &amp;kcy;&amp;acy;&amp;rcy;&amp;tcy;&amp;ocy;&amp;chcy;&amp;iecy;&amp;kcy; &amp;Vcy;&amp;ocy;&amp;scy;&amp;kcy;&amp;ocy;&amp;bcy;&amp;ocy;&amp;vcy;&amp;icy;&amp;chcy;&amp;acy; &quot;&amp;Lcy;&amp;iecy;&amp;vcy;-&amp;Pcy;&amp;acy;&amp;vcy;&amp;lcy;&amp;icy;&amp;ncy;-&amp;Pcy;&amp;ocy;&amp;ncy;&amp;icy;-&amp;Lcy;&amp;acy;&amp;ncy;&amp;softcy;&quot;"/>
          <p:cNvPicPr/>
          <p:nvPr/>
        </p:nvPicPr>
        <p:blipFill>
          <a:blip r:embed="rId2"/>
          <a:stretch/>
        </p:blipFill>
        <p:spPr>
          <a:xfrm>
            <a:off x="4572000" y="3789360"/>
            <a:ext cx="2933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4" descr=""/>
          <p:cNvPicPr/>
          <p:nvPr/>
        </p:nvPicPr>
        <p:blipFill>
          <a:blip r:embed="rId1"/>
          <a:stretch/>
        </p:blipFill>
        <p:spPr>
          <a:xfrm>
            <a:off x="7164360" y="1844640"/>
            <a:ext cx="1203480" cy="2017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«Конструктор букв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Конструктор букв»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з его элементов-модулей можно сложить любую букву алфавита. Такое конструирование помогает ребенку запомнить моторный образ буквы и в дальнейшем не путать П и Н, Б и В, С и 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Рисунок 9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2381400" cy="28764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2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357200" cy="17492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3" descr=""/>
          <p:cNvPicPr/>
          <p:nvPr/>
        </p:nvPicPr>
        <p:blipFill>
          <a:blip r:embed="rId4"/>
          <a:stretch/>
        </p:blipFill>
        <p:spPr>
          <a:xfrm>
            <a:off x="4500720" y="4869000"/>
            <a:ext cx="24285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Читайки 1 и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317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Читайки 1 и 2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гры на развитие навыков чтения. Ребенок, загибая попеременно уголки, получает разные слова. На маленьком «пятачке» прочитывается 4 слова, а в игре – больше сот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0" name="Рисунок 10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9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59022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азвивающие шнуров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420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нтересные развивающие шнуровки, методика Вячеслава Воскобовича. Они способствуют развитию мелкой моторики, развивают навыки чтения и логического мышления у ребёнка, ну и конечно же умение шнуровать и завязывать шнуроч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cture 6" descr="Snegovik2"/>
          <p:cNvPicPr/>
          <p:nvPr/>
        </p:nvPicPr>
        <p:blipFill>
          <a:blip r:embed="rId1"/>
          <a:stretch/>
        </p:blipFill>
        <p:spPr>
          <a:xfrm>
            <a:off x="4427640" y="3068640"/>
            <a:ext cx="2779560" cy="3279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" descr="http://luntiki.ru/uploads/images/c/b/0/a/117/d75b6a30a8.jpg"/>
          <p:cNvPicPr/>
          <p:nvPr/>
        </p:nvPicPr>
        <p:blipFill>
          <a:blip r:embed="rId2"/>
          <a:stretch/>
        </p:blipFill>
        <p:spPr>
          <a:xfrm>
            <a:off x="6877080" y="2708280"/>
            <a:ext cx="2266920" cy="3529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1457image"/>
          <p:cNvPicPr/>
          <p:nvPr/>
        </p:nvPicPr>
        <p:blipFill>
          <a:blip r:embed="rId3"/>
          <a:stretch/>
        </p:blipFill>
        <p:spPr>
          <a:xfrm>
            <a:off x="5435640" y="333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9:39:50Z</dcterms:created>
  <dc:creator>admin</dc:creator>
  <dc:description/>
  <dc:language>en-US</dc:language>
  <cp:lastModifiedBy>RePack by Diakov</cp:lastModifiedBy>
  <dcterms:modified xsi:type="dcterms:W3CDTF">2020-04-01T08:53:50Z</dcterms:modified>
  <cp:revision>11</cp:revision>
  <dc:subject/>
  <dc:title>«Развивающие игры Воскобовича»</dc:title>
</cp:coreProperties>
</file>