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197-6267-4D97-89D1-C2DDD4E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3AF-B0EE-4BBD-8F07-27D6DDB6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3A1-CDF4-4A5A-BB68-E37D174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506-7418-40EA-A2AD-87758040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8EE4-AEB9-4755-8B4B-5067FEA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1B91-1FDE-4808-934A-81C18BC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857-E6A2-40F5-9CD8-F85B143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CFCB-A80F-480B-AAC7-47CD57F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0822-AA77-4FA9-96A6-CEBC0FA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57FA-61C0-446C-9D6A-76F81D6D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C9A-60AB-4B0A-A64E-1669C89D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A3D-6EB6-4048-8FC0-5AB0807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A62-8DA7-4B37-BD18-1831C05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A56-E000-4B5F-9451-A1DC1F5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1A7-BA38-4F7E-A013-0CFA19A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473F-21D3-478E-AB04-01259567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2F0-7098-437F-9FE4-3D8FDAF0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D7F1-C0CA-4C74-93FC-FDA24878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C9D9-4DB7-415D-996D-79C9B49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EF37-CACA-4A31-9952-DBA8AE8A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626D-D5E8-46EE-B11B-D896D361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2580-1E78-458B-8867-604E1C0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A50-9409-40CE-AC38-C8ED65CB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ED90-72A6-41C8-A748-4E336F0B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E48D-8221-4128-BCFA-D0DBB9F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125F-1557-46B4-B4F5-B32474D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5D50-0331-4819-B5A7-9738CFD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87D1-B29B-4A9E-BD2A-02B06FF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102D-0D64-441E-B99C-47B555DA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C6AA-F930-4CF9-B476-5BC89960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80C3-01BD-48AF-B2C6-B7C8E46D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AC4F-2193-40EE-9238-044507AD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1CFF-A4E3-4C81-84E7-083158F2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3EE-06B1-42EF-AB37-10817E56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BE22-50F5-4257-BEB1-AB85DB9E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5502-470F-47B1-9C5E-26C531E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B067-068B-4851-9B1C-70C9507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00EB-60F0-4F90-A628-CB09EAA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68B2-0004-480D-A1B6-5F7C378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E32F-C5A2-4072-AFD2-5205E43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B78A-7ADC-4E7F-BC87-206533F4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762D-4307-4A71-8D89-99B56F3A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9CD5-2B40-471B-B0CE-01A727CC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A3FD-BD6E-43FF-9465-CB2EB51B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50C-DDC3-4000-855F-43665770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D426-0FEA-448F-BBB2-103BCCB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9CA16-B0FE-4F2F-ACBB-B824F2C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980C-3B53-4EC7-B3CA-31E1B44F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DEFC4-34A0-49B9-86D6-7B0A2246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F944-F65F-4238-A475-E42725AF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6B04-24EB-44F2-A5AE-0C4175F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0B4E-E870-4A0D-9633-F5ED1CA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438E-EBFA-4B23-85E9-5724244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24BA-7CE0-4EFD-815C-529D9A76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A642-2C65-4F4C-9482-DC8F7EE4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C95-87B4-4C8F-B3BF-34D4CF7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FC08-745C-4165-A1AB-27A9EA42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D92-D19A-4B6F-BB36-C2477FA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ED3-4D9B-42F7-B333-4B557B6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25E-4420-4F69-923D-C740AD4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F9A8-1365-4E31-AE7A-D2ACE7AE0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CF90-6E23-4209-B18D-393626D4A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108-DC93-4A74-9291-7E89B12DCD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F32C-2B89-4EDD-907F-5EF1A62E7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9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331-DD15-4F28-91C0-210173B853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692280"/>
            <a:ext cx="8226360" cy="2665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«Развивающие игры Воскобович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1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готовил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ател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мбал Р.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79280" y="381600"/>
            <a:ext cx="842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занятий с детьми по играм Воскобовича педагогам надо 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еред тем, как предлагать ребенку игру – ознакомьтесь с методическими рекомендациями и самой игр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ном дети работают руками и мало говорят. Во время занятий расспрашивайте ребенка, что он делает, почему выбрал именно эту фигуру, а не другую, просите пересказать сказочное задание или придумать свой сюж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ич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Занимаясь с игровыми материалами, ребенок чаще всего находится в одной и той же сидячей  позе. Необходимо учитывать возрастные особенности детей и вовремя отвлекать «заигравшихся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дчи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ля игры с пособиями Воскобовича требуется усидчивость, а это не каждому ребенку по душе и по сил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79930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Рисунок 5" descr="C:\Users\ACER\AppData\Local\Temp\Rar$DIa0.125\малыш Гео.jpg"/>
          <p:cNvPicPr/>
          <p:nvPr/>
        </p:nvPicPr>
        <p:blipFill>
          <a:blip r:embed="rId1"/>
          <a:stretch/>
        </p:blipFill>
        <p:spPr>
          <a:xfrm>
            <a:off x="4067280" y="3141720"/>
            <a:ext cx="13935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24_225"/>
          <p:cNvPicPr/>
          <p:nvPr/>
        </p:nvPicPr>
        <p:blipFill>
          <a:blip r:embed="rId1"/>
          <a:stretch/>
        </p:blipFill>
        <p:spPr>
          <a:xfrm>
            <a:off x="684360" y="277920"/>
            <a:ext cx="3600360" cy="49514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00360" y="404280"/>
            <a:ext cx="381636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ячеслав Вадим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в Запорожье. Ныне проживает в Санкт-Петербур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90-х Вячеслав Вадимович Воскобович организовал фирму по выпуску игр. В настоящий момент это ОО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звивающие игры Воскобови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единственный производитель игр и пособ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84f30"/>
                </a:solidFill>
                <a:uFillTx/>
                <a:latin typeface="Comic Sans MS"/>
              </a:rPr>
              <a:t>Характеристика развивающих игр Воскобович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. Многофункциональность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. Широкий возрастной диапазон участников игр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3. Сказочная «огранка»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4. Творческий потенциа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5. Конструктивные элемен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8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2808360" cy="28796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5038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mic Sans MS"/>
              </a:rPr>
              <a:t>ГЕОКОНТ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482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народе называется просто — дощечка с гвоздик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рез гвоздики протянута разноцветная резинка таким образом, что получаются контуры геометрических фигур. Задания различаются в зависимости от возраста дете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маленькие просто выдумывают свою геометрическую фигур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дошкольники постарше – «натягивают» фигуру по шабло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2" name="Рисунок 2" descr="C:\Users\ACER\AppData\Local\Temp\Rar$DIa0.899\ворон метр.jpg"/>
          <p:cNvPicPr/>
          <p:nvPr/>
        </p:nvPicPr>
        <p:blipFill>
          <a:blip r:embed="rId2"/>
          <a:stretch/>
        </p:blipFill>
        <p:spPr>
          <a:xfrm>
            <a:off x="324000" y="189000"/>
            <a:ext cx="1128600" cy="1476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&amp;Gcy;&amp;iecy;&amp;ocy;&amp;vcy;&amp;icy;&amp;zcy;&amp;ocy;&amp;rcy;"/>
          <p:cNvPicPr/>
          <p:nvPr/>
        </p:nvPicPr>
        <p:blipFill>
          <a:blip r:embed="rId3"/>
          <a:stretch/>
        </p:blipFill>
        <p:spPr>
          <a:xfrm>
            <a:off x="5796000" y="3573360"/>
            <a:ext cx="2736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Comic Sans MS"/>
              </a:rPr>
              <a:t>Квадрат Воскобович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60836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Rounded MT Bold"/>
              </a:rPr>
              <a:t>Квадрат Воскобовича</a:t>
            </a:r>
            <a:r>
              <a:rPr b="1" lang="ru-RU" sz="2000" spc="-1" strike="noStrike">
                <a:solidFill>
                  <a:srgbClr val="002060"/>
                </a:solidFill>
                <a:latin typeface="Arial Rounded MT Bold"/>
              </a:rPr>
              <a:t> -  Косынка, Вечное Оригами, Кленовый листок – все это синонимы Квадрата Воскобовича. Выглядит он довольно просто: на квадратной основе из ткани наклеены треугольники. С одной стороны – красного цвета, с другой – зелено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Rounded MT Bold"/>
              </a:rPr>
              <a:t>Квадрат может складываться в различные фигуры: малыши с легкостью сделают домик с зеленой крышей или конфетку в красной обертке, детки постарше смогут различить спрятанные в домике геометрические фигуры. Вариантов сложения – 1.000.000 (!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Рисунок 7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446640" cy="3767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000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Коврограф «Ларчи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716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omic Sans MS"/>
              </a:rPr>
              <a:t>Коврограф «Ларчик»,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еревочки («прилипают» к коврику). Коврограф, игровой обучающий комплекс, чрезвычайно распространенный в дошкольных учреждениях, заменяет собой фланелеграф. Коврограф позволяет в игровой форме решать самые разнообразные задач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11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2725560" cy="273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&amp;Ncy;&amp;acy;&amp;bcy;&amp;ocy;&amp;rcy; &amp;ocy;&amp;bcy;&amp;rcy;&amp;acy;&amp;zcy;&amp;ncy;&amp;ycy;&amp;khcy; &amp;pcy;&amp;rcy;&amp;ocy;&amp;scy;&amp;tcy;&amp;rcy;&amp;acy;&amp;ncy;&amp;scy;&amp;tcy;&amp;vcy;&amp;iecy;&amp;ncy;&amp;ncy;&amp;ycy;&amp;khcy; &amp;kcy;&amp;acy;&amp;rcy;&amp;tcy;&amp;ocy;&amp;chcy;&amp;iecy;&amp;kcy; &amp;Vcy;&amp;ocy;&amp;scy;&amp;kcy;&amp;ocy;&amp;bcy;&amp;ocy;&amp;vcy;&amp;icy;&amp;chcy;&amp;acy; &quot;&amp;Lcy;&amp;iecy;&amp;vcy;-&amp;Pcy;&amp;acy;&amp;vcy;&amp;lcy;&amp;icy;&amp;ncy;-&amp;Pcy;&amp;ocy;&amp;ncy;&amp;icy;-&amp;Lcy;&amp;acy;&amp;ncy;&amp;softcy;&quot;"/>
          <p:cNvPicPr/>
          <p:nvPr/>
        </p:nvPicPr>
        <p:blipFill>
          <a:blip r:embed="rId2"/>
          <a:stretch/>
        </p:blipFill>
        <p:spPr>
          <a:xfrm>
            <a:off x="4572000" y="3789360"/>
            <a:ext cx="2933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4" descr=""/>
          <p:cNvPicPr/>
          <p:nvPr/>
        </p:nvPicPr>
        <p:blipFill>
          <a:blip r:embed="rId1"/>
          <a:stretch/>
        </p:blipFill>
        <p:spPr>
          <a:xfrm>
            <a:off x="7164360" y="1844640"/>
            <a:ext cx="1203480" cy="2017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«Конструктор бук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Конструктор букв»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з его элементов-модулей можно сложить любую букву алфавита. Такое конструирование помогает ребенку запомнить моторный образ буквы и в дальнейшем не путать П и Н, Б и В, С и 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Рисунок 9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2381400" cy="28764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2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357200" cy="17492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3" descr=""/>
          <p:cNvPicPr/>
          <p:nvPr/>
        </p:nvPicPr>
        <p:blipFill>
          <a:blip r:embed="rId4"/>
          <a:stretch/>
        </p:blipFill>
        <p:spPr>
          <a:xfrm>
            <a:off x="4500720" y="4869000"/>
            <a:ext cx="2428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Читайки 1 и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317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Читайки 1 и 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гры на развитие навыков чтения. Ребенок, загибая попеременно уголки, получает разные слова. На маленьком «пятачке» прочитывается 4 слова, а в игре – больше сот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Рисунок 10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9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59022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азвивающие шнуров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420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тересные развивающие шнуровки, методика Вячеслава Воскобовича. Они способствуют развитию мелкой моторики, развивают навыки чтения и логического мышления у ребёнка, ну и конечно же умение шнуровать и завязывать шнуроч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6" descr="Snegovik2"/>
          <p:cNvPicPr/>
          <p:nvPr/>
        </p:nvPicPr>
        <p:blipFill>
          <a:blip r:embed="rId1"/>
          <a:stretch/>
        </p:blipFill>
        <p:spPr>
          <a:xfrm>
            <a:off x="4427640" y="3068640"/>
            <a:ext cx="2779560" cy="3279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" descr="http://luntiki.ru/uploads/images/c/b/0/a/117/d75b6a30a8.jpg"/>
          <p:cNvPicPr/>
          <p:nvPr/>
        </p:nvPicPr>
        <p:blipFill>
          <a:blip r:embed="rId2"/>
          <a:stretch/>
        </p:blipFill>
        <p:spPr>
          <a:xfrm>
            <a:off x="6877080" y="2708280"/>
            <a:ext cx="2266920" cy="3529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1457image"/>
          <p:cNvPicPr/>
          <p:nvPr/>
        </p:nvPicPr>
        <p:blipFill>
          <a:blip r:embed="rId3"/>
          <a:stretch/>
        </p:blipFill>
        <p:spPr>
          <a:xfrm>
            <a:off x="5435640" y="333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9:39:50Z</dcterms:created>
  <dc:creator>admin</dc:creator>
  <dc:description/>
  <dc:language>en-US</dc:language>
  <cp:lastModifiedBy>RePack by Diakov</cp:lastModifiedBy>
  <dcterms:modified xsi:type="dcterms:W3CDTF">2020-04-01T08:53:50Z</dcterms:modified>
  <cp:revision>11</cp:revision>
  <dc:subject/>
  <dc:title>«Развивающие игры Воскобовича»</dc:title>
</cp:coreProperties>
</file>