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DC3F-D251-4949-A7DE-3B2D2F9E3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5F68-6678-4390-8411-715AFD18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F41E-210A-44F8-8545-E748FF157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3766-D589-4A7F-ADC4-E868FAA07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2E14-46C9-4A5F-A344-6ED78D28F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A6B2-82FF-4C4B-B278-06962C1288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7859-8BEB-4E27-B3DE-F6E367A3B6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1C0E-8BFD-4039-AA6A-4D22D76892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FDB1-B664-47C5-BA86-D4358D72C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2EB3-DE0D-4FBC-A7B3-C77B9E9777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F1A8-809D-4464-B660-3DD898D26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0BE7-5B0F-4B9E-8114-A09159E7C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18BF-75A4-4102-B420-644803C6D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1A2D-180B-468E-AFBC-BBC2F3B5C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B412-EF7F-4C13-A567-6713EACDDE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5616-B06A-4B5C-9919-1C5CDA4ADC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9870-7270-4E80-8536-D3A11CF81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0881-F7F6-4D53-A915-A839240AD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D2FE-66E1-4A4E-86C1-2FEC5A7E7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BA9F-B02B-4127-906A-9C59B5DC7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CF45-55E2-4E42-B3AD-C416F294D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8FA9-14E7-430F-8FA5-FB29B700B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4450-BDBC-4953-9579-11ACD1D5F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0FB7-B202-4DE7-A7F2-A79B5D06A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967D10-B06A-4FBE-A3E3-FA1AE8264D1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7280" cy="1028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0880" cy="2030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5680" cy="64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1960" cy="592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2760" cy="1904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8800" cy="176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4560" cy="6062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6000" cy="2746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6240" cy="1047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768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6960" cy="18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3200" cy="39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5560" cy="23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8480" cy="37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5240" cy="69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564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9400" cy="9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0840" cy="39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8160" cy="212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4000" cy="22640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4000" cy="25909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897240" y="-149040"/>
            <a:ext cx="2975760" cy="2837880"/>
            <a:chOff x="6897240" y="-149040"/>
            <a:chExt cx="2975760" cy="2837880"/>
          </a:xfrm>
        </p:grpSpPr>
        <p:grpSp>
          <p:nvGrpSpPr>
            <p:cNvPr id="39" name=""/>
            <p:cNvGrpSpPr/>
            <p:nvPr/>
          </p:nvGrpSpPr>
          <p:grpSpPr>
            <a:xfrm>
              <a:off x="6897240" y="-149040"/>
              <a:ext cx="2975760" cy="2837880"/>
              <a:chOff x="6897240" y="-149040"/>
              <a:chExt cx="2975760" cy="283788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897240" y="-149040"/>
                <a:ext cx="2975760" cy="2837880"/>
                <a:chOff x="6897240" y="-149040"/>
                <a:chExt cx="2975760" cy="283788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778520" y="-26280"/>
                  <a:ext cx="346680" cy="223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898400" y="643680"/>
                  <a:ext cx="610920" cy="789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501680" y="412920"/>
                  <a:ext cx="1148760" cy="1620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521840" y="57240"/>
                  <a:ext cx="1725840" cy="2425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72160" y="1857960"/>
                  <a:ext cx="383040" cy="218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89360" y="1655640"/>
                  <a:ext cx="410400" cy="257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804800" y="298080"/>
                  <a:ext cx="410400" cy="263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739280" y="139680"/>
                  <a:ext cx="405720" cy="24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70120" cy="16128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6076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60520" cy="14572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5160" cy="33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6480" cy="171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4800" cy="9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8560" cy="64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5120" cy="57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05800" y="4233600"/>
            <a:ext cx="1164600" cy="1325880"/>
            <a:chOff x="7705800" y="4233600"/>
            <a:chExt cx="1164600" cy="1325880"/>
          </a:xfrm>
        </p:grpSpPr>
        <p:sp>
          <p:nvSpPr>
            <p:cNvPr id="99" name=""/>
            <p:cNvSpPr/>
            <p:nvPr/>
          </p:nvSpPr>
          <p:spPr>
            <a:xfrm rot="7320000">
              <a:off x="7794360" y="4659120"/>
              <a:ext cx="9968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69520" y="4637160"/>
              <a:ext cx="993600" cy="4590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8000" y="4624920"/>
              <a:ext cx="65880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05800" y="4233600"/>
              <a:ext cx="1164600" cy="1325880"/>
              <a:chOff x="7705800" y="4233600"/>
              <a:chExt cx="1164600" cy="132588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810200" y="5069880"/>
                <a:ext cx="10080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709400" y="4571280"/>
                <a:ext cx="1157040" cy="65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39520" y="4709880"/>
                <a:ext cx="818640" cy="36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598240" y="4509000"/>
                <a:ext cx="107280" cy="24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44640" y="4727160"/>
                <a:ext cx="333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cap="sq"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54932B-F4FE-4D20-95E3-32F88309C0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47840" y="5470560"/>
            <a:ext cx="31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47920" y="2286000"/>
            <a:ext cx="723888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санка - 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стройная спина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3" name=""/>
          <p:cNvSpPr/>
          <p:nvPr/>
        </p:nvSpPr>
        <p:spPr>
          <a:xfrm>
            <a:off x="1919160" y="152280"/>
            <a:ext cx="5492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5715000"/>
            <a:ext cx="38862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90720" y="1828800"/>
            <a:ext cx="723888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доровья всем!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Вывод</a:t>
            </a:r>
            <a:r>
              <a:rPr b="0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санка – это правильное положе-ние тела при стоянии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ходьбе и      сид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3124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360" y="4724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лио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895840" y="4724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ордо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874760" y="47242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ифо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7242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авильная ос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3520" y="380880"/>
            <a:ext cx="7391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8 причин иметь правильную осанку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9420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1. Чем красивее спина, тем увереннее личнос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90368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2. Дыхание становится легким и более глубоким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589480"/>
            <a:ext cx="57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. Улучшается дыхание и пищеваре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198960"/>
            <a:ext cx="68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4. Вы выглядите более стройными и молодыми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884760"/>
            <a:ext cx="44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5. Голос будет казаться лучш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4938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6. Помогает мышцам и суставам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071360" y="510408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7. Улучшается мышлени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985400" y="571356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8. Здоровый позвоночни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04920" y="838080"/>
            <a:ext cx="8229600" cy="4496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Человек 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настолько молод,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насколько молод 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и здоров 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его позвоночник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29880" y="1092240"/>
            <a:ext cx="603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Артри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Боли в спине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Грудные боли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Расстройства желудочно-кишечного тракт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Проблемы со зрением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Головокружения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Головные боли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Ослабление иммунной системы организ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Заболевания почек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Боли в суставах, мышцах, в области шеи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Ожирение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Зубные боли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Респираторные заболевания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Невралгия седалищного нер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380880"/>
            <a:ext cx="76197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Болезни, возникающие при неправильной осанке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54968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5943600" y="914400"/>
          <a:ext cx="1946160" cy="563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914400"/>
                    <a:ext cx="1946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 txBox="1"/>
          <p:nvPr/>
        </p:nvSpPr>
        <p:spPr>
          <a:xfrm>
            <a:off x="1295280" y="228600"/>
            <a:ext cx="62485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Позвоночник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380880"/>
            <a:ext cx="76197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Советы по охране осанки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5658" t="3904" r="14498" b="2806"/>
          <a:stretch/>
        </p:blipFill>
        <p:spPr>
          <a:xfrm>
            <a:off x="4878360" y="1068480"/>
            <a:ext cx="2970360" cy="502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5658" t="0" r="15912" b="3945"/>
          <a:stretch/>
        </p:blipFill>
        <p:spPr>
          <a:xfrm>
            <a:off x="1068480" y="1066680"/>
            <a:ext cx="2916000" cy="5108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86000" y="1066680"/>
            <a:ext cx="4416480" cy="510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2386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19320" y="990720"/>
          <a:ext cx="6553080" cy="529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990720"/>
                    <a:ext cx="65530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735280"/>
            <a:ext cx="2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52712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ь три компонента, которые помогают держать позвоночник в нормальном состоянии - эт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имнастика, плавание и массаж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Во всех трех случаях главное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регулярность нагрузок!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52280"/>
            <a:ext cx="76197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Рекомендации и советы для сохранения 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правильной осанки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48040" cy="5410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04920" y="380880"/>
            <a:ext cx="76197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Тест на правильную осанку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2T14:46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