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821-A36A-474E-956C-0E60EBEC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8BA-4949-4AC7-B5EB-93729F72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F5F-45B1-41B8-B5C8-A36194A9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DFA-4A27-4046-9DD1-51C06A8E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C04-8DF1-4DBD-A20B-EE4AA8D0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9F5-8752-45D3-8A78-D19C39FD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A80-CFB0-40EA-92F1-F9A50D33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3FF-276D-40AC-A521-342225D9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A0B-D7F5-46E2-AAB3-AD422FB4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74C-B0C2-4525-A694-390C10E9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516-9355-4430-91D8-53628E7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3E1-5C07-44C4-B6A3-36903CB1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0F7-AD8A-482E-ABF6-494F30AF6DF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8576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721"/>
                </a:solidFill>
                <a:latin typeface="Calibri"/>
              </a:rPr>
              <a:t>Расчёт сметы ремонта моей комн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721"/>
                </a:solidFill>
                <a:latin typeface="Calibri"/>
              </a:rPr>
              <a:t>Проект по математике ученицы 6Б класса Жигулиной Вале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7030a0"/>
                </a:solidFill>
                <a:latin typeface="Calibri"/>
              </a:rPr>
              <a:t>Ремонт детской комнаты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56852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ычисли площади  стен ком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</a:rPr>
              <a:t>1 стена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                                            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</a:rPr>
              <a:t>    3   ст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5"/>
          <p:cNvSpPr/>
          <p:nvPr/>
        </p:nvSpPr>
        <p:spPr>
          <a:xfrm>
            <a:off x="442800" y="2857680"/>
            <a:ext cx="3697560" cy="2457360"/>
          </a:xfrm>
          <a:prstGeom prst="rect">
            <a:avLst/>
          </a:prstGeom>
          <a:solidFill>
            <a:srgbClr val="a188b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1366920" y="28576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2419200" y="37767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2,7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180040" y="2882880"/>
            <a:ext cx="3589200" cy="2432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6372360" y="4538520"/>
            <a:ext cx="1774800" cy="96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5025960" y="3575160"/>
            <a:ext cx="19144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58840" y="2298600"/>
            <a:ext cx="3278160" cy="2827440"/>
          </a:xfrm>
          <a:prstGeom prst="rect">
            <a:avLst/>
          </a:prstGeom>
          <a:solidFill>
            <a:srgbClr val="a188b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1792440" y="1776240"/>
            <a:ext cx="12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,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3824280" y="33228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2,75 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2"/>
          <p:cNvSpPr/>
          <p:nvPr/>
        </p:nvSpPr>
        <p:spPr>
          <a:xfrm>
            <a:off x="1174680" y="2830680"/>
            <a:ext cx="1743120" cy="1515960"/>
          </a:xfrm>
          <a:prstGeom prst="rect">
            <a:avLst/>
          </a:prstGeom>
          <a:solidFill>
            <a:srgbClr val="91fdf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3"/>
          <p:cNvSpPr/>
          <p:nvPr/>
        </p:nvSpPr>
        <p:spPr>
          <a:xfrm>
            <a:off x="2046240" y="2797200"/>
            <a:ext cx="0" cy="154944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4"/>
          <p:cNvSpPr/>
          <p:nvPr/>
        </p:nvSpPr>
        <p:spPr>
          <a:xfrm>
            <a:off x="2030400" y="3675240"/>
            <a:ext cx="8874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1149480" y="3322800"/>
            <a:ext cx="11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,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533600" y="24084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,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121360" y="2212920"/>
            <a:ext cx="3578040" cy="286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951600" y="2514600"/>
            <a:ext cx="12668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6951600" y="3124080"/>
            <a:ext cx="1266840" cy="19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 rot="20301600">
            <a:off x="7071840" y="2220480"/>
            <a:ext cx="1214640" cy="11336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31"/>
          <p:cNvSpPr/>
          <p:nvPr/>
        </p:nvSpPr>
        <p:spPr>
          <a:xfrm flipV="1">
            <a:off x="7585200" y="2582640"/>
            <a:ext cx="271440" cy="54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2"/>
          <p:cNvSpPr/>
          <p:nvPr/>
        </p:nvSpPr>
        <p:spPr>
          <a:xfrm>
            <a:off x="7209000" y="4672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0,9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6145200" y="3822840"/>
            <a:ext cx="10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1,8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5"/>
          <a:stretch/>
        </p:blipFill>
        <p:spPr>
          <a:xfrm>
            <a:off x="7176960" y="1662120"/>
            <a:ext cx="13590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Объект 2"/>
          <p:cNvSpPr/>
          <p:nvPr/>
        </p:nvSpPr>
        <p:spPr>
          <a:xfrm>
            <a:off x="2340000" y="189000"/>
            <a:ext cx="61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2,75м×5м = 13,7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щадь первой и третьей ст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75м×3,5м  - 1,5м×1,5м= 9,62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,2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7,375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лощадь второй сте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75м×3,5м  - 1,8м×0,9м – 3,14×0,4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2 = 9,62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1,62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0,317925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7,68708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лощадь четвёртой сте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понадобится 13,75 + 7,375 + 7,68708 = 28,81208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9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рулон обоев – 10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рулонов обоев – 29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 29×1 : 10 = 2,9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(рулона), что будет стоить 160×3=480 грив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5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5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5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5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5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5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5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бъект 2"/>
          <p:cNvSpPr/>
          <p:nvPr/>
        </p:nvSpPr>
        <p:spPr>
          <a:xfrm>
            <a:off x="2340000" y="189000"/>
            <a:ext cx="61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№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ю площадь 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м×5м = 17,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щадь п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0 мм х 600 мм = 180000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8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0,18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щадь одной пли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18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1 пли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,5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? пли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= 17,5×1 : 0,18 = 97,2222…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8 (плиток) – необходимо купи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8×25 = 2450 (гр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5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5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5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5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5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5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5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5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5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5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бъект 2"/>
          <p:cNvSpPr/>
          <p:nvPr/>
        </p:nvSpPr>
        <p:spPr>
          <a:xfrm>
            <a:off x="2195640" y="115920"/>
            <a:ext cx="61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№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ю периметр потолка и 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,5м+5м)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= 17м – периметр пола (потолк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лочный плинту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8 грн.  -  2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грн. - 17 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= 17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8 : 2 =238 (гр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ольный плинту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 грн.  -  2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грн. – 17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= 17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 : 2 =  331,5 (гр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5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5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5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5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5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5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5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5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75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5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5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5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721"/>
                </a:solidFill>
                <a:latin typeface="Calibri"/>
              </a:rPr>
              <a:t>ОБЩАЯ СМ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доэмульсионная краска - 80 гр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и - 480 гр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итка - 2450 гр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олочный плинтус - 238 гр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ольный плинтус  - 331,5 гр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расходы (клей для обоев, валик для клея, валик для покраски, саморезы, клей для потолочного плинтуса) - 190 гр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ОГО - 3769,5 гр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5609"/>
                </a:solidFill>
                <a:latin typeface="Calibri"/>
              </a:rPr>
              <a:t>Вывод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5609"/>
                </a:solidFill>
                <a:latin typeface="Calibri"/>
              </a:rPr>
              <a:t>пока этот  ремонт в моих мечта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2276640"/>
            <a:ext cx="33703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56000" y="162864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75564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15609"/>
                </a:solidFill>
                <a:latin typeface="Calibri"/>
              </a:rPr>
              <a:t>План до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123080" cy="4419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6300720" y="16542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5609"/>
                </a:solidFill>
                <a:latin typeface="Times New Roman"/>
              </a:rPr>
              <a:t>Детская ком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300720" y="2781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5609"/>
                </a:solidFill>
                <a:latin typeface="Times New Roman"/>
              </a:rPr>
              <a:t>Комната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372360" y="388152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5609"/>
                </a:solidFill>
                <a:latin typeface="Times New Roman"/>
              </a:rPr>
              <a:t>Кух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313320" y="4626000"/>
            <a:ext cx="21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5609"/>
                </a:solidFill>
                <a:latin typeface="Times New Roman"/>
              </a:rPr>
              <a:t>Вер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47257 0.13542 E">
                                      <p:cBhvr>
                                        <p:cTn id="8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0255 L -0.33872 0.03403 E">
                                      <p:cBhvr>
                                        <p:cTn id="8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-0.00417 L -0.36215 0.06921 E">
                                      <p:cBhvr>
                                        <p:cTn id="9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6 L -0.4882 0.01065 E">
                                      <p:cBhvr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15609"/>
                </a:solidFill>
                <a:latin typeface="Calibri"/>
              </a:rPr>
              <a:t>План ремон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700360" y="1700280"/>
            <a:ext cx="29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15609"/>
                </a:solidFill>
                <a:uFillTx/>
                <a:latin typeface="Calibri"/>
              </a:rPr>
              <a:t>      </a:t>
            </a:r>
            <a:r>
              <a:rPr b="1" lang="ru-RU" sz="2400" spc="-1" strike="noStrike" u="sng">
                <a:solidFill>
                  <a:srgbClr val="715609"/>
                </a:solidFill>
                <a:uFillTx/>
                <a:latin typeface="Calibri"/>
              </a:rPr>
              <a:t>Детская___комната    </a:t>
            </a:r>
            <a:r>
              <a:rPr b="1" lang="ru-RU" sz="1800" spc="-1" strike="noStrike" u="sng">
                <a:solidFill>
                  <a:srgbClr val="715609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156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15609"/>
                </a:solidFill>
                <a:latin typeface="Calibri"/>
              </a:rPr>
              <a:t>покраска пото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156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15609"/>
                </a:solidFill>
                <a:latin typeface="Calibri"/>
              </a:rPr>
              <a:t>оклейка стен обо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156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15609"/>
                </a:solidFill>
                <a:latin typeface="Calibri"/>
              </a:rPr>
              <a:t>укладка напольной пли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7156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15609"/>
                </a:solidFill>
                <a:latin typeface="Calibri"/>
              </a:rPr>
              <a:t>крепеж напольного и потолочного плинт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156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7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бъект 2"/>
          <p:cNvSpPr/>
          <p:nvPr/>
        </p:nvSpPr>
        <p:spPr>
          <a:xfrm>
            <a:off x="2340000" y="189000"/>
            <a:ext cx="42480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5609"/>
                </a:solidFill>
                <a:latin typeface="Calibri"/>
              </a:rPr>
              <a:t>Основной этап начала любых строительных работ – составление с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15609"/>
                </a:solidFill>
                <a:latin typeface="Georgia"/>
              </a:rPr>
              <a:t>Смета</a:t>
            </a:r>
            <a:r>
              <a:rPr b="0" lang="ru-RU" sz="2800" spc="-1" strike="noStrike">
                <a:solidFill>
                  <a:srgbClr val="715609"/>
                </a:solidFill>
                <a:latin typeface="Calibri"/>
              </a:rPr>
              <a:t> - это документ, оценивающий стоимость строительства, содержащий перечень работ и их объёмы, которые необходимо выполнить по проектной документации, а также стоимости этих 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" descr=""/>
          <p:cNvPicPr/>
          <p:nvPr/>
        </p:nvPicPr>
        <p:blipFill>
          <a:blip r:embed="rId1"/>
          <a:stretch/>
        </p:blipFill>
        <p:spPr>
          <a:xfrm>
            <a:off x="6659640" y="1413000"/>
            <a:ext cx="230508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5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бъект 2"/>
          <p:cNvSpPr/>
          <p:nvPr/>
        </p:nvSpPr>
        <p:spPr>
          <a:xfrm>
            <a:off x="2340000" y="189000"/>
            <a:ext cx="61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№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покраски потолка детской комнаты размером 3,5м×5м необходимо купить водоэмульсионную крас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анок краски емкостью 3 л надо купить, если известно, что расход  краски 1 л на 10 кв.м? Сколько денег будет потраче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раску, если цена одной банки 80 грив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08296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5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5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Объект 2"/>
          <p:cNvSpPr/>
          <p:nvPr/>
        </p:nvSpPr>
        <p:spPr>
          <a:xfrm>
            <a:off x="2340000" y="189000"/>
            <a:ext cx="61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№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колько рулонов обоев  (10 м х 1 м ) надо купить для оклейки стен  детской комнаты, если известно, что цена одного рулона 160 гривен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5651640" y="3213000"/>
            <a:ext cx="2436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5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Объект 2"/>
          <p:cNvSpPr/>
          <p:nvPr/>
        </p:nvSpPr>
        <p:spPr>
          <a:xfrm>
            <a:off x="2340000" y="189000"/>
            <a:ext cx="61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№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обновления пола в детской комнате необходимо приобрести плитку размером 300 мм х 600 мм. Сколько штук  напольной плитки надо купить? Какое количество  денег будет затрачено на обновление пола, если цена одной плитки  25 гривен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5588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5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Объект 2"/>
          <p:cNvSpPr/>
          <p:nvPr/>
        </p:nvSpPr>
        <p:spPr>
          <a:xfrm>
            <a:off x="2340000" y="189000"/>
            <a:ext cx="61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№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завершения ремонта в детской комнате осталось прикрепить потолочный и напольный плинтусы.  Сколько плинтуса каждого вида надо купить,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лочный плинту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8 грн.  за  2 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ольный плинту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 грн.  за  2 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rc_mi" descr="http://cdn27.mdomukr.smcloud.net/t/photos/thumbnails/2b/f8/86/ce91ad554b/noviy_pol_13_305x0_rozmiar-niestandardowy.jpg"/>
          <p:cNvPicPr/>
          <p:nvPr/>
        </p:nvPicPr>
        <p:blipFill>
          <a:blip r:embed="rId1"/>
          <a:stretch/>
        </p:blipFill>
        <p:spPr>
          <a:xfrm>
            <a:off x="5364000" y="3789360"/>
            <a:ext cx="2689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5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5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5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5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5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бъект 2"/>
          <p:cNvSpPr/>
          <p:nvPr/>
        </p:nvSpPr>
        <p:spPr>
          <a:xfrm>
            <a:off x="2340000" y="189000"/>
            <a:ext cx="61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 Вычислю площадь пото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м×5м = 17,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щадь потол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1 л  кра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,5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? л кра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= 1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,5 : 10 = 1,75 (л) – понадобится для покраски потолка, для этого достаточно купить одну трёхлитровую банку краски за 80 грив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5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5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5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6:57:17Z</dcterms:created>
  <dc:creator>gluza</dc:creator>
  <dc:description/>
  <dc:language>en-US</dc:language>
  <cp:lastModifiedBy>gluza</cp:lastModifiedBy>
  <dcterms:modified xsi:type="dcterms:W3CDTF">2014-12-24T04:17:04Z</dcterms:modified>
  <cp:revision>6</cp:revision>
  <dc:subject/>
  <dc:title>PRESENTATION  NAME</dc:title>
</cp:coreProperties>
</file>