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3E-65FE-43CF-9C33-7D4A907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CB5-3105-42A0-8571-B2C0FE1A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E2B-EB56-49D5-B488-DEF3C428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0B1-C13B-4532-AD4F-F05AEA16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7990-C606-4A66-B1D5-95D80734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44FF-52A7-47D1-920C-73A7C03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9C4-C4E1-481D-A4A9-8055617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CD5-EAC0-4445-8B42-8BF11477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4506-094C-47FA-A4C5-311F62C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263E-BCEC-4E9C-895D-E2E1F30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CC8-51D4-418B-A792-F0404B3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674-B803-4939-A8F6-8FE6246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551E-0B99-420B-8814-C7A456C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3A50-5D49-4C04-B6DE-D1AC035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016F-37EF-4F87-9357-E47CD57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B967-2A46-4D5C-9CCD-EDF8D43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C167-2F2A-4BAB-A0FB-C3673814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00892-F45B-4114-87AC-1B3A4ABB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1CA70-8EB2-4EDD-8466-4C5029C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031D-1994-4076-A2DA-298407FF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9BD97-6C4A-4C5A-AA65-BDD549D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FE153-A6D4-46C7-B6FF-4E6A860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348-ED16-4D41-B104-EABB581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25636-0646-4C22-ABAB-CD705B3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B6AA2-6C36-45A1-9B47-7A6ED67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EA977-E5E6-4AEA-8224-37086C0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A8B5C-BFFF-4049-9E69-8C21C66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A8C9A-2615-42D9-BBDB-D9E35940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19609-9E55-4D9D-9C09-51F46E84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FF29A-2498-49DD-B5FB-06F59296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08C10-0944-443D-8245-070B5C08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FE39-AEEE-4CEE-96DB-355FBB5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C6DA-1123-4945-9E1C-A0041B4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FF7-9346-44A4-A2B4-6BAF156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4A11-2AD1-44D2-9DBB-618C86F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B87F-940D-41F1-9A38-62B7EB7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928A-E552-4416-8726-5BDFE47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6DD7-5F98-4C89-8D09-EE29521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DE4B-272D-4B56-8D2D-A446CD1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B14C-0054-495E-A3A1-E944B44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2703-33D2-4D97-A7AF-D1601CCB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A2BB-3C6A-4FA7-964C-24979940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386B-D2C4-4D25-870C-DDDF7551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285-87D5-4C80-ACAA-00DF7C11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E61-2D42-4493-8C99-3A5BE61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99A-737B-49FC-9F37-538E4A1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91F-28EA-468A-B5CE-A0382E51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5BA-9F12-409E-A5FC-DC1BEDF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2B3D-4B1E-4049-A76F-F4EC0E7F0A6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2523-0722-4F6F-B509-C6549903189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D39B-C829-4A8C-9EFE-CCA6C4D54CB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FE0-E797-4509-B4E9-6F0C76A8CC3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images%2Fsearch%3Bimages%3B%3B&amp;text=&amp;etext=8863.OqHSbMBPvu1l9IC1SRSi_VTW_AbLMAbINdbnCMsGxZHnlotfpT0UUg5t7MKXKK-wjBN7vatunwIOQDXAXl9QEvdl24D4K4JFSNB-5UX95QY.f80094cdca2602f149e72c8e8a3dbc86042e32e2&amp;uuid=&amp;state=tid_Wvm4RM28ca_MiO4Ne9osTPtpHS9wicjEF5X7fRziVPIHCd9FyQ,,&amp;data=UlNrNmk5WktYejY4cHFySjRXSWhXSGZYeTc1QmlaOVBBT0pkRlhkU0VqNTdhbWVlOU5UNWlScENmcjdDbzF3SlI1TnJIc3FXT2VQbGZuSHRidjFKanF6X0xsdVYtOGZYLUZOTXZxenBVNnYtZUlOZDVORk1ZNWdRM1RhREU4d3I,&amp;sign=f5cc9be67044b8d8930c68b4c76fb3b5&amp;keyno=0&amp;b64e=2&amp;l10n=ru" TargetMode="External"/><Relationship Id="rId2" Type="http://schemas.openxmlformats.org/officeDocument/2006/relationships/hyperlink" Target="http://yandex.ru/clck/jsredir?from=yandex.ru%3Bimages%2Fsearch%3Bimages%3B%3B&amp;text=&amp;etext=8863._HiIxx3QGaHrkNwKI3G09l5Bhwa2Sxw37IWd-_xoGyUswoh_AGP5ovEYBxFsnRLgc9vNAa51nFMbqElR2dpwcA.dde3f159a14475364e7af76c07eed9c2becb3678&amp;uuid=&amp;state=tid_Wvm4RM28ca_MiO4Ne9osTPtpHS9wicjEF5X7fRziVPIHCd9FyQ,,&amp;data=UlNrNmk5WktYejY4cHFySjRXSWhXTHo5MjNXdHFqWGh2cHQzNl9BQ0tyTDR3T0JWZzhYRm1YbEY5UUJpdkxCZGxoeFpxSW9lejFtSHlyU2ZCTFhNUlV3MXFUdTlMQW0xOEk4d2JtSDJHdXRkSUg5alVzLVZOYWJMRFE1R3lsUDh5SWgtYnpvaU1jUkdsbFJhVmw1eV9zNW9HOWdWdWppeklQZUU3bmZLbjVnNmV2VnVmbVdfcXBVN19CU3NEcVF1&amp;sign=aef365361c2584e32151525356785b1b&amp;keyno=0&amp;b64e=2&amp;l10n=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img-fotki.yandex.ru/get/5706/zhakinya.42/0_9b3af_dd01860b_XL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Религия и мораль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Золотое правило                 нравственности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№ 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68360" y="1052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1"/>
              </a:rPr>
              <a:t>regnum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суд царя Соло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прит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высказывания мудрец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infourok.ru/prezentaciya-na-temu-zolotoe-pravilo-nravstvennosti-2482051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олотое правило нравствен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28520" y="396720"/>
            <a:ext cx="8502840" cy="1078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87640" y="76500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"Что такое мораль?"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Дата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88E7-A4C6-47A1-B982-DCB5AFEEC932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DC9E-A76F-4308-9334-6CBA419394F8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395280" y="1628640"/>
            <a:ext cx="58579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раль – правила поведения, принимаемые и одобряемые общест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250920" y="2997360"/>
            <a:ext cx="2808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равствен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4140360" y="2997360"/>
            <a:ext cx="45720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ический,  поучительный  вывод из  чего – нибудь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179280" y="3860640"/>
            <a:ext cx="5589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бычай,  нрав,  характер,  поря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3348000" y="4429080"/>
            <a:ext cx="50101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зультат,  продукт  размышления  о  жизни,  делах,  поступках  люд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79280" y="5950080"/>
            <a:ext cx="55008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чинается  там,  где  один   человек  позаботился  о  другом  человек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одержимое 2"/>
          <p:cNvGrpSpPr/>
          <p:nvPr/>
        </p:nvGrpSpPr>
        <p:grpSpPr>
          <a:xfrm>
            <a:off x="158760" y="743040"/>
            <a:ext cx="8747280" cy="3848040"/>
            <a:chOff x="158760" y="743040"/>
            <a:chExt cx="8747280" cy="3848040"/>
          </a:xfrm>
        </p:grpSpPr>
        <p:pic>
          <p:nvPicPr>
            <p:cNvPr id="22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58760" y="743040"/>
              <a:ext cx="874728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9280" y="765000"/>
              <a:ext cx="87138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Мораль </a:t>
              </a:r>
              <a:r>
                <a:rPr b="0" lang="ru-RU" sz="4000" spc="-1" strike="noStrike">
                  <a:solidFill>
                    <a:srgbClr val="000000"/>
                  </a:solidFill>
                  <a:latin typeface="Georgia"/>
                </a:rPr>
                <a:t>– форма общественного сознания, состоящая из системы ценностей и требований, регулирующих поведение люд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Правило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Что это такое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авил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— требование для исполнения неких условий (норма на поведение) всеми участниками какого-либо действия (игры, правописания,  организации, учреждения), за выполнение которого предусмотрено поощрение, а за невыполнение наказ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Что такое «золотой»?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кие существительные можно подобрать к этому слову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714240" y="328608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4143240" y="3643200"/>
            <a:ext cx="1597320" cy="1225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6643800" y="4071960"/>
            <a:ext cx="1993680" cy="1798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061280" y="5786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282920" y="50864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рь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287480" y="60721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а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044880" y="2714760"/>
            <a:ext cx="30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ямом смыс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Скругленный прямоугольник 11"/>
          <p:cNvSpPr/>
          <p:nvPr/>
        </p:nvSpPr>
        <p:spPr>
          <a:xfrm>
            <a:off x="285840" y="2714760"/>
            <a:ext cx="8429400" cy="38574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044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450160" y="9288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переносном смыс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42920" y="4869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239720" y="544500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240680" y="5013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7020000" y="2637000"/>
            <a:ext cx="1454040" cy="2158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1654560" y="591984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кого мы так говори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Скругленный прямоугольник 12"/>
          <p:cNvSpPr/>
          <p:nvPr/>
        </p:nvSpPr>
        <p:spPr>
          <a:xfrm>
            <a:off x="285840" y="2357280"/>
            <a:ext cx="8429400" cy="421488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Золотое правило нравствен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0" y="4459320"/>
            <a:ext cx="4572000" cy="1671480"/>
          </a:xfrm>
          <a:prstGeom prst="rect">
            <a:avLst/>
          </a:prstGeom>
          <a:solidFill>
            <a:srgbClr val="dbdbe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упай по отношению к другим так, как ты не хотел бы, чтобы поступа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теб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0" y="1916280"/>
            <a:ext cx="9144000" cy="1800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500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1916280"/>
            <a:ext cx="9144000" cy="1800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500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dbd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ай по отношению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м так, как ты хотел б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бы поступ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отношению к т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Скругленный прямоугольник 5"/>
          <p:cNvSpPr/>
          <p:nvPr/>
        </p:nvSpPr>
        <p:spPr>
          <a:xfrm>
            <a:off x="2411280" y="2133720"/>
            <a:ext cx="4321440" cy="1582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2484360" y="4508640"/>
            <a:ext cx="4319640" cy="1584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2484360" y="3571920"/>
            <a:ext cx="6480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274400" y="486792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Times New Roman"/>
                <a:ea typeface="宋体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Times New Roman"/>
                <a:ea typeface="宋体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626120" y="5372640"/>
            <a:ext cx="69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7"/>
          <a:stretch/>
        </p:blipFill>
        <p:spPr>
          <a:xfrm>
            <a:off x="4000680" y="642960"/>
            <a:ext cx="4714560" cy="567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Картинка 54 из 633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760" y="3071880"/>
            <a:ext cx="3187440" cy="30002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9"/>
          <p:cNvSpPr/>
          <p:nvPr/>
        </p:nvSpPr>
        <p:spPr>
          <a:xfrm>
            <a:off x="142920" y="1785960"/>
            <a:ext cx="3786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цените поступок разбой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з сказки А. Толстого «Золотой клю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и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3857760" y="571680"/>
            <a:ext cx="157140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0:32:52Z</dcterms:created>
  <dc:creator>Len</dc:creator>
  <dc:description/>
  <dc:language>en-US</dc:language>
  <cp:lastModifiedBy>User</cp:lastModifiedBy>
  <dcterms:modified xsi:type="dcterms:W3CDTF">2020-04-01T03:21:39Z</dcterms:modified>
  <cp:revision>24</cp:revision>
  <dc:subject/>
  <dc:title>Золотое правило нрав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