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DF6-3F01-4D22-97F2-54EDA1A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8F5-9ED6-4805-92C0-2CD69F6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384-1662-42C6-92CD-EB43FFF6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1CD-DD1B-4EE3-B5DE-F543085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056F-BBF8-4E68-9C28-157897A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744-0619-427F-A28E-6C9D923B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128-2BCB-49D8-BE00-91FEF93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7EF-6CB4-4A9B-8497-D0549F1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32F5-828B-41AF-95F1-526D6542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12A-7523-4512-BBC3-1CAACE24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2744-BBFB-47D0-940B-825622A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53D-D86D-4C38-A0B1-701F04D8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47B7-3D05-4E33-93BE-9DEED49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328A-1707-4F3F-B1B1-B82043A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F306-1519-4BD9-BEF5-3D10D6F0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5824-69FB-4D6E-AD9C-C282B04E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C117-92F8-4196-9CE4-EBE8720E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D3934-E295-43ED-9088-B6DA4047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F2E8-535E-4B00-8826-56F648B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A6CA0-319F-47E7-B3FA-ABAC3A4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49EA7-FF00-4A5E-BE29-5DBC453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1F86-77EC-4A43-ADCE-45DC649E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61D-711B-49C0-8CA0-E2F40D8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63523-4AE7-4D28-A5E1-B581201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84630-760C-4F9C-8C83-C244A88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CFCD7-7A7E-4D20-86FE-3B346AB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70495-6245-4C35-9FEB-6FA20DA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F5B6D-7EFC-4681-BA08-F99D59E2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90B2E-0204-40A0-B55B-D4F53E13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ACBC8-4D0C-4F23-9697-EBFA78E3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E8D8-F569-4191-8D84-93DB0F7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D916-CED8-4E4E-B946-65A46D3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B63F-E92B-46A4-9A65-909A6AB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FA6-CEC8-4BAC-8F41-6F401AD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FD2EC-0752-4388-A095-D5551CB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A585-3293-44D1-BE2E-5CA33FF0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7EE1-2088-4C4D-A13F-83E1E46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2900-3E44-45DA-A36E-06453A1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70F1-F893-4412-8FBD-6DB081B5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7FA0-31FA-4C87-8581-283A42C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0F84-CCE8-4500-924E-B0888C0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F7A5-E3A1-43E1-9B04-D6CE18F1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1464-CE99-4862-9473-F709BE3A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721-63AE-4242-821B-04E1A58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1A2-A612-41A8-988F-6BA2E528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976-D187-45CF-B096-8F662B8F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63B-5051-438A-99DF-0DEE202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2EA-2682-4FB0-962D-F4CDBC8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6B82-0909-408C-8733-03EF04A014A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D51-8B6E-4F18-8456-391FABFE7C6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FF43-5ABB-474A-9BE1-C7DA9700D52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6F9-846A-414A-9D52-98135F16BD3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images%2Fsearch%3Bimages%3B%3B&amp;text=&amp;etext=8863.OqHSbMBPvu1l9IC1SRSi_VTW_AbLMAbINdbnCMsGxZHnlotfpT0UUg5t7MKXKK-wjBN7vatunwIOQDXAXl9QEvdl24D4K4JFSNB-5UX95QY.f80094cdca2602f149e72c8e8a3dbc86042e32e2&amp;uuid=&amp;state=tid_Wvm4RM28ca_MiO4Ne9osTPtpHS9wicjEF5X7fRziVPIHCd9FyQ,,&amp;data=UlNrNmk5WktYejY4cHFySjRXSWhXSGZYeTc1QmlaOVBBT0pkRlhkU0VqNTdhbWVlOU5UNWlScENmcjdDbzF3SlI1TnJIc3FXT2VQbGZuSHRidjFKanF6X0xsdVYtOGZYLUZOTXZxenBVNnYtZUlOZDVORk1ZNWdRM1RhREU4d3I,&amp;sign=f5cc9be67044b8d8930c68b4c76fb3b5&amp;keyno=0&amp;b64e=2&amp;l10n=ru" TargetMode="External"/><Relationship Id="rId2" Type="http://schemas.openxmlformats.org/officeDocument/2006/relationships/hyperlink" Target="http://yandex.ru/clck/jsredir?from=yandex.ru%3Bimages%2Fsearch%3Bimages%3B%3B&amp;text=&amp;etext=8863._HiIxx3QGaHrkNwKI3G09l5Bhwa2Sxw37IWd-_xoGyUswoh_AGP5ovEYBxFsnRLgc9vNAa51nFMbqElR2dpwcA.dde3f159a14475364e7af76c07eed9c2becb3678&amp;uuid=&amp;state=tid_Wvm4RM28ca_MiO4Ne9osTPtpHS9wicjEF5X7fRziVPIHCd9FyQ,,&amp;data=UlNrNmk5WktYejY4cHFySjRXSWhXTHo5MjNXdHFqWGh2cHQzNl9BQ0tyTDR3T0JWZzhYRm1YbEY5UUJpdkxCZGxoeFpxSW9lejFtSHlyU2ZCTFhNUlV3MXFUdTlMQW0xOEk4d2JtSDJHdXRkSUg5alVzLVZOYWJMRFE1R3lsUDh5SWgtYnpvaU1jUkdsbFJhVmw1eV9zNW9HOWdWdWppeklQZUU3bmZLbjVnNmV2VnVmbVdfcXBVN19CU3NEcVF1&amp;sign=aef365361c2584e32151525356785b1b&amp;keyno=0&amp;b64e=2&amp;l10n=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hyperlink" Target="http://img-fotki.yandex.ru/get/5706/zhakinya.42/0_9b3af_dd01860b_XL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Религия и мораль.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Золотое правило                 нравственности.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№ 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68360" y="10526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1"/>
              </a:rPr>
              <a:t>regnum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суд царя Соло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Times New Roman"/>
                <a:hlinkClick r:id="rId2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притч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urok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высказывания мудрец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infourok.ru/prezentaciya-na-temu-zolotoe-pravilo-nravstvennosti-2482051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олотое правило нравствен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28520" y="396720"/>
            <a:ext cx="8502840" cy="1078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87640" y="76500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"Что такое мораль?"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Дата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723-2352-4DD5-B3FB-93C43D5FC30F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9B9-71C8-4131-B07C-A60FEAFEBB8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395280" y="1628640"/>
            <a:ext cx="58579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раль – правила поведения, принимаемые и одобряемые общест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250920" y="2997360"/>
            <a:ext cx="2808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равствен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4140360" y="2997360"/>
            <a:ext cx="45720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ический,  поучительный  вывод из  чего – нибудь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179280" y="3860640"/>
            <a:ext cx="5589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бычай,  нрав,  характер,  поря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3348000" y="4429080"/>
            <a:ext cx="50101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зультат,  продукт  размышления  о  жизни,  делах,  поступках  люд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79280" y="5950080"/>
            <a:ext cx="550080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чинается  там,  где  один   человек  позаботился  о  другом  человек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одержимое 2"/>
          <p:cNvGrpSpPr/>
          <p:nvPr/>
        </p:nvGrpSpPr>
        <p:grpSpPr>
          <a:xfrm>
            <a:off x="158760" y="743040"/>
            <a:ext cx="8747280" cy="3848040"/>
            <a:chOff x="158760" y="743040"/>
            <a:chExt cx="8747280" cy="3848040"/>
          </a:xfrm>
        </p:grpSpPr>
        <p:pic>
          <p:nvPicPr>
            <p:cNvPr id="22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58760" y="743040"/>
              <a:ext cx="874728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9280" y="765000"/>
              <a:ext cx="871380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Мораль </a:t>
              </a:r>
              <a:r>
                <a:rPr b="0" lang="ru-RU" sz="4000" spc="-1" strike="noStrike">
                  <a:solidFill>
                    <a:srgbClr val="000000"/>
                  </a:solidFill>
                  <a:latin typeface="Georgia"/>
                </a:rPr>
                <a:t>– форма общественного сознания, состоящая из системы ценностей и требований, регулирующих поведение люд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Правило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Что это такое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авил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— требование для исполнения неких условий (норма на поведение) всеми участниками какого-либо действия (игры, правописания,  организации, учреждения), за выполнение которого предусмотрено поощрение, а за невыполнение наказ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Что такое «золотой»?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кие существительные можно подобрать к этому слову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714240" y="328608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4143240" y="3643200"/>
            <a:ext cx="1597320" cy="1225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6643800" y="4071960"/>
            <a:ext cx="1993680" cy="1798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061280" y="57862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282920" y="50864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рь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287480" y="60721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а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044880" y="2714760"/>
            <a:ext cx="30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ямом смыс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Скругленный прямоугольник 11"/>
          <p:cNvSpPr/>
          <p:nvPr/>
        </p:nvSpPr>
        <p:spPr>
          <a:xfrm>
            <a:off x="285840" y="2714760"/>
            <a:ext cx="8429400" cy="38574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044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450160" y="9288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переносном смыс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42920" y="4869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239720" y="544500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240680" y="5013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7020000" y="2637000"/>
            <a:ext cx="1454040" cy="2158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0"/>
          <p:cNvSpPr/>
          <p:nvPr/>
        </p:nvSpPr>
        <p:spPr>
          <a:xfrm>
            <a:off x="1654560" y="591984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кого мы так говори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Скругленный прямоугольник 12"/>
          <p:cNvSpPr/>
          <p:nvPr/>
        </p:nvSpPr>
        <p:spPr>
          <a:xfrm>
            <a:off x="285840" y="2357280"/>
            <a:ext cx="8429400" cy="421488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Золотое правило нравствен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0" y="4459320"/>
            <a:ext cx="4572000" cy="1671480"/>
          </a:xfrm>
          <a:prstGeom prst="rect">
            <a:avLst/>
          </a:prstGeom>
          <a:solidFill>
            <a:srgbClr val="dbdbe9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упай по отношению к другим так, как ты не хотел бы, чтобы поступа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ю к теб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0" y="1916280"/>
            <a:ext cx="9144000" cy="1800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500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1916280"/>
            <a:ext cx="9144000" cy="1800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500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dbd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ступай по отношению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м так, как ты хотел б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тобы поступ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отношению к т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Скругленный прямоугольник 5"/>
          <p:cNvSpPr/>
          <p:nvPr/>
        </p:nvSpPr>
        <p:spPr>
          <a:xfrm>
            <a:off x="2411280" y="2133720"/>
            <a:ext cx="4321440" cy="1582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2484360" y="4508640"/>
            <a:ext cx="4319640" cy="1584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2484360" y="3571920"/>
            <a:ext cx="6480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Times New Roman"/>
                <a:ea typeface="宋体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Times New Roman"/>
                <a:ea typeface="宋体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274400" y="486792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Times New Roman"/>
                <a:ea typeface="宋体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Times New Roman"/>
                <a:ea typeface="宋体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626120" y="5372640"/>
            <a:ext cx="69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Times New Roman"/>
                <a:ea typeface="宋体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Times New Roman"/>
                <a:ea typeface="宋体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7"/>
          <a:stretch/>
        </p:blipFill>
        <p:spPr>
          <a:xfrm>
            <a:off x="4000680" y="642960"/>
            <a:ext cx="4714560" cy="567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Картинка 54 из 6331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760" y="3071880"/>
            <a:ext cx="3187440" cy="30002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9"/>
          <p:cNvSpPr/>
          <p:nvPr/>
        </p:nvSpPr>
        <p:spPr>
          <a:xfrm>
            <a:off x="142920" y="1785960"/>
            <a:ext cx="3786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цените поступок разбой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з сказки А. Толстого «Золотой клю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и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3857760" y="571680"/>
            <a:ext cx="157140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0:32:52Z</dcterms:created>
  <dc:creator>Len</dc:creator>
  <dc:description/>
  <dc:language>en-US</dc:language>
  <cp:lastModifiedBy>User</cp:lastModifiedBy>
  <dcterms:modified xsi:type="dcterms:W3CDTF">2020-04-01T03:21:39Z</dcterms:modified>
  <cp:revision>24</cp:revision>
  <dc:subject/>
  <dc:title>Золотое правило нрав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