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FC1-30C3-4F2F-99B1-7F405AF5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9B8-036F-4A1F-A3F1-45694AF7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B9C-3D5A-459E-A887-339D8B63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FD9-37BF-455D-A696-62E2F912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4ACA-24B6-48D4-83B8-1B95541F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52D2-469C-41B0-AB43-BDDB267D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E9CA-4792-4D6A-934E-D29711D5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4C42-6A66-4E56-85CD-403B1A73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53A9-298B-443C-9D5E-6DF717DE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7083-A7C0-44C3-BDFD-4249327D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DDC7-A4FA-49E6-8FE1-A6ACDCCB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0B6-A2B0-4298-AB47-474D5DC5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6B5D-46F7-471B-905D-47BAE6E9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AE83-70DE-4A8F-B866-5DD50BBE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1EEE-F7F8-437D-874D-87D2E1E3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2683-6847-4703-9E1D-35514870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8E07-2BEA-4E9E-92EE-9FF22B09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C8F3D-FDC0-44C2-BAC1-4552DD08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8EC1F-F1C2-46CC-A5F2-00CB9E80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E6712-07B2-4572-895D-8B2E8DC0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E0D17-62D4-4065-8E87-974DDA89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5743E-6CF8-4AB3-B93F-BF1D223A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372-5978-409A-BB0A-6A873B1E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751BD-7AC0-4EE4-965C-49F50123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8CC1B-6B5D-4829-AA84-1F2C2C59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4678E-F4EA-42D3-9180-8480D71E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49D3E-FDFF-4F11-BAC9-EE2C51D4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06FB1C-CF9D-4745-A42B-5675962C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50D98-AF0D-45AE-A02C-1F514940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E7987-4425-42D6-B9B5-0AA1A8A5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18B90-C158-4F9F-9B1A-F7021E2D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DAB87-4625-4814-AF20-F836218C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A073B-C651-48A9-A88F-15D3D67A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A90-7490-47B7-ACBE-6DD4C185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164F2-24AD-4016-B2F8-38DE38CF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6200D-54CF-4FAC-9273-02790444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F9B86-B405-4EF0-9066-C39D7680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A34DA-459F-4D9E-A6B0-DFC2DA91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14F84-4428-4038-84AB-3DE0254E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2A4A4-DD46-4839-B243-86ED9025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D9618-871C-453B-B8F7-D17C2C88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40A95-6CF7-48A9-B727-D1B37DFF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8A36E-FF90-40E6-8F67-61F02F2F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0BF-686C-4916-8EF8-04C1515B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4B4-A911-4A27-A40C-A4CE8465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43C-BF07-4052-8F2B-60585F44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5D74-ECD7-443D-85F7-929EA2A4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1031-A038-45EB-BFF4-7C25BD33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B747-19FD-4160-8074-FCCB3E5EB28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DDBD-3A39-46B3-B6B5-07A13A9F409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1BD9-A89C-467F-B74D-058325069FB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09FE-4378-4F6A-A86F-DD6945EB9E3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hyperlink" Target="http://nativenotes.net/wp-content/uploads/2009/04/king-solomon-baby.jp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yandex.ru/clck/jsredir?from=yandex.ru%3Bimages%2Fsearch%3Bimages%3B%3B&amp;text=&amp;etext=8863.OqHSbMBPvu1l9IC1SRSi_VTW_AbLMAbINdbnCMsGxZHnlotfpT0UUg5t7MKXKK-wjBN7vatunwIOQDXAXl9QEvdl24D4K4JFSNB-5UX95QY.f80094cdca2602f149e72c8e8a3dbc86042e32e2&amp;uuid=&amp;state=tid_Wvm4RM28ca_MiO4Ne9osTPtpHS9wicjEF5X7fRziVPIHCd9FyQ,,&amp;data=UlNrNmk5WktYejY4cHFySjRXSWhXSGZYeTc1QmlaOVBBT0pkRlhkU0VqNTdhbWVlOU5UNWlScENmcjdDbzF3SlI1TnJIc3FXT2VQbGZuSHRidjFKanF6X0xsdVYtOGZYLUZOTXZxenBVNnYtZUlOZDVORk1ZNWdRM1RhREU4d3I,&amp;sign=f5cc9be67044b8d8930c68b4c76fb3b5&amp;keyno=0&amp;b64e=2&amp;l10n=ru" TargetMode="External"/><Relationship Id="rId2" Type="http://schemas.openxmlformats.org/officeDocument/2006/relationships/hyperlink" Target="http://yandex.ru/clck/jsredir?from=yandex.ru%3Bimages%2Fsearch%3Bimages%3B%3B&amp;text=&amp;etext=8863._HiIxx3QGaHrkNwKI3G09l5Bhwa2Sxw37IWd-_xoGyUswoh_AGP5ovEYBxFsnRLgc9vNAa51nFMbqElR2dpwcA.dde3f159a14475364e7af76c07eed9c2becb3678&amp;uuid=&amp;state=tid_Wvm4RM28ca_MiO4Ne9osTPtpHS9wicjEF5X7fRziVPIHCd9FyQ,,&amp;data=UlNrNmk5WktYejY4cHFySjRXSWhXTHo5MjNXdHFqWGh2cHQzNl9BQ0tyTDR3T0JWZzhYRm1YbEY5UUJpdkxCZGxoeFpxSW9lejFtSHlyU2ZCTFhNUlV3MXFUdTlMQW0xOEk4d2JtSDJHdXRkSUg5alVzLVZOYWJMRFE1R3lsUDh5SWgtYnpvaU1jUkdsbFJhVmw1eV9zNW9HOWdWdWppeklQZUU3bmZLbjVnNmV2VnVmbVdfcXBVN19CU3NEcVF1&amp;sign=aef365361c2584e32151525356785b1b&amp;keyno=0&amp;b64e=2&amp;l10n=ru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1915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rebuchet MS"/>
              </a:rPr>
              <a:t>Религия и мораль.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Trebuchet MS"/>
              </a:rPr>
              <a:t>Золотое правило                 нравственности.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рок № 2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9"/>
          <p:cNvSpPr/>
          <p:nvPr/>
        </p:nvSpPr>
        <p:spPr>
          <a:xfrm>
            <a:off x="285840" y="142920"/>
            <a:ext cx="8572320" cy="650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" descr="linie-fan1"/>
          <p:cNvPicPr/>
          <p:nvPr/>
        </p:nvPicPr>
        <p:blipFill>
          <a:blip r:embed="rId1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linie-fan15"/>
          <p:cNvPicPr/>
          <p:nvPr/>
        </p:nvPicPr>
        <p:blipFill>
          <a:blip r:embed="rId2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linie-fan1"/>
          <p:cNvPicPr/>
          <p:nvPr/>
        </p:nvPicPr>
        <p:blipFill>
          <a:blip r:embed="rId3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linie-fan1"/>
          <p:cNvPicPr/>
          <p:nvPr/>
        </p:nvPicPr>
        <p:blipFill>
          <a:blip r:embed="rId5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linie-fan15"/>
          <p:cNvPicPr/>
          <p:nvPr/>
        </p:nvPicPr>
        <p:blipFill>
          <a:blip r:embed="rId6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9"/>
          <p:cNvSpPr/>
          <p:nvPr/>
        </p:nvSpPr>
        <p:spPr>
          <a:xfrm>
            <a:off x="714240" y="534240"/>
            <a:ext cx="535788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Прит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Мудрый царь Соломон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ажды пришли к Соломону две спорящие женщины и принесли маленького ребенка. Каждая из них утверждала, что этот ребенок ее. Чтобы узнать, кто из них лжет, а кто прав, Соломон предложил рассечь ребенка надвое и дать каждой женщине по половине. Конечно, он и не думал убивать ребенка, но сказал это для их испытания. Тогда одна из женщин сказала: “Рубите ребенка; пусть же не будет ни мне, ни тебе!” Другая же закричала: “Лучше отдайте младенца другой, но только не убивайте его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33"/>
                </a:solidFill>
                <a:latin typeface="Times New Roman"/>
              </a:rPr>
              <a:t>– </a:t>
            </a:r>
            <a:r>
              <a:rPr b="1" lang="ru-RU" sz="2200" spc="-1" strike="noStrike">
                <a:solidFill>
                  <a:srgbClr val="990033"/>
                </a:solidFill>
                <a:latin typeface="Times New Roman"/>
              </a:rPr>
              <a:t>Которая же из них была матерью ? Почему</a:t>
            </a:r>
            <a:r>
              <a:rPr b="1" lang="en-US" sz="2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990033"/>
                </a:solidFill>
                <a:latin typeface="Times New Roman"/>
              </a:rPr>
              <a:t>вы так считаете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3" descr="Картинка 1 из 1412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929200" y="1785960"/>
            <a:ext cx="300060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9"/>
          <p:cNvSpPr/>
          <p:nvPr/>
        </p:nvSpPr>
        <p:spPr>
          <a:xfrm>
            <a:off x="285840" y="142920"/>
            <a:ext cx="8572320" cy="650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2" descr="linie-fan1"/>
          <p:cNvPicPr/>
          <p:nvPr/>
        </p:nvPicPr>
        <p:blipFill>
          <a:blip r:embed="rId1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linie-fan15"/>
          <p:cNvPicPr/>
          <p:nvPr/>
        </p:nvPicPr>
        <p:blipFill>
          <a:blip r:embed="rId2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linie-fan1"/>
          <p:cNvPicPr/>
          <p:nvPr/>
        </p:nvPicPr>
        <p:blipFill>
          <a:blip r:embed="rId3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linie-fan1"/>
          <p:cNvPicPr/>
          <p:nvPr/>
        </p:nvPicPr>
        <p:blipFill>
          <a:blip r:embed="rId5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linie-fan15"/>
          <p:cNvPicPr/>
          <p:nvPr/>
        </p:nvPicPr>
        <p:blipFill>
          <a:blip r:embed="rId6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s50.radikal.ru/i130/1104/44/c749041d5783.jpg"/>
          <p:cNvPicPr/>
          <p:nvPr/>
        </p:nvPicPr>
        <p:blipFill>
          <a:blip r:embed="rId7"/>
          <a:stretch/>
        </p:blipFill>
        <p:spPr>
          <a:xfrm>
            <a:off x="1311120" y="1066680"/>
            <a:ext cx="6418440" cy="50101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0"/>
          <p:cNvSpPr/>
          <p:nvPr/>
        </p:nvSpPr>
        <p:spPr>
          <a:xfrm>
            <a:off x="3421080" y="57168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Суд царя Солом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1"/>
          <p:cNvSpPr/>
          <p:nvPr/>
        </p:nvSpPr>
        <p:spPr>
          <a:xfrm>
            <a:off x="285840" y="142920"/>
            <a:ext cx="8572320" cy="650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2" descr="linie-fan1"/>
          <p:cNvPicPr/>
          <p:nvPr/>
        </p:nvPicPr>
        <p:blipFill>
          <a:blip r:embed="rId1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linie-fan15"/>
          <p:cNvPicPr/>
          <p:nvPr/>
        </p:nvPicPr>
        <p:blipFill>
          <a:blip r:embed="rId2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linie-fan1"/>
          <p:cNvPicPr/>
          <p:nvPr/>
        </p:nvPicPr>
        <p:blipFill>
          <a:blip r:embed="rId3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linie-fan1"/>
          <p:cNvPicPr/>
          <p:nvPr/>
        </p:nvPicPr>
        <p:blipFill>
          <a:blip r:embed="rId5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linie-fan15"/>
          <p:cNvPicPr/>
          <p:nvPr/>
        </p:nvPicPr>
        <p:blipFill>
          <a:blip r:embed="rId6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8"/>
          <p:cNvSpPr/>
          <p:nvPr/>
        </p:nvSpPr>
        <p:spPr>
          <a:xfrm>
            <a:off x="714240" y="4079880"/>
            <a:ext cx="74581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38086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П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ОПРОБУЙ – И ТЫ УВИДИШЬ, КАКИМИ ТЁПЛЫМИ, РАДОСТНЫМИ, СПОКОЙНЫМИ СТАНУТ ТВОИ ОТНОШЕНИЯ С ОКРУЖАЮЩИМИ ЛЮДЬМИ, КАКОЕ УДИВИТЕЛЬНОЕ ЧУВСТВО СОГРЕВАЕТ СЕРДЦЕ, СТАРАЙСЯ РАДИ СЕБЯ САМОГО НЕ ПРИЧИНЯТЬ ВРЕДА ДРУГОМУ ЧЕЛОВЕКУ.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WordArt 18"/>
          <p:cNvSpPr txBox="1"/>
          <p:nvPr/>
        </p:nvSpPr>
        <p:spPr>
          <a:xfrm>
            <a:off x="2928960" y="64296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43808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МНИ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0080"/>
                  </a:gs>
                  <a:gs pos="100000">
                    <a:srgbClr val="438086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3" name="Rectangle 19"/>
          <p:cNvSpPr/>
          <p:nvPr/>
        </p:nvSpPr>
        <p:spPr>
          <a:xfrm>
            <a:off x="324000" y="1341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Попробуй не наступить, а уступи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Не захватить, а отд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Не кулак показать, а протянуть ладон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Не спрятать, а поделить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Не кричать, а выслуш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Не разорвать, а склеи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13"/>
          <p:cNvSpPr/>
          <p:nvPr/>
        </p:nvSpPr>
        <p:spPr>
          <a:xfrm>
            <a:off x="4286160" y="1500120"/>
            <a:ext cx="1857600" cy="357120"/>
          </a:xfrm>
          <a:prstGeom prst="rect">
            <a:avLst/>
          </a:prstGeom>
          <a:gradFill rotWithShape="0">
            <a:gsLst>
              <a:gs pos="0">
                <a:srgbClr val="a3a4c3"/>
              </a:gs>
              <a:gs pos="100000">
                <a:srgbClr val="e4e4ec"/>
              </a:gs>
            </a:gsLst>
            <a:lin ang="5400000"/>
          </a:gra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оугольник 14"/>
          <p:cNvSpPr/>
          <p:nvPr/>
        </p:nvSpPr>
        <p:spPr>
          <a:xfrm>
            <a:off x="2857680" y="1785960"/>
            <a:ext cx="1500120" cy="357120"/>
          </a:xfrm>
          <a:prstGeom prst="rect">
            <a:avLst/>
          </a:prstGeom>
          <a:gradFill rotWithShape="0">
            <a:gsLst>
              <a:gs pos="0">
                <a:srgbClr val="a3a4c3"/>
              </a:gs>
              <a:gs pos="100000">
                <a:srgbClr val="e4e4ec"/>
              </a:gs>
            </a:gsLst>
            <a:lin ang="5400000"/>
          </a:gra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оугольник 15"/>
          <p:cNvSpPr/>
          <p:nvPr/>
        </p:nvSpPr>
        <p:spPr>
          <a:xfrm>
            <a:off x="5143680" y="2143080"/>
            <a:ext cx="1428480" cy="357120"/>
          </a:xfrm>
          <a:prstGeom prst="rect">
            <a:avLst/>
          </a:prstGeom>
          <a:gradFill rotWithShape="0">
            <a:gsLst>
              <a:gs pos="0">
                <a:srgbClr val="a3a4c3"/>
              </a:gs>
              <a:gs pos="100000">
                <a:srgbClr val="e4e4ec"/>
              </a:gs>
            </a:gsLst>
            <a:lin ang="5400000"/>
          </a:gra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оугольник 16"/>
          <p:cNvSpPr/>
          <p:nvPr/>
        </p:nvSpPr>
        <p:spPr>
          <a:xfrm>
            <a:off x="2786040" y="2500200"/>
            <a:ext cx="1857240" cy="357480"/>
          </a:xfrm>
          <a:prstGeom prst="rect">
            <a:avLst/>
          </a:prstGeom>
          <a:gradFill rotWithShape="0">
            <a:gsLst>
              <a:gs pos="0">
                <a:srgbClr val="a3a4c3"/>
              </a:gs>
              <a:gs pos="100000">
                <a:srgbClr val="e4e4ec"/>
              </a:gs>
            </a:gsLst>
            <a:lin ang="5400000"/>
          </a:gra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оугольник 17"/>
          <p:cNvSpPr/>
          <p:nvPr/>
        </p:nvSpPr>
        <p:spPr>
          <a:xfrm>
            <a:off x="2643120" y="2928960"/>
            <a:ext cx="1857600" cy="285840"/>
          </a:xfrm>
          <a:prstGeom prst="rect">
            <a:avLst/>
          </a:prstGeom>
          <a:gradFill rotWithShape="0">
            <a:gsLst>
              <a:gs pos="0">
                <a:srgbClr val="a3a4c3"/>
              </a:gs>
              <a:gs pos="100000">
                <a:srgbClr val="e4e4ec"/>
              </a:gs>
            </a:gsLst>
            <a:lin ang="5400000"/>
          </a:gra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оугольник 18"/>
          <p:cNvSpPr/>
          <p:nvPr/>
        </p:nvSpPr>
        <p:spPr>
          <a:xfrm>
            <a:off x="2786040" y="3286080"/>
            <a:ext cx="1857240" cy="285840"/>
          </a:xfrm>
          <a:prstGeom prst="rect">
            <a:avLst/>
          </a:prstGeom>
          <a:gradFill rotWithShape="0">
            <a:gsLst>
              <a:gs pos="0">
                <a:srgbClr val="a3a4c3"/>
              </a:gs>
              <a:gs pos="100000">
                <a:srgbClr val="e4e4ec"/>
              </a:gs>
            </a:gsLst>
            <a:lin ang="5400000"/>
          </a:gra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Объясните своими словами, что такое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28760" y="30718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«Золотое правило»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468360" y="1052640"/>
            <a:ext cx="80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тернет-ресурс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7afbd"/>
                </a:solidFill>
                <a:uFillTx/>
                <a:latin typeface="Times New Roman"/>
                <a:hlinkClick r:id="rId1"/>
              </a:rPr>
              <a:t>regnum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суд царя Солом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7afbd"/>
                </a:solidFill>
                <a:uFillTx/>
                <a:latin typeface="Times New Roman"/>
                <a:hlinkClick r:id="rId2"/>
              </a:rPr>
              <a:t>infourok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притч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urok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высказывания мудрец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s://infourok.ru/prezentaciya-na-temu-zolotoe-pravilo-nravstvennosti-2482051.htm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золотое правило нравствен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0:32:52Z</dcterms:created>
  <dc:creator>Len</dc:creator>
  <dc:description/>
  <dc:language>en-US</dc:language>
  <cp:lastModifiedBy>User</cp:lastModifiedBy>
  <dcterms:modified xsi:type="dcterms:W3CDTF">2020-04-01T03:22:51Z</dcterms:modified>
  <cp:revision>24</cp:revision>
  <dc:subject/>
  <dc:title>Золотое правило нравств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