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2BA-3698-4DC1-B855-2448AB40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F34-E05D-47C6-A4EE-4A77C25A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829-B825-4C1B-905E-1F85EEA3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E7D-236C-40BC-B323-BBCD7002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BA65-4647-409B-8712-2299E7CE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1781-5822-4898-902C-CB26C8AD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A211-D76A-4EE0-AD6F-9BE07184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DCDD-173C-4E23-AF2A-28F18AF3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3696-EF04-47BA-8761-0DAFA5CC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25DF-400F-4E16-9FDD-8769AD04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B494-4BDC-466D-AB37-54678BC4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4C0-7A5D-4EAB-ADA6-AF7A9A89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EF87-8630-45AA-8CC1-CD9F8FD3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3E9E-B0FC-4469-9AE7-490AFA36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0DD5-21DB-4652-9546-D8663004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D1E8-8DBC-4C74-A90D-38D5717B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9E1A-1101-4809-9068-DC6D3578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3F73A-BED1-4C5C-BC7C-83DE4D25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8267F-6EB5-4790-BB4A-1C1319D7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26D4D-385E-4F73-91D1-90EDF923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D36AB-AD3E-43D0-BBCC-FBBAF77F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E6230-86B4-4B51-8892-38830B2C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069-7353-47C0-A786-C787CD09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457AB-87B3-45D0-B992-525B46FC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8F5C0-BA08-48DA-8666-27956600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59B55-098E-4DFC-8319-68627314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05C83-C3BE-4DDE-8957-EC6157DB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A33AB-AD45-41DE-878B-A6BE721A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0FD1C-8322-4990-BA91-1E730276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459C0-A55D-48C8-94BC-CF478365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EDBF5-01ED-44D6-83B1-498AC6D0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22A2F-12D0-47B2-913F-83D7D8FE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DC9BF-793A-4B69-9880-007CC9A9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CCD5-6EB8-4358-A9B1-86DF4836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4E07F-6822-4C18-87FF-854CE327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A40F7-BEF7-4C10-A30E-68747453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A3557-64B6-4889-A357-87594B44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87520-6E50-48DC-AB04-CF4B8114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8D464-3067-4BEE-8DA2-69030939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AC9DC-9A8E-4B72-90C6-4F624FA6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8668F-1207-41F5-B809-1662D124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B1A86-3C83-4373-B59B-A81E66DB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90661-1ABE-4E62-BB2C-44793988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E73-3520-4CEF-BFD8-08CBF596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8E9-DE68-420C-AD73-B02F168E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49B-3297-4A3C-9481-F5D87663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FE1-CD90-4023-9877-324C20FB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7332-CA35-4EF4-958D-936D8480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DD71-DC38-479A-A993-0A224BC2A1B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8B2B-9FD9-48E7-B2A2-63EF7355D42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578C-E848-4278-A1C3-D97C9C9251A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0567-A9BB-4450-A0DA-91DC599F9DE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hyperlink" Target="http://nativenotes.net/wp-content/uploads/2009/04/king-solomon-baby.jp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yandex.ru/clck/jsredir?from=yandex.ru%3Bimages%2Fsearch%3Bimages%3B%3B&amp;text=&amp;etext=8863.OqHSbMBPvu1l9IC1SRSi_VTW_AbLMAbINdbnCMsGxZHnlotfpT0UUg5t7MKXKK-wjBN7vatunwIOQDXAXl9QEvdl24D4K4JFSNB-5UX95QY.f80094cdca2602f149e72c8e8a3dbc86042e32e2&amp;uuid=&amp;state=tid_Wvm4RM28ca_MiO4Ne9osTPtpHS9wicjEF5X7fRziVPIHCd9FyQ,,&amp;data=UlNrNmk5WktYejY4cHFySjRXSWhXSGZYeTc1QmlaOVBBT0pkRlhkU0VqNTdhbWVlOU5UNWlScENmcjdDbzF3SlI1TnJIc3FXT2VQbGZuSHRidjFKanF6X0xsdVYtOGZYLUZOTXZxenBVNnYtZUlOZDVORk1ZNWdRM1RhREU4d3I,&amp;sign=f5cc9be67044b8d8930c68b4c76fb3b5&amp;keyno=0&amp;b64e=2&amp;l10n=ru" TargetMode="External"/><Relationship Id="rId2" Type="http://schemas.openxmlformats.org/officeDocument/2006/relationships/hyperlink" Target="http://yandex.ru/clck/jsredir?from=yandex.ru%3Bimages%2Fsearch%3Bimages%3B%3B&amp;text=&amp;etext=8863._HiIxx3QGaHrkNwKI3G09l5Bhwa2Sxw37IWd-_xoGyUswoh_AGP5ovEYBxFsnRLgc9vNAa51nFMbqElR2dpwcA.dde3f159a14475364e7af76c07eed9c2becb3678&amp;uuid=&amp;state=tid_Wvm4RM28ca_MiO4Ne9osTPtpHS9wicjEF5X7fRziVPIHCd9FyQ,,&amp;data=UlNrNmk5WktYejY4cHFySjRXSWhXTHo5MjNXdHFqWGh2cHQzNl9BQ0tyTDR3T0JWZzhYRm1YbEY5UUJpdkxCZGxoeFpxSW9lejFtSHlyU2ZCTFhNUlV3MXFUdTlMQW0xOEk4d2JtSDJHdXRkSUg5alVzLVZOYWJMRFE1R3lsUDh5SWgtYnpvaU1jUkdsbFJhVmw1eV9zNW9HOWdWdWppeklQZUU3bmZLbjVnNmV2VnVmbVdfcXBVN19CU3NEcVF1&amp;sign=aef365361c2584e32151525356785b1b&amp;keyno=0&amp;b64e=2&amp;l10n=ru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1915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rebuchet MS"/>
              </a:rPr>
              <a:t>Религия и мораль.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Trebuchet MS"/>
              </a:rPr>
              <a:t>Золотое правило                 нравственности.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рок № 2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9"/>
          <p:cNvSpPr/>
          <p:nvPr/>
        </p:nvSpPr>
        <p:spPr>
          <a:xfrm>
            <a:off x="285840" y="142920"/>
            <a:ext cx="8572320" cy="650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" descr="linie-fan1"/>
          <p:cNvPicPr/>
          <p:nvPr/>
        </p:nvPicPr>
        <p:blipFill>
          <a:blip r:embed="rId1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linie-fan15"/>
          <p:cNvPicPr/>
          <p:nvPr/>
        </p:nvPicPr>
        <p:blipFill>
          <a:blip r:embed="rId2"/>
          <a:stretch/>
        </p:blipFill>
        <p:spPr>
          <a:xfrm>
            <a:off x="1763640" y="638172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linie-fan1"/>
          <p:cNvPicPr/>
          <p:nvPr/>
        </p:nvPicPr>
        <p:blipFill>
          <a:blip r:embed="rId3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linie-fan1"/>
          <p:cNvPicPr/>
          <p:nvPr/>
        </p:nvPicPr>
        <p:blipFill>
          <a:blip r:embed="rId5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linie-fan15"/>
          <p:cNvPicPr/>
          <p:nvPr/>
        </p:nvPicPr>
        <p:blipFill>
          <a:blip r:embed="rId6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9"/>
          <p:cNvSpPr/>
          <p:nvPr/>
        </p:nvSpPr>
        <p:spPr>
          <a:xfrm>
            <a:off x="714240" y="534240"/>
            <a:ext cx="535788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Прит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Мудрый царь Соломон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ажды пришли к Соломону две спорящие женщины и принесли маленького ребенка. Каждая из них утверждала, что этот ребенок ее. Чтобы узнать, кто из них лжет, а кто прав, Соломон предложил рассечь ребенка надвое и дать каждой женщине по половине. Конечно, он и не думал убивать ребенка, но сказал это для их испытания. Тогда одна из женщин сказала: “Рубите ребенка; пусть же не будет ни мне, ни тебе!” Другая же закричала: “Лучше отдайте младенца другой, но только не убивайте его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33"/>
                </a:solidFill>
                <a:latin typeface="Times New Roman"/>
              </a:rPr>
              <a:t>– </a:t>
            </a:r>
            <a:r>
              <a:rPr b="1" lang="ru-RU" sz="2200" spc="-1" strike="noStrike">
                <a:solidFill>
                  <a:srgbClr val="990033"/>
                </a:solidFill>
                <a:latin typeface="Times New Roman"/>
              </a:rPr>
              <a:t>Которая же из них была матерью ? Почему</a:t>
            </a:r>
            <a:r>
              <a:rPr b="1" lang="en-US" sz="2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990033"/>
                </a:solidFill>
                <a:latin typeface="Times New Roman"/>
              </a:rPr>
              <a:t>вы так считаете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3" descr="Картинка 1 из 1412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929200" y="1785960"/>
            <a:ext cx="300060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9"/>
          <p:cNvSpPr/>
          <p:nvPr/>
        </p:nvSpPr>
        <p:spPr>
          <a:xfrm>
            <a:off x="285840" y="142920"/>
            <a:ext cx="8572320" cy="650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2" descr="linie-fan1"/>
          <p:cNvPicPr/>
          <p:nvPr/>
        </p:nvPicPr>
        <p:blipFill>
          <a:blip r:embed="rId1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linie-fan15"/>
          <p:cNvPicPr/>
          <p:nvPr/>
        </p:nvPicPr>
        <p:blipFill>
          <a:blip r:embed="rId2"/>
          <a:stretch/>
        </p:blipFill>
        <p:spPr>
          <a:xfrm>
            <a:off x="1763640" y="638172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linie-fan1"/>
          <p:cNvPicPr/>
          <p:nvPr/>
        </p:nvPicPr>
        <p:blipFill>
          <a:blip r:embed="rId3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linie-fan1"/>
          <p:cNvPicPr/>
          <p:nvPr/>
        </p:nvPicPr>
        <p:blipFill>
          <a:blip r:embed="rId5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linie-fan15"/>
          <p:cNvPicPr/>
          <p:nvPr/>
        </p:nvPicPr>
        <p:blipFill>
          <a:blip r:embed="rId6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s50.radikal.ru/i130/1104/44/c749041d5783.jpg"/>
          <p:cNvPicPr/>
          <p:nvPr/>
        </p:nvPicPr>
        <p:blipFill>
          <a:blip r:embed="rId7"/>
          <a:stretch/>
        </p:blipFill>
        <p:spPr>
          <a:xfrm>
            <a:off x="1311120" y="1066680"/>
            <a:ext cx="6418440" cy="50101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0"/>
          <p:cNvSpPr/>
          <p:nvPr/>
        </p:nvSpPr>
        <p:spPr>
          <a:xfrm>
            <a:off x="3421080" y="57168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Суд царя Солом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1"/>
          <p:cNvSpPr/>
          <p:nvPr/>
        </p:nvSpPr>
        <p:spPr>
          <a:xfrm>
            <a:off x="285840" y="142920"/>
            <a:ext cx="8572320" cy="650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2" descr="linie-fan1"/>
          <p:cNvPicPr/>
          <p:nvPr/>
        </p:nvPicPr>
        <p:blipFill>
          <a:blip r:embed="rId1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linie-fan15"/>
          <p:cNvPicPr/>
          <p:nvPr/>
        </p:nvPicPr>
        <p:blipFill>
          <a:blip r:embed="rId2"/>
          <a:stretch/>
        </p:blipFill>
        <p:spPr>
          <a:xfrm>
            <a:off x="1763640" y="638172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linie-fan1"/>
          <p:cNvPicPr/>
          <p:nvPr/>
        </p:nvPicPr>
        <p:blipFill>
          <a:blip r:embed="rId3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linie-fan1"/>
          <p:cNvPicPr/>
          <p:nvPr/>
        </p:nvPicPr>
        <p:blipFill>
          <a:blip r:embed="rId5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linie-fan15"/>
          <p:cNvPicPr/>
          <p:nvPr/>
        </p:nvPicPr>
        <p:blipFill>
          <a:blip r:embed="rId6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8"/>
          <p:cNvSpPr/>
          <p:nvPr/>
        </p:nvSpPr>
        <p:spPr>
          <a:xfrm>
            <a:off x="714240" y="4079880"/>
            <a:ext cx="74581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38086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П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ОПРОБУЙ – И ТЫ УВИДИШЬ, КАКИМИ ТЁПЛЫМИ, РАДОСТНЫМИ, СПОКОЙНЫМИ СТАНУТ ТВОИ ОТНОШЕНИЯ С ОКРУЖАЮЩИМИ ЛЮДЬМИ, КАКОЕ УДИВИТЕЛЬНОЕ ЧУВСТВО СОГРЕВАЕТ СЕРДЦЕ, СТАРАЙСЯ РАДИ СЕБЯ САМОГО НЕ ПРИЧИНЯТЬ ВРЕДА ДРУГОМУ ЧЕЛОВЕКУ.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WordArt 18"/>
          <p:cNvSpPr txBox="1"/>
          <p:nvPr/>
        </p:nvSpPr>
        <p:spPr>
          <a:xfrm>
            <a:off x="2928960" y="64296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43808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МНИ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0080"/>
                  </a:gs>
                  <a:gs pos="100000">
                    <a:srgbClr val="438086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3" name="Rectangle 19"/>
          <p:cNvSpPr/>
          <p:nvPr/>
        </p:nvSpPr>
        <p:spPr>
          <a:xfrm>
            <a:off x="324000" y="134136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Попробуй не наступить, а уступи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Не захватить, а отда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Не кулак показать, а протянуть ладон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Не спрятать, а поделить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Не кричать, а выслуша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Не разорвать, а склеит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13"/>
          <p:cNvSpPr/>
          <p:nvPr/>
        </p:nvSpPr>
        <p:spPr>
          <a:xfrm>
            <a:off x="4286160" y="1500120"/>
            <a:ext cx="1857600" cy="357120"/>
          </a:xfrm>
          <a:prstGeom prst="rect">
            <a:avLst/>
          </a:prstGeom>
          <a:gradFill rotWithShape="0">
            <a:gsLst>
              <a:gs pos="0">
                <a:srgbClr val="a3a4c3"/>
              </a:gs>
              <a:gs pos="100000">
                <a:srgbClr val="e4e4ec"/>
              </a:gs>
            </a:gsLst>
            <a:lin ang="5400000"/>
          </a:gra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оугольник 14"/>
          <p:cNvSpPr/>
          <p:nvPr/>
        </p:nvSpPr>
        <p:spPr>
          <a:xfrm>
            <a:off x="2857680" y="1785960"/>
            <a:ext cx="1500120" cy="357120"/>
          </a:xfrm>
          <a:prstGeom prst="rect">
            <a:avLst/>
          </a:prstGeom>
          <a:gradFill rotWithShape="0">
            <a:gsLst>
              <a:gs pos="0">
                <a:srgbClr val="a3a4c3"/>
              </a:gs>
              <a:gs pos="100000">
                <a:srgbClr val="e4e4ec"/>
              </a:gs>
            </a:gsLst>
            <a:lin ang="5400000"/>
          </a:gra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оугольник 15"/>
          <p:cNvSpPr/>
          <p:nvPr/>
        </p:nvSpPr>
        <p:spPr>
          <a:xfrm>
            <a:off x="5143680" y="2143080"/>
            <a:ext cx="1428480" cy="357120"/>
          </a:xfrm>
          <a:prstGeom prst="rect">
            <a:avLst/>
          </a:prstGeom>
          <a:gradFill rotWithShape="0">
            <a:gsLst>
              <a:gs pos="0">
                <a:srgbClr val="a3a4c3"/>
              </a:gs>
              <a:gs pos="100000">
                <a:srgbClr val="e4e4ec"/>
              </a:gs>
            </a:gsLst>
            <a:lin ang="5400000"/>
          </a:gra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оугольник 16"/>
          <p:cNvSpPr/>
          <p:nvPr/>
        </p:nvSpPr>
        <p:spPr>
          <a:xfrm>
            <a:off x="2786040" y="2500200"/>
            <a:ext cx="1857240" cy="357480"/>
          </a:xfrm>
          <a:prstGeom prst="rect">
            <a:avLst/>
          </a:prstGeom>
          <a:gradFill rotWithShape="0">
            <a:gsLst>
              <a:gs pos="0">
                <a:srgbClr val="a3a4c3"/>
              </a:gs>
              <a:gs pos="100000">
                <a:srgbClr val="e4e4ec"/>
              </a:gs>
            </a:gsLst>
            <a:lin ang="5400000"/>
          </a:gra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оугольник 17"/>
          <p:cNvSpPr/>
          <p:nvPr/>
        </p:nvSpPr>
        <p:spPr>
          <a:xfrm>
            <a:off x="2643120" y="2928960"/>
            <a:ext cx="1857600" cy="285840"/>
          </a:xfrm>
          <a:prstGeom prst="rect">
            <a:avLst/>
          </a:prstGeom>
          <a:gradFill rotWithShape="0">
            <a:gsLst>
              <a:gs pos="0">
                <a:srgbClr val="a3a4c3"/>
              </a:gs>
              <a:gs pos="100000">
                <a:srgbClr val="e4e4ec"/>
              </a:gs>
            </a:gsLst>
            <a:lin ang="5400000"/>
          </a:gra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оугольник 18"/>
          <p:cNvSpPr/>
          <p:nvPr/>
        </p:nvSpPr>
        <p:spPr>
          <a:xfrm>
            <a:off x="2786040" y="3286080"/>
            <a:ext cx="1857240" cy="285840"/>
          </a:xfrm>
          <a:prstGeom prst="rect">
            <a:avLst/>
          </a:prstGeom>
          <a:gradFill rotWithShape="0">
            <a:gsLst>
              <a:gs pos="0">
                <a:srgbClr val="a3a4c3"/>
              </a:gs>
              <a:gs pos="100000">
                <a:srgbClr val="e4e4ec"/>
              </a:gs>
            </a:gsLst>
            <a:lin ang="5400000"/>
          </a:gra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Объясните своими словами, что такое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28760" y="30718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Georgia"/>
              </a:rPr>
              <a:t>«Золотое правило»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468360" y="1052640"/>
            <a:ext cx="80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тернет-ресурс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7afbd"/>
                </a:solidFill>
                <a:uFillTx/>
                <a:latin typeface="Times New Roman"/>
                <a:hlinkClick r:id="rId1"/>
              </a:rPr>
              <a:t>regnum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суд царя Солом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7afbd"/>
                </a:solidFill>
                <a:uFillTx/>
                <a:latin typeface="Times New Roman"/>
                <a:hlinkClick r:id="rId2"/>
              </a:rPr>
              <a:t>infourok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притч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urok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высказывания мудрец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s://infourok.ru/prezentaciya-na-temu-zolotoe-pravilo-nravstvennosti-2482051.htm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золотое правило нравствен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0:32:52Z</dcterms:created>
  <dc:creator>Len</dc:creator>
  <dc:description/>
  <dc:language>en-US</dc:language>
  <cp:lastModifiedBy>User</cp:lastModifiedBy>
  <dcterms:modified xsi:type="dcterms:W3CDTF">2020-04-01T03:22:51Z</dcterms:modified>
  <cp:revision>24</cp:revision>
  <dc:subject/>
  <dc:title>Золотое правило нравствен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