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858-7CB4-49DC-820B-38CA92E6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FC5-080A-4A67-AC4A-F947BB11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7FB-006E-4F6E-AB6F-8AA0DC91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51D-0172-4C0A-A2C6-FD46BF08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994-9887-40AD-A0A0-7E525175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4DD-0624-4F56-A4BD-65AF371D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EDC-8F06-43E6-952A-AFFE7D48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E39-EBEE-40A8-A367-9786BEB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E06-4934-4BAF-8CD0-0FE97B6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56B-D7D9-4415-8E9A-45C7084C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051-375C-449E-BC5C-B482C909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7F6-08FB-44A5-BE14-5541C72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4F8-9121-4BCA-B72E-2FCFD390B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5877000"/>
            <a:ext cx="7048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АВН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05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Рекомендации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764640"/>
            <a:ext cx="80229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У вас есть прекрасная возможность разыграть каждый стишок, ведь ребёнок учится иг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начала пусть  ребёнок показывает одинаковое количество палочек или пальчиков, соответствующих вер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алее предложите ребёнку готовые цифры и попросите показать 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е жалейте времени, чтобы научить ребёнка определять состав числа – это очень важно для развития логического мышления и последу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91f8"/>
                </a:solidFill>
                <a:latin typeface="Comic Sans MS"/>
              </a:rPr>
              <a:t>Вы скачали эту презентацию на сайте – </a:t>
            </a:r>
            <a:r>
              <a:rPr b="1" lang="en-US" sz="2400" spc="-1" strike="noStrike">
                <a:solidFill>
                  <a:srgbClr val="5291f8"/>
                </a:solidFill>
                <a:latin typeface="Comic Sans MS"/>
              </a:rPr>
              <a:t>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samsyng</cp:lastModifiedBy>
  <dcterms:modified xsi:type="dcterms:W3CDTF">2020-04-01T08:15:39Z</dcterms:modified>
  <cp:revision>6</cp:revision>
  <dc:subject/>
  <dc:title>Автор стихов и рисунков Валентина Черняева</dc:title>
</cp:coreProperties>
</file>