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3C85-0057-4355-98E2-B90D9E9F2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E56B-7B04-4EF6-8B81-A782BA6FF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1475-9FF5-482F-8A98-5F82A9D84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2CAF-B723-4DB4-BE5C-DD2B34182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F46A-505D-4A18-9F76-C95B2E331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D22B-4879-418A-81BE-A5F0AB6D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C19E7-AF8F-47C7-BC23-5E9002AA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8529-A099-4CE1-AEDC-C9C677AE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791C-40DA-4A06-98D6-86A057B3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F0BBB-468C-498B-9F28-07BA8A10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ED45-5819-432C-88F5-1A8D4148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FC52-712C-4F75-8639-2B5A0462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97A57-DF44-436D-9475-F515B9EA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6B49-BFDF-491E-BA5A-92BADEA3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BB540-3FDB-45A1-BE9C-5DA306EA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8ECD-CA15-4CAB-B995-C6307C505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946F9-6EB0-4632-9EF5-705E0295A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4159-7057-49F8-A881-A0C79837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36E6-A084-471E-96DA-E8199E54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D512-D362-4023-A5F8-84341980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359F-9852-48F2-B4F0-6874C998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CA8E-59DA-464D-BC1A-E6A9BAA9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6447-3D9B-4867-9FF2-5F4B384A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49B1-1AE5-4ADF-B61A-CAA10C01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F235-AFC1-4F6A-8935-E5BDD7C82F6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240C-B97F-4CD7-9420-9EDDDD597C1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Здравствуй, задача на движе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ужок «Созвезд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нятие №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2987640" y="765000"/>
            <a:ext cx="3097080" cy="26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азмин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величины необходимо знать, чтобы найти время движения? Как найти время движ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 Мотоциклист ехал 4 часа со скоростью 80км/ч. Какое расстояние он проеха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"/>
          <p:cNvSpPr/>
          <p:nvPr/>
        </p:nvSpPr>
        <p:spPr>
          <a:xfrm>
            <a:off x="1476360" y="5516640"/>
            <a:ext cx="68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5"/>
          <p:cNvSpPr/>
          <p:nvPr/>
        </p:nvSpPr>
        <p:spPr>
          <a:xfrm>
            <a:off x="1403280" y="5157720"/>
            <a:ext cx="287280" cy="2872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6"/>
          <p:cNvSpPr/>
          <p:nvPr/>
        </p:nvSpPr>
        <p:spPr>
          <a:xfrm>
            <a:off x="1763640" y="5300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1879560" y="4869000"/>
            <a:ext cx="11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0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4716360" y="4941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ча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4299120" y="5794200"/>
            <a:ext cx="22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тояние 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азмин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Два лыжника вышли одновременно навстречу друг другу из двух пунктов, расстояние между которыми 66км. Скорость первого 12км/ч, второго – 10км/ч. Через какое время они встретят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4"/>
          <p:cNvSpPr/>
          <p:nvPr/>
        </p:nvSpPr>
        <p:spPr>
          <a:xfrm>
            <a:off x="1476360" y="4869000"/>
            <a:ext cx="65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5"/>
          <p:cNvSpPr/>
          <p:nvPr/>
        </p:nvSpPr>
        <p:spPr>
          <a:xfrm>
            <a:off x="1476360" y="4581360"/>
            <a:ext cx="360360" cy="2876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6"/>
          <p:cNvSpPr/>
          <p:nvPr/>
        </p:nvSpPr>
        <p:spPr>
          <a:xfrm>
            <a:off x="7667640" y="4581360"/>
            <a:ext cx="360360" cy="2890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7"/>
          <p:cNvSpPr/>
          <p:nvPr/>
        </p:nvSpPr>
        <p:spPr>
          <a:xfrm>
            <a:off x="1835280" y="4724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8"/>
          <p:cNvSpPr/>
          <p:nvPr/>
        </p:nvSpPr>
        <p:spPr>
          <a:xfrm flipH="1">
            <a:off x="6372000" y="47242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1763640" y="4437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6732720" y="436572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3492360" y="5013360"/>
            <a:ext cx="14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ремя 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4067280" y="436572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6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азмин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Моторная лодка двигалась со скоростью 30км/ч и прошла путь 90км. Сколько времени была лодка в пу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Лыжник шел со скоростью 20км/ч и был в пути 2 часа. Сколько времени потребуется пешеходу, чтобы пройти такое же расстояние, если его скорость 8км/ч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4"/>
          <p:cNvSpPr/>
          <p:nvPr/>
        </p:nvSpPr>
        <p:spPr>
          <a:xfrm>
            <a:off x="1332000" y="3500280"/>
            <a:ext cx="66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5"/>
          <p:cNvSpPr/>
          <p:nvPr/>
        </p:nvSpPr>
        <p:spPr>
          <a:xfrm>
            <a:off x="1332000" y="3141720"/>
            <a:ext cx="288720" cy="2872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6"/>
          <p:cNvSpPr/>
          <p:nvPr/>
        </p:nvSpPr>
        <p:spPr>
          <a:xfrm>
            <a:off x="1692360" y="3357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7"/>
          <p:cNvSpPr/>
          <p:nvPr/>
        </p:nvSpPr>
        <p:spPr>
          <a:xfrm>
            <a:off x="1116000" y="6308640"/>
            <a:ext cx="712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8"/>
          <p:cNvSpPr/>
          <p:nvPr/>
        </p:nvSpPr>
        <p:spPr>
          <a:xfrm>
            <a:off x="1258920" y="5950080"/>
            <a:ext cx="288720" cy="2872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9"/>
          <p:cNvSpPr/>
          <p:nvPr/>
        </p:nvSpPr>
        <p:spPr>
          <a:xfrm>
            <a:off x="1258920" y="6308640"/>
            <a:ext cx="287280" cy="2872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0"/>
          <p:cNvSpPr/>
          <p:nvPr/>
        </p:nvSpPr>
        <p:spPr>
          <a:xfrm>
            <a:off x="1692360" y="6165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1"/>
          <p:cNvSpPr/>
          <p:nvPr/>
        </p:nvSpPr>
        <p:spPr>
          <a:xfrm>
            <a:off x="1692360" y="6524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1835280" y="2997360"/>
            <a:ext cx="9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0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4514760" y="3201840"/>
            <a:ext cx="99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0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4"/>
          <p:cNvSpPr/>
          <p:nvPr/>
        </p:nvSpPr>
        <p:spPr>
          <a:xfrm>
            <a:off x="3851280" y="3500280"/>
            <a:ext cx="15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ремя 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5"/>
          <p:cNvSpPr/>
          <p:nvPr/>
        </p:nvSpPr>
        <p:spPr>
          <a:xfrm>
            <a:off x="1547640" y="5877000"/>
            <a:ext cx="12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6"/>
          <p:cNvSpPr/>
          <p:nvPr/>
        </p:nvSpPr>
        <p:spPr>
          <a:xfrm>
            <a:off x="4427640" y="5805360"/>
            <a:ext cx="12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ча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7"/>
          <p:cNvSpPr/>
          <p:nvPr/>
        </p:nvSpPr>
        <p:spPr>
          <a:xfrm>
            <a:off x="1547640" y="6237360"/>
            <a:ext cx="9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азмин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Из поселка одновременно в противоположных направлениях вышел пешеход и выехал велосипедист. Когда велосипедист проехал 22км со скоростью11км/ч, расстояние между ними стало 30км. С какой скоростью шел пешехо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4"/>
          <p:cNvSpPr/>
          <p:nvPr/>
        </p:nvSpPr>
        <p:spPr>
          <a:xfrm>
            <a:off x="1476360" y="5373720"/>
            <a:ext cx="6840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5"/>
          <p:cNvSpPr/>
          <p:nvPr/>
        </p:nvSpPr>
        <p:spPr>
          <a:xfrm>
            <a:off x="3851280" y="5013360"/>
            <a:ext cx="360360" cy="3603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6"/>
          <p:cNvSpPr/>
          <p:nvPr/>
        </p:nvSpPr>
        <p:spPr>
          <a:xfrm>
            <a:off x="4284720" y="5013360"/>
            <a:ext cx="360360" cy="3603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7"/>
          <p:cNvSpPr/>
          <p:nvPr/>
        </p:nvSpPr>
        <p:spPr>
          <a:xfrm flipH="1">
            <a:off x="2843280" y="5229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8"/>
          <p:cNvSpPr/>
          <p:nvPr/>
        </p:nvSpPr>
        <p:spPr>
          <a:xfrm>
            <a:off x="4716360" y="5229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2771640" y="4797360"/>
            <a:ext cx="12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1692360" y="4869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2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2987640" y="5516640"/>
            <a:ext cx="32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тояние стало 30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Блиц турнир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На соревнованиях  лыжник №4 видел впереди идущего лыжника №7. Ему до лыжника №7 идти 3 мин, а лыжнику №7 идти до финиша 12 минут. Сможет ли лыжник №4 стартовать первым, если он идет со скоростью в 2 раза быстрее, чем лыжник №7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1403280" y="5373720"/>
            <a:ext cx="66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5"/>
          <p:cNvSpPr/>
          <p:nvPr/>
        </p:nvSpPr>
        <p:spPr>
          <a:xfrm>
            <a:off x="1547640" y="5013360"/>
            <a:ext cx="216000" cy="2872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6"/>
          <p:cNvSpPr/>
          <p:nvPr/>
        </p:nvSpPr>
        <p:spPr>
          <a:xfrm>
            <a:off x="4788000" y="5084640"/>
            <a:ext cx="287280" cy="2160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7740720" y="4869000"/>
            <a:ext cx="574560" cy="503280"/>
          </a:xfrm>
          <a:prstGeom prst="smileyFace">
            <a:avLst>
              <a:gd name="adj" fmla="val 9282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1908000" y="522936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>
            <a:off x="5148360" y="515772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1995480" y="46530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5364000" y="458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3059280" y="49417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6300720" y="4869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4"/>
          <p:cNvSpPr/>
          <p:nvPr/>
        </p:nvSpPr>
        <p:spPr>
          <a:xfrm>
            <a:off x="7524720" y="5661000"/>
            <a:ext cx="11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ни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Блиц турнир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Муравьишка проехал на Гусенице некоторое расстояние за 32 мин. За сколько минут он проедет на Водомерке расстояние в 5 раз большее, если скорость Водомерки в 8 раз больше скорости Гусениц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1116000" y="4941720"/>
            <a:ext cx="712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5"/>
          <p:cNvSpPr/>
          <p:nvPr/>
        </p:nvSpPr>
        <p:spPr>
          <a:xfrm>
            <a:off x="1116000" y="4581360"/>
            <a:ext cx="289080" cy="2876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6"/>
          <p:cNvSpPr/>
          <p:nvPr/>
        </p:nvSpPr>
        <p:spPr>
          <a:xfrm>
            <a:off x="4932360" y="4581360"/>
            <a:ext cx="360360" cy="3603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7"/>
          <p:cNvSpPr/>
          <p:nvPr/>
        </p:nvSpPr>
        <p:spPr>
          <a:xfrm>
            <a:off x="1403280" y="472428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8"/>
          <p:cNvSpPr/>
          <p:nvPr/>
        </p:nvSpPr>
        <p:spPr>
          <a:xfrm>
            <a:off x="5364000" y="4724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2484360" y="4365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2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5219640" y="422100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8 раз бо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5219640" y="515772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тояние в 5 раз бо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Блиц турнир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7772400" cy="56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Вини Пух и Пятачок идут по одной и той же дороге и в одном и том же направлении. Вини Пух находится на расстоянии 6км впереди Пятачка и идет со скоростью 3км/ч. Пятачок идет со скоростью 5км/ч. В тот момент, когда мы стали наблюдать за ними, полетела пчела от вини Пуха к Пятачку. Долетев до Пятачка она повернула и полетела к Вини Пуху. Так она летала от одного к другому до тех пор, пока они не встретились. Какой путь пролетела пчела, если ее скорость было 10км/ч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"/>
          <p:cNvSpPr/>
          <p:nvPr/>
        </p:nvSpPr>
        <p:spPr>
          <a:xfrm>
            <a:off x="1403280" y="6237360"/>
            <a:ext cx="705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5"/>
          <p:cNvSpPr/>
          <p:nvPr/>
        </p:nvSpPr>
        <p:spPr>
          <a:xfrm>
            <a:off x="2843280" y="5950080"/>
            <a:ext cx="216000" cy="2887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6"/>
          <p:cNvSpPr/>
          <p:nvPr/>
        </p:nvSpPr>
        <p:spPr>
          <a:xfrm>
            <a:off x="5292720" y="5877000"/>
            <a:ext cx="289080" cy="2887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5651640" y="609300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8"/>
          <p:cNvSpPr/>
          <p:nvPr/>
        </p:nvSpPr>
        <p:spPr>
          <a:xfrm>
            <a:off x="3203640" y="6093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5651640" y="57340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3059280" y="5734080"/>
            <a:ext cx="10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3903840" y="6226200"/>
            <a:ext cx="9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Блиц турнир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00000" y="184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Мурвьишка был в соседнем муравейнике. Туда он шел пешком, а обратно он ехал. Первую половину пути он ехал на Жуке – ехал в 2 раза медленнее, чем пешком, а вторую половину пути ехал на Кузнечике – в 7 раз быстрее, чем шел пешком. На какой путь Муравьишка затратил времени меньше: в гости или обратн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4"/>
          <p:cNvSpPr/>
          <p:nvPr/>
        </p:nvSpPr>
        <p:spPr>
          <a:xfrm>
            <a:off x="1187280" y="5950080"/>
            <a:ext cx="691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5"/>
          <p:cNvSpPr/>
          <p:nvPr/>
        </p:nvSpPr>
        <p:spPr>
          <a:xfrm>
            <a:off x="1187280" y="5445000"/>
            <a:ext cx="360360" cy="503280"/>
          </a:xfrm>
          <a:prstGeom prst="triangle">
            <a:avLst>
              <a:gd name="adj" fmla="val 50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6"/>
          <p:cNvSpPr/>
          <p:nvPr/>
        </p:nvSpPr>
        <p:spPr>
          <a:xfrm>
            <a:off x="7812000" y="5445000"/>
            <a:ext cx="360360" cy="503280"/>
          </a:xfrm>
          <a:prstGeom prst="triangle">
            <a:avLst>
              <a:gd name="adj" fmla="val 50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8"/>
          <p:cNvSpPr/>
          <p:nvPr/>
        </p:nvSpPr>
        <p:spPr>
          <a:xfrm>
            <a:off x="1619280" y="5734080"/>
            <a:ext cx="360360" cy="2887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9"/>
          <p:cNvSpPr/>
          <p:nvPr/>
        </p:nvSpPr>
        <p:spPr>
          <a:xfrm>
            <a:off x="1979640" y="6237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7380360" y="5661000"/>
            <a:ext cx="360360" cy="2872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1"/>
          <p:cNvSpPr/>
          <p:nvPr/>
        </p:nvSpPr>
        <p:spPr>
          <a:xfrm flipH="1">
            <a:off x="6300360" y="580536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2"/>
          <p:cNvSpPr/>
          <p:nvPr/>
        </p:nvSpPr>
        <p:spPr>
          <a:xfrm>
            <a:off x="4427640" y="5805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3"/>
          <p:cNvSpPr/>
          <p:nvPr/>
        </p:nvSpPr>
        <p:spPr>
          <a:xfrm>
            <a:off x="826920" y="602136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ш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6732720" y="5229360"/>
            <a:ext cx="11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х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5"/>
          <p:cNvSpPr/>
          <p:nvPr/>
        </p:nvSpPr>
        <p:spPr>
          <a:xfrm>
            <a:off x="4427640" y="5516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2раза медлен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2411280" y="5516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7 раз быстр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Блиц турнир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Два велосипедиста едут по дороге в одном направлении. Первый велосипедист едет со скоростью 20км/ч, а второй – со скоростью 12км/ч. Через сколько часов первый догонит второго, если между ними 48к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4"/>
          <p:cNvSpPr/>
          <p:nvPr/>
        </p:nvSpPr>
        <p:spPr>
          <a:xfrm>
            <a:off x="1403280" y="5084640"/>
            <a:ext cx="67690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5"/>
          <p:cNvSpPr/>
          <p:nvPr/>
        </p:nvSpPr>
        <p:spPr>
          <a:xfrm>
            <a:off x="1403280" y="4724280"/>
            <a:ext cx="360360" cy="3589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6"/>
          <p:cNvSpPr/>
          <p:nvPr/>
        </p:nvSpPr>
        <p:spPr>
          <a:xfrm>
            <a:off x="5580000" y="4797360"/>
            <a:ext cx="358920" cy="3603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7"/>
          <p:cNvSpPr/>
          <p:nvPr/>
        </p:nvSpPr>
        <p:spPr>
          <a:xfrm>
            <a:off x="1835280" y="494172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8"/>
          <p:cNvSpPr/>
          <p:nvPr/>
        </p:nvSpPr>
        <p:spPr>
          <a:xfrm>
            <a:off x="6084720" y="50133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1763640" y="450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5940360" y="4653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1"/>
          <p:cNvSpPr/>
          <p:nvPr/>
        </p:nvSpPr>
        <p:spPr>
          <a:xfrm>
            <a:off x="3471840" y="46004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8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Блиц турнир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Два автомобиля едут по дороге. Один со скоростью 80км/ч, а другой со скоростью 60км/ч. Какое расстояние может быть между ними через 1 час, если расстояние между ними сейчас 70к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4"/>
          <p:cNvSpPr/>
          <p:nvPr/>
        </p:nvSpPr>
        <p:spPr>
          <a:xfrm>
            <a:off x="1763640" y="4724280"/>
            <a:ext cx="61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5"/>
          <p:cNvSpPr/>
          <p:nvPr/>
        </p:nvSpPr>
        <p:spPr>
          <a:xfrm>
            <a:off x="2771640" y="4365720"/>
            <a:ext cx="360360" cy="2872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6"/>
          <p:cNvSpPr/>
          <p:nvPr/>
        </p:nvSpPr>
        <p:spPr>
          <a:xfrm>
            <a:off x="5219640" y="4437000"/>
            <a:ext cx="289080" cy="2890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7"/>
          <p:cNvSpPr/>
          <p:nvPr/>
        </p:nvSpPr>
        <p:spPr>
          <a:xfrm>
            <a:off x="3203640" y="450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"/>
          <p:cNvSpPr/>
          <p:nvPr/>
        </p:nvSpPr>
        <p:spPr>
          <a:xfrm flipH="1">
            <a:off x="4716360" y="4581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3708360" y="4724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0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2916360" y="407664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0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1"/>
          <p:cNvSpPr/>
          <p:nvPr/>
        </p:nvSpPr>
        <p:spPr>
          <a:xfrm>
            <a:off x="4356000" y="4221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0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азмин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789120" y="1644480"/>
            <a:ext cx="816120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Блиц турнир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"/>
          <p:cNvSpPr/>
          <p:nvPr/>
        </p:nvSpPr>
        <p:spPr>
          <a:xfrm>
            <a:off x="1258920" y="2205000"/>
            <a:ext cx="67690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5"/>
          <p:cNvSpPr/>
          <p:nvPr/>
        </p:nvSpPr>
        <p:spPr>
          <a:xfrm>
            <a:off x="3203640" y="1989000"/>
            <a:ext cx="360360" cy="2160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6"/>
          <p:cNvSpPr/>
          <p:nvPr/>
        </p:nvSpPr>
        <p:spPr>
          <a:xfrm>
            <a:off x="5292720" y="1989000"/>
            <a:ext cx="360360" cy="2160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7"/>
          <p:cNvSpPr/>
          <p:nvPr/>
        </p:nvSpPr>
        <p:spPr>
          <a:xfrm flipH="1">
            <a:off x="2195280" y="20606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5651640" y="2133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2340000" y="1700280"/>
            <a:ext cx="9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0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724360" y="1844640"/>
            <a:ext cx="99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0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3924360" y="1700280"/>
            <a:ext cx="9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0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2"/>
          <p:cNvSpPr/>
          <p:nvPr/>
        </p:nvSpPr>
        <p:spPr>
          <a:xfrm>
            <a:off x="1403280" y="364500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3"/>
          <p:cNvSpPr/>
          <p:nvPr/>
        </p:nvSpPr>
        <p:spPr>
          <a:xfrm flipV="1">
            <a:off x="1547640" y="5157360"/>
            <a:ext cx="662472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4"/>
          <p:cNvSpPr/>
          <p:nvPr/>
        </p:nvSpPr>
        <p:spPr>
          <a:xfrm>
            <a:off x="3132000" y="3357720"/>
            <a:ext cx="360360" cy="2156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5"/>
          <p:cNvSpPr/>
          <p:nvPr/>
        </p:nvSpPr>
        <p:spPr>
          <a:xfrm>
            <a:off x="5364000" y="3429000"/>
            <a:ext cx="287640" cy="2160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6"/>
          <p:cNvSpPr/>
          <p:nvPr/>
        </p:nvSpPr>
        <p:spPr>
          <a:xfrm>
            <a:off x="3203640" y="4941720"/>
            <a:ext cx="360360" cy="2160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7"/>
          <p:cNvSpPr/>
          <p:nvPr/>
        </p:nvSpPr>
        <p:spPr>
          <a:xfrm>
            <a:off x="5435640" y="4941720"/>
            <a:ext cx="360360" cy="2160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8"/>
          <p:cNvSpPr/>
          <p:nvPr/>
        </p:nvSpPr>
        <p:spPr>
          <a:xfrm>
            <a:off x="3635280" y="3500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9"/>
          <p:cNvSpPr/>
          <p:nvPr/>
        </p:nvSpPr>
        <p:spPr>
          <a:xfrm>
            <a:off x="5724360" y="3500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0"/>
          <p:cNvSpPr/>
          <p:nvPr/>
        </p:nvSpPr>
        <p:spPr>
          <a:xfrm flipH="1">
            <a:off x="2340000" y="5084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1"/>
          <p:cNvSpPr/>
          <p:nvPr/>
        </p:nvSpPr>
        <p:spPr>
          <a:xfrm flipH="1">
            <a:off x="4642920" y="5013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2"/>
          <p:cNvSpPr/>
          <p:nvPr/>
        </p:nvSpPr>
        <p:spPr>
          <a:xfrm>
            <a:off x="3419640" y="3213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0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3"/>
          <p:cNvSpPr/>
          <p:nvPr/>
        </p:nvSpPr>
        <p:spPr>
          <a:xfrm>
            <a:off x="5796000" y="3213000"/>
            <a:ext cx="9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0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4"/>
          <p:cNvSpPr/>
          <p:nvPr/>
        </p:nvSpPr>
        <p:spPr>
          <a:xfrm>
            <a:off x="4140360" y="3645000"/>
            <a:ext cx="9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0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5"/>
          <p:cNvSpPr/>
          <p:nvPr/>
        </p:nvSpPr>
        <p:spPr>
          <a:xfrm>
            <a:off x="3780000" y="4292640"/>
            <a:ext cx="8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0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6"/>
          <p:cNvSpPr/>
          <p:nvPr/>
        </p:nvSpPr>
        <p:spPr>
          <a:xfrm>
            <a:off x="2411280" y="479736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0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7"/>
          <p:cNvSpPr/>
          <p:nvPr/>
        </p:nvSpPr>
        <p:spPr>
          <a:xfrm>
            <a:off x="4716360" y="4508640"/>
            <a:ext cx="9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0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8"/>
          <p:cNvSpPr/>
          <p:nvPr/>
        </p:nvSpPr>
        <p:spPr>
          <a:xfrm>
            <a:off x="826920" y="3068640"/>
            <a:ext cx="5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9"/>
          <p:cNvSpPr/>
          <p:nvPr/>
        </p:nvSpPr>
        <p:spPr>
          <a:xfrm>
            <a:off x="987480" y="500220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одумай и реши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Два таракана соревнуются, кто быстрее заползет на верхний край стакана и спустится вниз. Первый таракан ползет все время с одинаковой скоростью, а второй вверх ползет в 2 раза быстрее, а вниз – в 2раза медленнее первого. Какой таракан приползет вниз первы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4"/>
          <p:cNvSpPr/>
          <p:nvPr/>
        </p:nvSpPr>
        <p:spPr>
          <a:xfrm>
            <a:off x="3924360" y="4797360"/>
            <a:ext cx="1295280" cy="1656000"/>
          </a:xfrm>
          <a:custGeom>
            <a:avLst/>
            <a:gdLst>
              <a:gd name="textAreaLeft" fmla="*/ 269640 w 1295280"/>
              <a:gd name="textAreaRight" fmla="*/ 1025640 w 1295280"/>
              <a:gd name="textAreaTop" fmla="*/ 344880 h 1656000"/>
              <a:gd name="textAreaBottom" fmla="*/ 131112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5"/>
          <p:cNvSpPr/>
          <p:nvPr/>
        </p:nvSpPr>
        <p:spPr>
          <a:xfrm>
            <a:off x="3780000" y="6165720"/>
            <a:ext cx="360360" cy="3603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6"/>
          <p:cNvSpPr/>
          <p:nvPr/>
        </p:nvSpPr>
        <p:spPr>
          <a:xfrm>
            <a:off x="5003640" y="6237360"/>
            <a:ext cx="360360" cy="3603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7"/>
          <p:cNvSpPr/>
          <p:nvPr/>
        </p:nvSpPr>
        <p:spPr>
          <a:xfrm flipH="1" flipV="1">
            <a:off x="3850920" y="5444640"/>
            <a:ext cx="144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8"/>
          <p:cNvSpPr/>
          <p:nvPr/>
        </p:nvSpPr>
        <p:spPr>
          <a:xfrm flipV="1">
            <a:off x="5148360" y="5661000"/>
            <a:ext cx="71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одумай и реши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Путь от пункта  А до В автомобиль проходит за 9 часов. За сколько часов пройдет этот путь мотоциклист скорость которого в 3 раза меньше скорости автомобил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4"/>
          <p:cNvSpPr/>
          <p:nvPr/>
        </p:nvSpPr>
        <p:spPr>
          <a:xfrm>
            <a:off x="1476360" y="5013360"/>
            <a:ext cx="66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5"/>
          <p:cNvSpPr/>
          <p:nvPr/>
        </p:nvSpPr>
        <p:spPr>
          <a:xfrm>
            <a:off x="1476360" y="4653000"/>
            <a:ext cx="289080" cy="2887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6"/>
          <p:cNvSpPr/>
          <p:nvPr/>
        </p:nvSpPr>
        <p:spPr>
          <a:xfrm>
            <a:off x="1476360" y="5157720"/>
            <a:ext cx="289080" cy="2872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7"/>
          <p:cNvSpPr/>
          <p:nvPr/>
        </p:nvSpPr>
        <p:spPr>
          <a:xfrm>
            <a:off x="1835280" y="4797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8"/>
          <p:cNvSpPr/>
          <p:nvPr/>
        </p:nvSpPr>
        <p:spPr>
          <a:xfrm>
            <a:off x="1908000" y="5300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9"/>
          <p:cNvSpPr/>
          <p:nvPr/>
        </p:nvSpPr>
        <p:spPr>
          <a:xfrm>
            <a:off x="900000" y="4724280"/>
            <a:ext cx="32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0"/>
          <p:cNvSpPr/>
          <p:nvPr/>
        </p:nvSpPr>
        <p:spPr>
          <a:xfrm>
            <a:off x="8317080" y="4816440"/>
            <a:ext cx="37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1"/>
          <p:cNvSpPr/>
          <p:nvPr/>
        </p:nvSpPr>
        <p:spPr>
          <a:xfrm>
            <a:off x="3780000" y="458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9 ча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2"/>
          <p:cNvSpPr/>
          <p:nvPr/>
        </p:nvSpPr>
        <p:spPr>
          <a:xfrm>
            <a:off x="900000" y="5651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сть в 3 раза мен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одумай и реши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53272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Сережа заметил, что во время липового медоноса пчела вылетает из улья со скоростью 4м/мин и возвращается обратно чере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 минут со скоростью 2м/мин. На каком расстоянии от улья расположена липа, с которой пчела брала мед, если на сбор меда  с липы во время одного полета пчела затрачивает 1 минут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971640" y="5229360"/>
            <a:ext cx="1214280" cy="1214280"/>
          </a:xfrm>
          <a:prstGeom prst="cube">
            <a:avLst>
              <a:gd name="adj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5"/>
          <p:cNvSpPr/>
          <p:nvPr/>
        </p:nvSpPr>
        <p:spPr>
          <a:xfrm>
            <a:off x="2050920" y="5445000"/>
            <a:ext cx="289080" cy="2876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6"/>
          <p:cNvSpPr/>
          <p:nvPr/>
        </p:nvSpPr>
        <p:spPr>
          <a:xfrm>
            <a:off x="2411280" y="573408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7667640" y="5373720"/>
            <a:ext cx="649440" cy="1150920"/>
          </a:xfrm>
          <a:prstGeom prst="triangle">
            <a:avLst>
              <a:gd name="adj" fmla="val 34514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8"/>
          <p:cNvSpPr/>
          <p:nvPr/>
        </p:nvSpPr>
        <p:spPr>
          <a:xfrm flipH="1">
            <a:off x="4211640" y="5805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2498760" y="5362560"/>
            <a:ext cx="9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м/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4067280" y="544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м/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1"/>
          <p:cNvSpPr/>
          <p:nvPr/>
        </p:nvSpPr>
        <p:spPr>
          <a:xfrm>
            <a:off x="3348000" y="601020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вращается через 9 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асибо за работу, дет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4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1800360" cy="21783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" descr=""/>
          <p:cNvPicPr/>
          <p:nvPr/>
        </p:nvPicPr>
        <p:blipFill>
          <a:blip r:embed="rId2"/>
          <a:stretch/>
        </p:blipFill>
        <p:spPr>
          <a:xfrm>
            <a:off x="5435640" y="3933720"/>
            <a:ext cx="1466640" cy="19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азмин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83898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752400" y="1628640"/>
            <a:ext cx="81806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одумай и реш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625320" y="1557360"/>
            <a:ext cx="8518680" cy="2879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755640" y="4149720"/>
            <a:ext cx="81439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азмин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величины необходимо знать, чтобы найти скорость движения? Как найти скорость движ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Лыжник прошел дистанцию 24км за 3 часа. С какой скоростью шел лыжни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971640" y="5516640"/>
            <a:ext cx="770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5"/>
          <p:cNvSpPr/>
          <p:nvPr/>
        </p:nvSpPr>
        <p:spPr>
          <a:xfrm>
            <a:off x="900000" y="5157720"/>
            <a:ext cx="216000" cy="2872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6"/>
          <p:cNvSpPr/>
          <p:nvPr/>
        </p:nvSpPr>
        <p:spPr>
          <a:xfrm>
            <a:off x="1258920" y="530064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050720" y="575316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ремя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 flipH="1" flipV="1">
            <a:off x="4455360" y="5084280"/>
            <a:ext cx="19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4км  за 3 ча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азмин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Два пешехода вышли одновременно из двух деревень навстречу друг другу. Один шел со скоростью 5км/ч, а другой – 4км/ч. Встретились они через 3 часа. Какое расстояние они прош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1619280" y="4653000"/>
            <a:ext cx="63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5"/>
          <p:cNvSpPr/>
          <p:nvPr/>
        </p:nvSpPr>
        <p:spPr>
          <a:xfrm>
            <a:off x="1547640" y="4437000"/>
            <a:ext cx="287640" cy="2872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6"/>
          <p:cNvSpPr/>
          <p:nvPr/>
        </p:nvSpPr>
        <p:spPr>
          <a:xfrm>
            <a:off x="7740720" y="4365720"/>
            <a:ext cx="287280" cy="2872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7"/>
          <p:cNvSpPr/>
          <p:nvPr/>
        </p:nvSpPr>
        <p:spPr>
          <a:xfrm>
            <a:off x="1835280" y="44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8"/>
          <p:cNvSpPr/>
          <p:nvPr/>
        </p:nvSpPr>
        <p:spPr>
          <a:xfrm flipH="1">
            <a:off x="6877080" y="4437000"/>
            <a:ext cx="79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1908000" y="3860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км\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6804000" y="38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3059280" y="494172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етились через 3 ча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3851280" y="4149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тояние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азмин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Крейсер проплыл 80км со скоростью 40кч. Сколько времени он затратил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От города до деревни велосипедист ех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часа со скоростью 15км/ч. Сколько времени понадобится пешеходу, чтобы пройти этот путь со скоростью 5км/ч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1187280" y="2997360"/>
            <a:ext cx="676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1"/>
          <p:cNvSpPr/>
          <p:nvPr/>
        </p:nvSpPr>
        <p:spPr>
          <a:xfrm>
            <a:off x="1116000" y="2708280"/>
            <a:ext cx="360360" cy="3589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2"/>
          <p:cNvSpPr/>
          <p:nvPr/>
        </p:nvSpPr>
        <p:spPr>
          <a:xfrm>
            <a:off x="1547640" y="292428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1476360" y="2565360"/>
            <a:ext cx="10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0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759120" y="2584440"/>
            <a:ext cx="10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0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3132000" y="306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ремя 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>
            <a:off x="1332000" y="5877000"/>
            <a:ext cx="68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>
            <a:off x="1187280" y="5373720"/>
            <a:ext cx="358920" cy="3603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>
            <a:off x="1187280" y="6021360"/>
            <a:ext cx="360360" cy="3589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9"/>
          <p:cNvSpPr/>
          <p:nvPr/>
        </p:nvSpPr>
        <p:spPr>
          <a:xfrm>
            <a:off x="1547640" y="5661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1619280" y="616572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1"/>
          <p:cNvSpPr/>
          <p:nvPr/>
        </p:nvSpPr>
        <p:spPr>
          <a:xfrm>
            <a:off x="4479840" y="546588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ча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2"/>
          <p:cNvSpPr/>
          <p:nvPr/>
        </p:nvSpPr>
        <p:spPr>
          <a:xfrm>
            <a:off x="1619280" y="5373720"/>
            <a:ext cx="11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км\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3"/>
          <p:cNvSpPr/>
          <p:nvPr/>
        </p:nvSpPr>
        <p:spPr>
          <a:xfrm>
            <a:off x="1547640" y="609300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4"/>
          <p:cNvSpPr/>
          <p:nvPr/>
        </p:nvSpPr>
        <p:spPr>
          <a:xfrm>
            <a:off x="4356000" y="6093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ремя 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азмин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Из одного пункта одновременно в противоположных направлениях вышли два лыжника. Через 3 часа расстояние между ними была 60км. Чему равна скорость второго лыжника, если скорость первого лыжника 12км/ч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1332000" y="5229360"/>
            <a:ext cx="67690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6"/>
          <p:cNvSpPr/>
          <p:nvPr/>
        </p:nvSpPr>
        <p:spPr>
          <a:xfrm>
            <a:off x="4140360" y="4941720"/>
            <a:ext cx="287280" cy="2876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7"/>
          <p:cNvSpPr/>
          <p:nvPr/>
        </p:nvSpPr>
        <p:spPr>
          <a:xfrm>
            <a:off x="3780000" y="4941720"/>
            <a:ext cx="288720" cy="2876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8"/>
          <p:cNvSpPr/>
          <p:nvPr/>
        </p:nvSpPr>
        <p:spPr>
          <a:xfrm>
            <a:off x="4500720" y="50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9"/>
          <p:cNvSpPr/>
          <p:nvPr/>
        </p:nvSpPr>
        <p:spPr>
          <a:xfrm flipH="1">
            <a:off x="2916360" y="50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4500720" y="465300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916360" y="4797360"/>
            <a:ext cx="8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2843280" y="5373720"/>
            <a:ext cx="29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ез 3 часа 60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16:41:06Z</dcterms:created>
  <dc:creator>Ольга</dc:creator>
  <dc:description/>
  <dc:language>en-US</dc:language>
  <cp:lastModifiedBy>Надежда</cp:lastModifiedBy>
  <dcterms:modified xsi:type="dcterms:W3CDTF">2020-03-26T09:28:48Z</dcterms:modified>
  <cp:revision>17</cp:revision>
  <dc:subject/>
  <dc:title>Конкурс «Юные умники и умницы»</dc:title>
</cp:coreProperties>
</file>