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CAA-2F58-4792-BCF3-6D4A3608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40C-11F0-497F-ABF0-A6B0D83D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85D-242B-4278-AAA6-81DFD1DC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D94-0154-403C-B993-3560C5F0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5642-7946-4BE6-82BC-94C209D2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5028-8932-4602-B2E3-23AC7770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B081-1714-46CA-A9B5-80C31419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D758-459D-4822-8E6C-6D736A34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D196-14A0-4609-9C6F-1329544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044A-A8A1-4EC1-844A-9EB1200A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0734-DFFD-4397-AE3C-81F72D42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5DA-95E4-4129-B9CA-F04E5D9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D51C-A906-4B25-A096-EC8E404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93E0-4F27-490C-8C2D-A80467E4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FD12-C1C2-4045-9405-FAFDD411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F2C9-E444-4D70-A829-A748A38E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79D1-EC1E-495D-8923-91A304AF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82C-02D3-457A-9CF5-60BCF41F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FD4-471D-4E98-9418-03F2FC1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FA7-C708-4566-8B51-5715A9B6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A74-A2D0-4B7E-8873-EA16D9D6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ECB-274F-4FBF-AC91-E07C5918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018-849A-48EC-8C43-29259B5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81A-1E17-45B4-A09C-C635E05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0D8E-5694-4509-A795-662B34DC75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E262-685E-4D05-B4C6-A7C033CC68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дравствуй, задача на движ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жок «Созвезд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е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0970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еличины необходимо знать, чтобы найти время движения? Как найти время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Мотоциклист ехал 4 часа со скоростью 80км/ч. Какое расстояние он проех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476360" y="551664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403280" y="5157720"/>
            <a:ext cx="28728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176364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79560" y="4869000"/>
            <a:ext cx="11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716360" y="4941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299120" y="5794200"/>
            <a:ext cx="22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ва лыжника вышли одновременно навстречу друг другу из двух пунктов, расстояние между которыми 66км. Скорость первого 12км/ч, второго – 10км/ч. Через какое время они встретя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476360" y="4869000"/>
            <a:ext cx="65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476360" y="4581360"/>
            <a:ext cx="36036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7667640" y="4581360"/>
            <a:ext cx="360360" cy="289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1835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 flipH="1">
            <a:off x="6372000" y="4724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76364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732720" y="4365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492360" y="501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4067280" y="43657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6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оторная лодка двигалась со скоростью 30км/ч и прошла путь 90км. Сколько времени была лодка в пу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Лыжник шел со скоростью 20км/ч и был в пути 2 часа. Сколько времени потребуется пешеходу, чтобы пройти такое же расстояние, если его скорость 8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332000" y="350028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1332000" y="3141720"/>
            <a:ext cx="28872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692360" y="33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1116000" y="6308640"/>
            <a:ext cx="71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1258920" y="5950080"/>
            <a:ext cx="28872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1258920" y="6308640"/>
            <a:ext cx="28728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1692360" y="61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1692360" y="6524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835280" y="299736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514760" y="3201840"/>
            <a:ext cx="9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3851280" y="350028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547640" y="587700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427640" y="58053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547640" y="623736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Из поселка одновременно в противоположных направлениях вышел пешеход и выехал велосипедист. Когда велосипедист проехал 22км со скоростью11км/ч, расстояние между ними стало 30км. С какой скоростью шел пеше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1476360" y="5373720"/>
            <a:ext cx="6840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3851280" y="501336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284720" y="501336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4716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771640" y="4797360"/>
            <a:ext cx="12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692360" y="486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987640" y="551664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стало 3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 соревнованиях  лыжник №4 видел впереди идущего лыжника №7. Ему до лыжника №7 идти 3 мин, а лыжнику №7 идти до финиша 12 минут. Сможет ли лыжник №4 стартовать первым, если он идет со скоростью в 2 раза быстрее, чем лыжник №7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403280" y="537372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1547640" y="5013360"/>
            <a:ext cx="21600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4788000" y="5084640"/>
            <a:ext cx="28728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7740720" y="4869000"/>
            <a:ext cx="574560" cy="503280"/>
          </a:xfrm>
          <a:prstGeom prst="smileyFace">
            <a:avLst>
              <a:gd name="adj" fmla="val 92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908000" y="5229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5148360" y="51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995480" y="4653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36400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059280" y="49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300720" y="486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524720" y="56610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Муравьишка проехал на Гусенице некоторое расстояние за 32 мин. За сколько минут он проедет на Водомерке расстояние в 5 раз большее, если скорость Водомерки в 8 раз больше скорости Гусен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1116000" y="4941720"/>
            <a:ext cx="71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116000" y="4581360"/>
            <a:ext cx="28908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4932360" y="458136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1403280" y="47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5364000" y="47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48436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219640" y="4221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8 раз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219640" y="51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в 5 раз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772400" cy="56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ини Пух и Пятачок идут по одной и той же дороге и в одном и том же направлении. Вини Пух находится на расстоянии 6км впереди Пятачка и идет со скоростью 3км/ч. Пятачок идет со скоростью 5км/ч. В тот момент, когда мы стали наблюдать за ними, полетела пчела от вини Пуха к Пятачку. Долетев до Пятачка она повернула и полетела к Вини Пуху. Так она летала от одного к другому до тех пор, пока они не встретились. Какой путь пролетела пчела, если ее скорость было 10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403280" y="623736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2843280" y="5950080"/>
            <a:ext cx="216000" cy="288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5292720" y="5877000"/>
            <a:ext cx="289080" cy="288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5651640" y="609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20364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5651640" y="573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059280" y="57340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903840" y="622620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урвьишка был в соседнем муравейнике. Туда он шел пешком, а обратно он ехал. Первую половину пути он ехал на Жуке – ехал в 2 раза медленнее, чем пешком, а вторую половину пути ехал на Кузнечике – в 7 раз быстрее, чем шел пешком. На какой путь Муравьишка затратил времени меньше: в гости или обрат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187280" y="59500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1187280" y="5445000"/>
            <a:ext cx="360360" cy="50328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7812000" y="5445000"/>
            <a:ext cx="360360" cy="50328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8"/>
          <p:cNvSpPr/>
          <p:nvPr/>
        </p:nvSpPr>
        <p:spPr>
          <a:xfrm>
            <a:off x="1619280" y="5734080"/>
            <a:ext cx="360360" cy="288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1979640" y="623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7380360" y="5661000"/>
            <a:ext cx="36036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 flipH="1">
            <a:off x="6300360" y="580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427640" y="580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826920" y="602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6732720" y="5229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х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427640" y="551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раза медлен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41128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7 раз быстр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Два велосипедиста едут по дороге в одном направлении. Первый велосипедист едет со скоростью 20км/ч, а второй – со скоростью 12км/ч. Через сколько часов первый догонит второго, если между ними 48к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1403280" y="5084640"/>
            <a:ext cx="6769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1403280" y="4724280"/>
            <a:ext cx="360360" cy="35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5580000" y="4797360"/>
            <a:ext cx="35892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835280" y="4941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6084720" y="5013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763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94036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3471840" y="460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Два автомобиля едут по дороге. Один со скоростью 80км/ч, а другой со скоростью 60км/ч. Какое расстояние может быть между ними через 1 час, если расстояние между ними сейчас 70к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1763640" y="472428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2771640" y="4365720"/>
            <a:ext cx="36036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219640" y="4437000"/>
            <a:ext cx="289080" cy="289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320364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 flipH="1">
            <a:off x="471636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708360" y="47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916360" y="407664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356000" y="42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89120" y="1644480"/>
            <a:ext cx="81612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258920" y="2205000"/>
            <a:ext cx="6769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3203640" y="1989000"/>
            <a:ext cx="36036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292720" y="1989000"/>
            <a:ext cx="36036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 flipH="1">
            <a:off x="2195280" y="2060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651640" y="213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340000" y="170028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724360" y="1844640"/>
            <a:ext cx="9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924360" y="1700280"/>
            <a:ext cx="9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1403280" y="36450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V="1">
            <a:off x="1547640" y="5157360"/>
            <a:ext cx="662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4"/>
          <p:cNvSpPr/>
          <p:nvPr/>
        </p:nvSpPr>
        <p:spPr>
          <a:xfrm>
            <a:off x="3132000" y="3357720"/>
            <a:ext cx="360360" cy="215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364000" y="3429000"/>
            <a:ext cx="28764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3203640" y="4941720"/>
            <a:ext cx="36036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5435640" y="4941720"/>
            <a:ext cx="36036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3635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5724360" y="3500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 flipH="1">
            <a:off x="2340000" y="5084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 flipH="1">
            <a:off x="464292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3419640" y="321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5796000" y="321300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4140360" y="364500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780000" y="429264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2411280" y="479736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716360" y="450864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826920" y="306864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987480" y="50022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умай и реши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ва таракана соревнуются, кто быстрее заползет на верхний край стакана и спустится вниз. Первый таракан ползет все время с одинаковой скоростью, а второй вверх ползет в 2 раза быстрее, а вниз – в 2раза медленнее первого. Какой таракан приползет вниз пер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924360" y="4797360"/>
            <a:ext cx="1295280" cy="165600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344880 h 1656000"/>
              <a:gd name="textAreaBottom" fmla="*/ 131112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3780000" y="616572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5003640" y="623736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 flipH="1" flipV="1">
            <a:off x="3850920" y="544464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 flipV="1">
            <a:off x="5148360" y="566100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умай и реши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уть от пункта  А до В автомобиль проходит за 9 часов. За сколько часов пройдет этот путь мотоциклист скорость которого в 3 раза меньше скорости автомоби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1476360" y="501336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"/>
          <p:cNvSpPr/>
          <p:nvPr/>
        </p:nvSpPr>
        <p:spPr>
          <a:xfrm>
            <a:off x="1476360" y="4653000"/>
            <a:ext cx="289080" cy="288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1476360" y="5157720"/>
            <a:ext cx="28908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1835280" y="47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190800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900000" y="472428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8317080" y="4816440"/>
            <a:ext cx="3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3780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9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900000" y="5651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в 3 раза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умай и реши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532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ережа заметил, что во время липового медоноса пчела вылетает из улья со скоростью 4м/мин и возвращается обратно чер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минут со скоростью 2м/мин. На каком расстоянии от улья расположена липа, с которой пчела брала мед, если на сбор меда  с липы во время одного полета пчела затрачивает 1 мину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971640" y="5229360"/>
            <a:ext cx="1214280" cy="1214280"/>
          </a:xfrm>
          <a:prstGeom prst="cube">
            <a:avLst>
              <a:gd name="adj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2050920" y="5445000"/>
            <a:ext cx="28908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411280" y="5734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7667640" y="5373720"/>
            <a:ext cx="649440" cy="1150920"/>
          </a:xfrm>
          <a:prstGeom prst="triangle">
            <a:avLst>
              <a:gd name="adj" fmla="val 3451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4211640" y="58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2498760" y="536256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м/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4067280" y="54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м/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3348000" y="60102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щается через 9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сибо за работу, д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800360" cy="217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1466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389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52400" y="1628640"/>
            <a:ext cx="8180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умай и реш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25320" y="1557360"/>
            <a:ext cx="8518680" cy="28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8143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еличины необходимо знать, чтобы найти скорость движения? Как найти скорость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Лыжник прошел дистанцию 24км за 3 часа. С какой скоростью шел лыж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971640" y="551664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900000" y="5157720"/>
            <a:ext cx="21600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1258920" y="530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050720" y="57531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 flipH="1" flipV="1">
            <a:off x="4455360" y="508428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км  за 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ва пешехода вышли одновременно из двух деревень навстречу друг другу. Один шел со скоростью 5км/ч, а другой – 4км/ч. Встретились они через 3 часа. Какое расстояние они прош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619280" y="4653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547640" y="4437000"/>
            <a:ext cx="28764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740720" y="4365720"/>
            <a:ext cx="28728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1835280" y="44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H="1">
            <a:off x="6877080" y="44370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800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км\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804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59280" y="4941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тились через 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851280" y="4149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рейсер проплыл 80км со скоростью 40кч. Сколько времени он затрати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От города до деревни велосипедист ех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аса со скоростью 15км/ч. Сколько времени понадобится пешеходу, чтобы пройти этот путь со скоростью 5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1187280" y="299736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116000" y="2708280"/>
            <a:ext cx="360360" cy="35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1547640" y="2924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476360" y="2565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59120" y="258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313200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1332000" y="587700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1187280" y="5373720"/>
            <a:ext cx="35892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1187280" y="6021360"/>
            <a:ext cx="360360" cy="35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547640" y="566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1619280" y="6165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4479840" y="54658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1619280" y="5373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км\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1547640" y="6093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435600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Из одного пункта одновременно в противоположных направлениях вышли два лыжника. Через 3 часа расстояние между ними была 60км. Чему равна скорость второго лыжника, если скорость первого лыжника 12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1332000" y="5229360"/>
            <a:ext cx="676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4140360" y="4941720"/>
            <a:ext cx="28728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3780000" y="4941720"/>
            <a:ext cx="28872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50072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 flipH="1">
            <a:off x="291636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500720" y="46530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916360" y="4797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843280" y="537372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3 часа 6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6:41:06Z</dcterms:created>
  <dc:creator>Ольга</dc:creator>
  <dc:description/>
  <dc:language>en-US</dc:language>
  <cp:lastModifiedBy>Надежда</cp:lastModifiedBy>
  <dcterms:modified xsi:type="dcterms:W3CDTF">2020-03-26T09:28:48Z</dcterms:modified>
  <cp:revision>17</cp:revision>
  <dc:subject/>
  <dc:title>Конкурс «Юные умники и умницы»</dc:title>
</cp:coreProperties>
</file>