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F64-6546-4C55-AA51-169A430E2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98B1-E2F8-4135-A933-A3503F93140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64A9-56CC-4644-871A-88BAC29C6B3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32C3-F07C-4808-8558-33B00F610C6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4652640"/>
            <a:ext cx="6705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 1.1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Развитие дошкольного образования в России»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4317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ссарион Григорьевич Белин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ий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(1811-1848) - наметил возрастную периодизацию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колай Иванович Пирогов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(1810-1881) - отводил большую роль семейному воспитанию, значительную роль в воспитании дошкольника отводил матери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2" descr="http://ic.pics.livejournal.com/vas_pop/27394987/136384/136384_640.jpg"/>
          <p:cNvPicPr/>
          <p:nvPr/>
        </p:nvPicPr>
        <p:blipFill>
          <a:blip r:embed="rId1"/>
          <a:stretch/>
        </p:blipFill>
        <p:spPr>
          <a:xfrm>
            <a:off x="1042920" y="2797200"/>
            <a:ext cx="2822760" cy="348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im1-tub-ru.yandex.net/i?id=40821777-56-72&amp;n=21"/>
          <p:cNvPicPr/>
          <p:nvPr/>
        </p:nvPicPr>
        <p:blipFill>
          <a:blip r:embed="rId2"/>
          <a:stretch/>
        </p:blipFill>
        <p:spPr>
          <a:xfrm>
            <a:off x="5148360" y="2781360"/>
            <a:ext cx="285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history-gatchina.ru/town/gsi/imgsi/dvor2.jpg"/>
          <p:cNvPicPr/>
          <p:nvPr/>
        </p:nvPicPr>
        <p:blipFill>
          <a:blip r:embed="rId1"/>
          <a:stretch/>
        </p:blipFill>
        <p:spPr>
          <a:xfrm>
            <a:off x="1547640" y="2852640"/>
            <a:ext cx="5328000" cy="3797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785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 1832 г. при Гатчинском воспитательном доме открыли небольшую экспериментальн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колу для малолетних детей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Её основатель 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гор Осипович Гугел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zhaba.ru/site_data/10667/objects_images/e/d/c/original/edc68e63910558a32b47b762cfd2e18f_83211.jpg"/>
          <p:cNvPicPr/>
          <p:nvPr/>
        </p:nvPicPr>
        <p:blipFill>
          <a:blip r:embed="rId1"/>
          <a:stretch/>
        </p:blipFill>
        <p:spPr>
          <a:xfrm>
            <a:off x="488880" y="2708280"/>
            <a:ext cx="5448240" cy="37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dob.1september.ru/2009/08/5.jpg"/>
          <p:cNvPicPr/>
          <p:nvPr/>
        </p:nvPicPr>
        <p:blipFill>
          <a:blip r:embed="rId2"/>
          <a:stretch/>
        </p:blipFill>
        <p:spPr>
          <a:xfrm>
            <a:off x="6227640" y="2851200"/>
            <a:ext cx="2381400" cy="3495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1628280"/>
            <a:ext cx="8358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27 сентября  1863 г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 в Петербурге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был открыт первый детский сад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го открыла вместе со своим мужем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делаида Семеновна Симонович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40-193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lormed.ru/images/stories/lesgaft_743063462_tonnel.gif.jpg"/>
          <p:cNvPicPr/>
          <p:nvPr/>
        </p:nvPicPr>
        <p:blipFill>
          <a:blip r:embed="rId1"/>
          <a:stretch/>
        </p:blipFill>
        <p:spPr>
          <a:xfrm>
            <a:off x="3276720" y="2781360"/>
            <a:ext cx="2857320" cy="3819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497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тр Францевич Лесгафт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37-1909) - анатомом, биологом, педагогом.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своей книг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"Семейное воспитание и его значение"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н изложил свои взгляды на развитие дошкольника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&amp;Tcy;&amp;icy;&amp;khcy;&amp;iecy;&amp;iecy;&amp;vcy;&amp;acy; &amp;IEcy; &amp;Icy;.jpg"/>
          <p:cNvPicPr/>
          <p:nvPr/>
        </p:nvPicPr>
        <p:blipFill>
          <a:blip r:embed="rId1"/>
          <a:stretch/>
        </p:blipFill>
        <p:spPr>
          <a:xfrm>
            <a:off x="3273480" y="342900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983960"/>
            <a:ext cx="8785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лизавета Ивановна Тихеев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66-1944)- педагог, психолог, автор системы дидактических материалов для развития органов чувств, её рекомендации по умственному, нравственному, эстетическому воспитанию детей находят применение в работе современных детских садо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7956360" cy="41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уиза Карловна Шлег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63-1942) - теоретик и практик дошкольной педагогики.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ряде работ Л. К. Шлегер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«Материалы для бесед с маленькими детьми», «Практическая работа в детском саду»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и др.) содержатся ценные советы по методике организации бесед с дошкольниками, изучению детей, индивидуальной работе, применению специальных упражнений для развития органов чувств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8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пыт организации дошкольного образования в советский период развития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alex.tesinez.ru/wp-content/uploads/2012/06/det-sad-protiv-tserkvi2.png"/>
          <p:cNvPicPr/>
          <p:nvPr/>
        </p:nvPicPr>
        <p:blipFill>
          <a:blip r:embed="rId1"/>
          <a:stretch/>
        </p:blipFill>
        <p:spPr>
          <a:xfrm>
            <a:off x="1763640" y="3000240"/>
            <a:ext cx="5324400" cy="3416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20 ноября 1917 год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"Декларации по дошкольному воспитанию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этом документе были определены 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принципы советского дошкольного образования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есплатность и доступность общественного воспитания детей дошкольного возраста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3500280"/>
            <a:ext cx="83534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вгений Абрамович Аркин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73-1948) –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                       педагог, врач-гигиенист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го фундаментальный труд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Дошкольный возраст, его особенности и гигиена"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21 г.) стал прекрасным пособием для детских врачей и воспитателей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.А. Аркин выступал за тесную связь физиологии и психологии: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"Кто не знает физиологии, не будет знать психологии, и обратно"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777708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 1937 г. 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кт программы в дошкольных учреждений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1938 г. были разработаны устав дошкольных учреждений и программно-методические указания под название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уководство для воспитателей детских садов"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2" descr="http://konr.gorod.tomsk.ru/posts-files/78/806/i/2c5b4e0743324c2a712a5b47251_thumb9.jpg"/>
          <p:cNvPicPr/>
          <p:nvPr/>
        </p:nvPicPr>
        <p:blipFill>
          <a:blip r:embed="rId1"/>
          <a:stretch/>
        </p:blipFill>
        <p:spPr>
          <a:xfrm>
            <a:off x="3348000" y="2924280"/>
            <a:ext cx="440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30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35280" y="-360"/>
            <a:ext cx="698472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Федеральный закон Российской Федерации от 29 декабря 2012 г. N 273-ФЗ "Об образовании в Российской Федерации"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ние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- единый целенаправленный процесс воспитания и обучения, являющийся общественно значимым благом и осуществляемый в интересах человека, семьи, общества и государства, а также совокупность приобретаемых знаний, умений, навыков, ценностных установок, опыта деятельности и компетенции определенных объема и сложности 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static.oper.ru/data/site/deti-6.jpg"/>
          <p:cNvPicPr/>
          <p:nvPr/>
        </p:nvPicPr>
        <p:blipFill>
          <a:blip r:embed="rId1"/>
          <a:stretch/>
        </p:blipFill>
        <p:spPr>
          <a:xfrm>
            <a:off x="4284720" y="3878280"/>
            <a:ext cx="4284720" cy="270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3640" y="765000"/>
            <a:ext cx="626436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вакуация детских садов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период войн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4" descr="http://www.parkflyer.ru/static/user_files/2013/4/7/bf1257cd95b52faa89ef9a8d958cc101.1359ed1f23af50fa1bd18fa7ca4d80bd.prev.jpg"/>
          <p:cNvPicPr/>
          <p:nvPr/>
        </p:nvPicPr>
        <p:blipFill>
          <a:blip r:embed="rId2"/>
          <a:stretch/>
        </p:blipFill>
        <p:spPr>
          <a:xfrm>
            <a:off x="179280" y="1557360"/>
            <a:ext cx="4656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&amp;Pcy;&amp;rcy;&amp;ocy;&amp;fcy;&amp;iecy;&amp;scy;&amp;scy;&amp;ocy;&amp;rcy; &amp;Acy;&amp;lcy;&amp;iecy;&amp;kcy;&amp;scy;&amp;acy;&amp;ncy;&amp;dcy;&amp;rcy;&amp;acy; &amp;Pcy;&amp;lcy;&amp;acy;&amp;tcy;&amp;ocy;&amp;ncy;&amp;ocy;&amp;vcy;&amp;ncy;&amp;acy; &amp;Ucy;&amp;scy;&amp;ocy;&amp;vcy;&amp;acy;"/>
          <p:cNvPicPr/>
          <p:nvPr/>
        </p:nvPicPr>
        <p:blipFill>
          <a:blip r:embed="rId1"/>
          <a:stretch/>
        </p:blipFill>
        <p:spPr>
          <a:xfrm>
            <a:off x="3059280" y="2565360"/>
            <a:ext cx="2759040" cy="4094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640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лександра Платоновна Усов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8-1965) - педагог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обую известность получили ее методические работы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Занятия в детском саду", "Обучение в детском саду"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7777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чале 60-х годов была созда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мплексная программа "Воспитание в детском саду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2" descr="http://www.tula-web.ru/photo/foto/max_byd_1319828356.jpg"/>
          <p:cNvPicPr/>
          <p:nvPr/>
        </p:nvPicPr>
        <p:blipFill>
          <a:blip r:embed="rId1"/>
          <a:stretch/>
        </p:blipFill>
        <p:spPr>
          <a:xfrm>
            <a:off x="971640" y="2205000"/>
            <a:ext cx="64580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Значение советской системы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дошкольного образ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2565360"/>
            <a:ext cx="835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бщедоступность дошкольного образования для всех слоев населен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ысокий уровень интеллектуального развития советских дет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чет возрастных особенностей дет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достатки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тотальная регламентация деятельности детского сада и игнорирование индивидуальности как детей, так и воспитателей</a:t>
            </a:r>
            <a:r>
              <a:rPr b="0" lang="ru-RU" sz="2000" spc="-1" strike="noStrike" u="sng">
                <a:solidFill>
                  <a:srgbClr val="4d4d4d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оммунистическая идеологизация всего образовательно-воспитательного процесса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бновление дошкольного образования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 90-х годах XX в.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280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89 год - «Концепция дошкольного воспитания»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авторы </a:t>
            </a:r>
            <a:r>
              <a:rPr b="0" lang="vi-VN" sz="2400" spc="-1" strike="noStrike">
                <a:solidFill>
                  <a:srgbClr val="003399"/>
                </a:solidFill>
                <a:latin typeface="Arial"/>
              </a:rPr>
              <a:t>Васи́лий Васи́льевич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авыдов, Вадим Артурович Петровский и др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качестве альтернативы авторитарной педагогике новая концепция предложила демократический, личностно-ориентированный подход в образовании Такая переориентация образовательного процесса получила назва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гуманизация образования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еход от «зуновской» парадигмы в образовании к ориентации н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азвитие способностей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еидеологизация дошкольного образова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83960"/>
            <a:ext cx="83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991 г. -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Временное положение о дошкольном учреждении»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995 г. -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Типовое положение о дошкольном образовательном учреждении»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Стрелка вниз 4"/>
          <p:cNvSpPr/>
          <p:nvPr/>
        </p:nvSpPr>
        <p:spPr>
          <a:xfrm>
            <a:off x="4084560" y="2924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49560" y="4005360"/>
            <a:ext cx="70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Переход от единой типовой программы к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ариативности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ь выбора программы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бразования детей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42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Российской Федерации устанавливаютс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ледующи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ровни общего образования: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дошкольное образовани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2) начальное общее образование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3) основное общее образование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4) среднее общее образовани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школьное образование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озникновение дошкольного образования в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Киевская Рус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Picture 2" descr="http://www.greenlux.ru/images/kartiny/VasnecovApollinarij/07-002.jpg"/>
          <p:cNvPicPr/>
          <p:nvPr/>
        </p:nvPicPr>
        <p:blipFill>
          <a:blip r:embed="rId1"/>
          <a:stretch/>
        </p:blipFill>
        <p:spPr>
          <a:xfrm>
            <a:off x="611280" y="1341360"/>
            <a:ext cx="71928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13000" y="907560"/>
            <a:ext cx="7200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Реформы Петра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в образовании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1" name="Picture 2" descr="http://www.zkola.ru/pars_docs/refs/780/779762/779762_html_m5491f88b.png"/>
          <p:cNvPicPr/>
          <p:nvPr/>
        </p:nvPicPr>
        <p:blipFill>
          <a:blip r:embed="rId1"/>
          <a:srcRect l="0" t="24154" r="1087" b="13014"/>
          <a:stretch/>
        </p:blipFill>
        <p:spPr>
          <a:xfrm>
            <a:off x="611280" y="1989000"/>
            <a:ext cx="780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4608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иколай Иванович Новиков </a:t>
            </a: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(1744-1818) –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деятель просвещения, занимался изданием литературы для дет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татья о воспитании детей 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"Для распространения общих полезных знаний и всеобщего благополучия"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Picture 2" descr="http://xreferat.ru/image/47/1306217583_2.jpg"/>
          <p:cNvPicPr/>
          <p:nvPr/>
        </p:nvPicPr>
        <p:blipFill>
          <a:blip r:embed="rId1"/>
          <a:stretch/>
        </p:blipFill>
        <p:spPr>
          <a:xfrm>
            <a:off x="5148360" y="2349360"/>
            <a:ext cx="36986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41264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1763 г. в России был открыт первый воспитательный дом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Picture 2" descr="http://fiodor.ru/wp-content/gallery/blagotvoritelnost-i-miloserdie-v-spb/img093.jpg"/>
          <p:cNvPicPr/>
          <p:nvPr/>
        </p:nvPicPr>
        <p:blipFill>
          <a:blip r:embed="rId1"/>
          <a:stretch/>
        </p:blipFill>
        <p:spPr>
          <a:xfrm>
            <a:off x="971640" y="2060640"/>
            <a:ext cx="64580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8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ошкольное образование периода XIX - начала XX вв. в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9:47:53Z</dcterms:created>
  <dc:creator>1</dc:creator>
  <dc:description/>
  <dc:language>en-US</dc:language>
  <cp:lastModifiedBy>User</cp:lastModifiedBy>
  <dcterms:modified xsi:type="dcterms:W3CDTF">2016-04-15T11:48:46Z</dcterms:modified>
  <cp:revision>78</cp:revision>
  <dc:subject/>
  <dc:title>Презентация PowerPoint</dc:title>
</cp:coreProperties>
</file>