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jpeg" ContentType="image/jpeg"/>
  <Override PartName="/ppt/media/image5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4851BB-48FD-4884-8C0B-396FEC54E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Num" idx="4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A2AD57-9066-4070-9116-0263CE1A0E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Num" idx="4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7EF2D9-5CC9-4D83-9BFF-F4F065F9A5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424-6667-4451-910A-F8413D88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64C-7E79-457F-90A3-18A7CD03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46B-6879-4E0E-B0E6-90F0E097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465-C702-47D7-8D79-8A14E42F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E7EF-8ABD-4635-B6AE-1DE18610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4043-81BF-4497-8915-C00B210B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C0E0-B389-4CC6-BE82-423C4753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C4EC-A5A4-4DAB-A339-5326B388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6C8E-3972-4407-8F15-7B22E57B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B1C8-607A-4C69-9EB8-B9E8F2B9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0300-42CD-4B89-85C3-DA74508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3DB-05D7-41C0-954A-DFCEDFDE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8EDA-A1CD-4356-914B-2E43AACB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A161-470A-4CD1-B089-B6CDEEE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CCD2-BD16-494C-BDBA-0BFFDB2B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720D-94D7-42C0-B875-4D38F0C1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90BF-4442-4A82-BD53-EB25B0EF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8E66-4B03-4FE5-8A97-8333B131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AC7D8-242B-4155-899D-1DF60475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10976-675E-4B87-9E98-A7DF8716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5725-ACF1-428D-85A2-7ACB7D0B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912D9-D45D-4558-BF80-06484382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9D7-A936-4F2A-9486-D5A34A6A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15AF-8D5D-4E0A-B50A-DCA15D7F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070E8-5640-4CA2-BCC0-C24FA038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CE7D-ECE8-42D9-80AD-57DD9C2E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03CBD-B9D4-4626-8BBB-E446B1A8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E554C-72EC-4F39-AC11-74E66BA3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116F-784B-4C3B-A7C5-AA47747F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AB7E-6EA9-4185-9E85-1E454E4C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2AC7-2360-4F16-8C83-37DB0CB8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ED7C-5831-4648-975D-6F9689A9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992B1-4356-45B1-82A5-D23FD119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2FC-7329-4738-ADFA-52F6AAD6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A5A1-3B10-455A-9DDE-AFCC4B3D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BDBC-A10D-4F4E-97C8-DA9AE103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1025-4AA1-4407-9470-F6649D17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14600-0B20-47C5-8921-BB266C4B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C1D18-4D2F-4F19-A5AA-D55111A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C278-A22F-4632-A30C-0EF6FC32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8425-A96D-48A4-856B-6B9005B4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44A62-6EA0-49CF-B7A6-2D7AF4EE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261EC-9F68-4132-959C-EC0DDCD5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1AC-3B1B-4558-B877-1FA27EFE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B0A-8561-4F54-B514-9D54269A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3B5-6D23-4B90-A790-6EC0E623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731-9AE7-4E80-945D-7DFC2D67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48E-E3C1-48EC-9297-A2824C95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Book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Образец текста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Второй уровень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Perpetua"/>
              </a:rPr>
              <a:t>Третий уровень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Perpetua"/>
              </a:rPr>
              <a:t>Четвертый уровень</a:t>
            </a:r>
            <a:endParaRPr b="0" lang="en-US" sz="2000" spc="-1" strike="noStrike">
              <a:solidFill>
                <a:srgbClr val="4e3b30"/>
              </a:solidFill>
              <a:latin typeface="Perpetu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Perpetua"/>
              </a:rPr>
              <a:t>Пятый уровень</a:t>
            </a:r>
            <a:endParaRPr b="0" lang="en-US" sz="1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1C7F1A-5421-4077-B31B-7F719E809EEF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Book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Образец текста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Второй уровень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Perpetua"/>
              </a:rPr>
              <a:t>Третий уровень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Perpetua"/>
              </a:rPr>
              <a:t>Четвертый уровень</a:t>
            </a:r>
            <a:endParaRPr b="0" lang="en-US" sz="2000" spc="-1" strike="noStrike">
              <a:solidFill>
                <a:srgbClr val="4e3b30"/>
              </a:solidFill>
              <a:latin typeface="Perpetu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Perpetua"/>
              </a:rPr>
              <a:t>Пятый уровень</a:t>
            </a:r>
            <a:endParaRPr b="0" lang="en-US" sz="1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198108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Образец текста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Второй уровень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Perpetua"/>
              </a:rPr>
              <a:t>Третий уровень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Perpetua"/>
              </a:rPr>
              <a:t>Четвертый уровень</a:t>
            </a:r>
            <a:endParaRPr b="0" lang="en-US" sz="2000" spc="-1" strike="noStrike">
              <a:solidFill>
                <a:srgbClr val="4e3b30"/>
              </a:solidFill>
              <a:latin typeface="Perpetu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Perpetua"/>
              </a:rPr>
              <a:t>Пятый уровень</a:t>
            </a:r>
            <a:endParaRPr b="0" lang="en-US" sz="1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0508F7-D373-4B6B-9F20-CD6B640C2ED4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Book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Образец текста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Второй уровень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Perpetua"/>
              </a:rPr>
              <a:t>Третий уровень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Perpetua"/>
              </a:rPr>
              <a:t>Четвертый уровень</a:t>
            </a:r>
            <a:endParaRPr b="0" lang="en-US" sz="2000" spc="-1" strike="noStrike">
              <a:solidFill>
                <a:srgbClr val="4e3b30"/>
              </a:solidFill>
              <a:latin typeface="Perpetu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Perpetua"/>
              </a:rPr>
              <a:t>Пятый уровень</a:t>
            </a:r>
            <a:endParaRPr b="0" lang="en-US" sz="1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4648320" y="1981080"/>
            <a:ext cx="3809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Образец текста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Второй уровень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Perpetua"/>
              </a:rPr>
              <a:t>Третий уровень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Perpetua"/>
              </a:rPr>
              <a:t>Четвертый уровень</a:t>
            </a:r>
            <a:endParaRPr b="0" lang="en-US" sz="2000" spc="-1" strike="noStrike">
              <a:solidFill>
                <a:srgbClr val="4e3b30"/>
              </a:solidFill>
              <a:latin typeface="Perpetu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Perpetua"/>
              </a:rPr>
              <a:t>Пятый уровень</a:t>
            </a:r>
            <a:endParaRPr b="0" lang="en-US" sz="1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4648320" y="4114800"/>
            <a:ext cx="3809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Образец текста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Второй уровень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Perpetua"/>
              </a:rPr>
              <a:t>Третий уровень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Perpetua"/>
              </a:rPr>
              <a:t>Четвертый уровень</a:t>
            </a:r>
            <a:endParaRPr b="0" lang="en-US" sz="2000" spc="-1" strike="noStrike">
              <a:solidFill>
                <a:srgbClr val="4e3b30"/>
              </a:solidFill>
              <a:latin typeface="Perpetu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Perpetua"/>
              </a:rPr>
              <a:t>Пятый уровень</a:t>
            </a:r>
            <a:endParaRPr b="0" lang="en-US" sz="1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CE810A-13EF-4E64-9671-A8EA80B5AF24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Book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Образец текста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Perpetua"/>
              </a:rPr>
              <a:t>Второй уровень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Perpetua"/>
              </a:rPr>
              <a:t>Третий уровень</a:t>
            </a:r>
            <a:endParaRPr b="0" lang="en-US" sz="2000" spc="-1" strike="noStrike">
              <a:solidFill>
                <a:srgbClr val="4e3b30"/>
              </a:solidFill>
              <a:latin typeface="Perpetu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Perpetua"/>
              </a:rPr>
              <a:t>Четвертый уровень</a:t>
            </a:r>
            <a:endParaRPr b="0" lang="en-US" sz="1800" spc="-1" strike="noStrike">
              <a:solidFill>
                <a:srgbClr val="4e3b30"/>
              </a:solidFill>
              <a:latin typeface="Perpetu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Perpetua"/>
              </a:rPr>
              <a:t>Пятый уровень</a:t>
            </a:r>
            <a:endParaRPr b="0" lang="en-US" sz="1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Образец текста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Perpetua"/>
              </a:rPr>
              <a:t>Второй уровень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Perpetua"/>
              </a:rPr>
              <a:t>Третий уровень</a:t>
            </a:r>
            <a:endParaRPr b="0" lang="en-US" sz="2000" spc="-1" strike="noStrike">
              <a:solidFill>
                <a:srgbClr val="4e3b30"/>
              </a:solidFill>
              <a:latin typeface="Perpetu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Perpetua"/>
              </a:rPr>
              <a:t>Четвертый уровень</a:t>
            </a:r>
            <a:endParaRPr b="0" lang="en-US" sz="1800" spc="-1" strike="noStrike">
              <a:solidFill>
                <a:srgbClr val="4e3b30"/>
              </a:solidFill>
              <a:latin typeface="Perpetu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Perpetua"/>
              </a:rPr>
              <a:t>Пятый уровень</a:t>
            </a:r>
            <a:endParaRPr b="0" lang="en-US" sz="1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26F37B-453C-4080-93E2-5BA7EC2598E8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Grp8fFqisg" TargetMode="External"/><Relationship Id="rId2" Type="http://schemas.openxmlformats.org/officeDocument/2006/relationships/hyperlink" Target="https://www.tinkercad.com/" TargetMode="External"/><Relationship Id="rId3" Type="http://schemas.openxmlformats.org/officeDocument/2006/relationships/hyperlink" Target="https://www.youtube.com/watch?v=6uCxG1h05Rk" TargetMode="External"/><Relationship Id="rId4" Type="http://schemas.openxmlformats.org/officeDocument/2006/relationships/hyperlink" Target="https://www.youtube.com/watch?v=M4yptF-KF8Q" TargetMode="External"/><Relationship Id="rId5" Type="http://schemas.openxmlformats.org/officeDocument/2006/relationships/slideLayout" Target="../slideLayouts/slideLayout32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50;&#1086;&#1085;&#1089;&#1090;&#1088;&#1091;&#1082;&#1094;&#1080;&#1103;_There_is_/_There_are" TargetMode="External"/><Relationship Id="rId2" Type="http://schemas.openxmlformats.org/officeDocument/2006/relationships/hyperlink" Target="http://school.xvatit.com/index.php?title=&#1050;&#1086;&#1085;&#1089;&#1090;&#1088;&#1091;&#1082;&#1094;&#1080;&#1103;_There_is_/_There_are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 cap="all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6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7C0496C-08A6-4623-A03C-C1796798EC32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7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027D3B-5ACD-4BB9-B636-69766CA11DB3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Рисунок 5" descr="C:\Users\user\Desktop\тинк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91" name="Прямоугольник 6"/>
          <p:cNvSpPr/>
          <p:nvPr/>
        </p:nvSpPr>
        <p:spPr>
          <a:xfrm>
            <a:off x="928800" y="1857240"/>
            <a:ext cx="7357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КОНСТРУИРОВАНИЕ, МОДЕЛИРОВАНИЕ И ПРОЕКТИРОВАНИЕ  в программе «</a:t>
            </a:r>
            <a:r>
              <a:rPr b="1" lang="en-US" sz="4800" spc="-1" strike="noStrike">
                <a:solidFill>
                  <a:srgbClr val="002060"/>
                </a:solidFill>
                <a:latin typeface="Times New Roman"/>
              </a:rPr>
              <a:t>Tinkercad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7"/>
          <p:cNvSpPr/>
          <p:nvPr/>
        </p:nvSpPr>
        <p:spPr>
          <a:xfrm>
            <a:off x="3654360" y="214200"/>
            <a:ext cx="21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Урок технологии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85920" y="1428840"/>
            <a:ext cx="6705360" cy="4876560"/>
          </a:xfrm>
          <a:prstGeom prst="rect">
            <a:avLst/>
          </a:prstGeom>
          <a:solidFill>
            <a:schemeClr val="lt1"/>
          </a:solidFill>
          <a:ln w="25560">
            <a:solidFill>
              <a:srgbClr val="a5644e"/>
            </a:solidFill>
            <a:round/>
          </a:ln>
        </p:spPr>
        <p:txBody>
          <a:bodyPr lIns="90000" rIns="90000" tIns="45000" bIns="45000" anchor="t">
            <a:normAutofit fontScale="63000"/>
          </a:bodyPr>
          <a:p>
            <a:pPr marL="308520" indent="-308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chemeClr val="dk1"/>
                </a:solidFill>
                <a:latin typeface="Perpetua"/>
              </a:rPr>
              <a:t>Просмотреть по ютубу учебные фильмы по «</a:t>
            </a:r>
            <a:r>
              <a:rPr b="0" lang="en-US" sz="2800" spc="-1" strike="noStrike">
                <a:solidFill>
                  <a:schemeClr val="dk1"/>
                </a:solidFill>
                <a:latin typeface="Perpetua"/>
              </a:rPr>
              <a:t>Tinkercad</a:t>
            </a:r>
            <a:r>
              <a:rPr b="0" lang="ru-RU" sz="2800" spc="-1" strike="noStrike">
                <a:solidFill>
                  <a:schemeClr val="dk1"/>
                </a:solidFill>
                <a:latin typeface="Perpetua"/>
              </a:rPr>
              <a:t>» пройдя по ссылке:</a:t>
            </a:r>
            <a:r>
              <a:rPr b="1" lang="ru-RU" sz="2800" spc="-1" strike="noStrike">
                <a:solidFill>
                  <a:schemeClr val="dk1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308520" indent="-308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chemeClr val="dk1"/>
                </a:solidFill>
                <a:latin typeface="Perpetua"/>
              </a:rPr>
              <a:t>1</a:t>
            </a:r>
            <a:r>
              <a:rPr b="0" lang="ru-RU" sz="2800" spc="-1" strike="noStrike">
                <a:solidFill>
                  <a:schemeClr val="dk1"/>
                </a:solidFill>
                <a:latin typeface="Perpetua"/>
              </a:rPr>
              <a:t>Урок 1 TinkerCAD: Введение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308520" indent="-308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chemeClr val="dk1"/>
                </a:solidFill>
                <a:latin typeface="Perpetua"/>
              </a:rPr>
              <a:t>. </a:t>
            </a:r>
            <a:r>
              <a:rPr b="0" lang="ru-RU" sz="2800" spc="-1" strike="noStrike" u="sng">
                <a:solidFill>
                  <a:schemeClr val="dk1"/>
                </a:solidFill>
                <a:uFillTx/>
                <a:latin typeface="Perpetua"/>
                <a:hlinkClick r:id="rId1"/>
              </a:rPr>
              <a:t>https://www.youtube.com/watch?v=iGrp8fFqisg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308520" indent="-30852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000" spc="-1" strike="noStrike">
                <a:solidFill>
                  <a:schemeClr val="dk1"/>
                </a:solidFill>
                <a:latin typeface="Perpetua"/>
              </a:rPr>
              <a:t>Заходим на страницу </a:t>
            </a:r>
            <a:r>
              <a:rPr b="0" lang="ru-RU" sz="2000" spc="-1" strike="noStrike" u="sng">
                <a:solidFill>
                  <a:schemeClr val="dk1"/>
                </a:solidFill>
                <a:uFillTx/>
                <a:latin typeface="Perpetua"/>
                <a:hlinkClick r:id="rId2"/>
              </a:rPr>
              <a:t>Tinkercad</a:t>
            </a:r>
            <a:r>
              <a:rPr b="0" lang="ru-RU" sz="2000" spc="-1" strike="noStrike">
                <a:solidFill>
                  <a:schemeClr val="dk1"/>
                </a:solidFill>
                <a:latin typeface="Perpetua"/>
              </a:rPr>
              <a:t> и жмем </a:t>
            </a:r>
            <a:r>
              <a:rPr b="1" lang="ru-RU" sz="2400" spc="-1" strike="noStrike">
                <a:solidFill>
                  <a:schemeClr val="dk1"/>
                </a:solidFill>
                <a:latin typeface="Perpetua"/>
              </a:rPr>
              <a:t>ЗАРЕГИСТРИРОВАТЬСЯ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/JOIN NOW.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08520" indent="-30852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1800" spc="-1" strike="noStrike">
                <a:solidFill>
                  <a:schemeClr val="dk1"/>
                </a:solidFill>
                <a:latin typeface="Perpetua"/>
              </a:rPr>
              <a:t>Важно знать, что пользователям моложе 13 лет необходимо согласие родителей на регистрацию,</a:t>
            </a:r>
            <a:r>
              <a:rPr b="0" lang="ru-RU" sz="1800" spc="-1" strike="noStrike">
                <a:solidFill>
                  <a:schemeClr val="dk1"/>
                </a:solidFill>
                <a:latin typeface="Perpetua"/>
              </a:rPr>
              <a:t> или В качестве альтернативы родители сами могут создать аккаунт, которым будут пользоваться дети.</a:t>
            </a:r>
            <a:endParaRPr b="0" lang="en-US" sz="1800" spc="-1" strike="noStrike">
              <a:solidFill>
                <a:srgbClr val="4e3b3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308520" indent="-308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chemeClr val="dk1"/>
                </a:solidFill>
                <a:latin typeface="Perpetua"/>
              </a:rPr>
              <a:t>2 .</a:t>
            </a:r>
            <a:r>
              <a:rPr b="0" lang="ru-RU" sz="2800" spc="-1" strike="noStrike">
                <a:solidFill>
                  <a:schemeClr val="dk1"/>
                </a:solidFill>
                <a:latin typeface="Perpetua"/>
              </a:rPr>
              <a:t>Урок 2 TinkerCAD: Основные инструменты работы в TinkerCad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3085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Perpetua"/>
              </a:rPr>
              <a:t> </a:t>
            </a:r>
            <a:r>
              <a:rPr b="0" lang="ru-RU" sz="2800" spc="-1" strike="noStrike" u="sng">
                <a:solidFill>
                  <a:schemeClr val="dk1"/>
                </a:solidFill>
                <a:uFillTx/>
                <a:latin typeface="Perpetua"/>
                <a:hlinkClick r:id="rId3"/>
              </a:rPr>
              <a:t>https://www.youtube.com/watch?v=6uCxG1h05Rk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3085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308520" indent="-308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ru-RU" sz="2800" spc="-1" strike="noStrike">
                <a:solidFill>
                  <a:schemeClr val="dk1"/>
                </a:solidFill>
                <a:latin typeface="Perpetua"/>
              </a:rPr>
              <a:t>3.</a:t>
            </a:r>
            <a:r>
              <a:rPr b="0" lang="ru-RU" sz="2800" spc="-1" strike="noStrike">
                <a:solidFill>
                  <a:schemeClr val="dk1"/>
                </a:solidFill>
                <a:latin typeface="Perpetua"/>
              </a:rPr>
              <a:t> Урок 3 TinkerCAD: Дополнительные элементы построения для более точного проектирования.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308520" indent="-3085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Perpetua"/>
              </a:rPr>
              <a:t> </a:t>
            </a:r>
            <a:r>
              <a:rPr b="0" lang="ru-RU" sz="2800" spc="-1" strike="noStrike" u="sng">
                <a:solidFill>
                  <a:schemeClr val="dk1"/>
                </a:solidFill>
                <a:uFillTx/>
                <a:latin typeface="Perpetua"/>
                <a:hlinkClick r:id="rId4"/>
              </a:rPr>
              <a:t>https://www.youtube.com/watch?v=M4yptF-KF8Q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548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3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C62F66B-C200-4949-8E49-339F161922F0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35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C97D34-0F42-4CD7-9ECE-2888A5C2F51F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title"/>
          </p:nvPr>
        </p:nvSpPr>
        <p:spPr>
          <a:xfrm>
            <a:off x="571320" y="214200"/>
            <a:ext cx="8214840" cy="9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Book"/>
              </a:rPr>
              <a:t>пошаговая инструкц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Book"/>
              </a:rPr>
              <a:t>пошаговая инструкция </a:t>
            </a:r>
            <a:r>
              <a:rPr b="0" lang="ru-RU" sz="2200" spc="-1" strike="noStrike" cap="all">
                <a:solidFill>
                  <a:srgbClr val="4e3b30"/>
                </a:solidFill>
                <a:latin typeface="Franklin Gothic Book"/>
              </a:rPr>
              <a:t>(продолжение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выбрать тему для проекта- транспорт, бытовые мелочи, свободная фантазия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в тинкеркаде создать проект модели изделия по выбранной теме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сфотографировать и отправить учителю по ватсапу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Perpetua"/>
              </a:rPr>
              <a:t>ВНИМАНИЕ!!! </a:t>
            </a: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Лучшие и интересные  проекты возможно распечатаем  в 3-д принтере. Удачи в проектировании!!!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3809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48320" y="4114800"/>
            <a:ext cx="3809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dt" idx="36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171891D-2F21-4C17-89D1-1B578B1B9105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37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926EC9-8A2D-4D1C-99B0-3BC733145073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3D принтер UP! Mini"/>
          <p:cNvPicPr/>
          <p:nvPr/>
        </p:nvPicPr>
        <p:blipFill>
          <a:blip r:embed="rId1"/>
          <a:stretch/>
        </p:blipFill>
        <p:spPr>
          <a:xfrm>
            <a:off x="4714920" y="2000160"/>
            <a:ext cx="3858120" cy="2071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Первая 3D-модель Егора сделанная в Tinkercad - YouTube"/>
          <p:cNvPicPr/>
          <p:nvPr/>
        </p:nvPicPr>
        <p:blipFill>
          <a:blip r:embed="rId2"/>
          <a:stretch/>
        </p:blipFill>
        <p:spPr>
          <a:xfrm>
            <a:off x="4714920" y="4214880"/>
            <a:ext cx="3857400" cy="21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dt" idx="38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673F8FE-3EDF-46EE-A97D-80C8C3952498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Num" idx="39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F48116-5F9F-4ACF-BD40-207F677BA31C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937800" y="2714760"/>
            <a:ext cx="8698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 cap="all">
                <a:solidFill>
                  <a:schemeClr val="hlink"/>
                </a:solidFill>
                <a:latin typeface="Franklin Gothic 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 cap="all">
                <a:solidFill>
                  <a:schemeClr val="hlink"/>
                </a:solidFill>
                <a:latin typeface="Franklin Gothic Book"/>
              </a:rPr>
              <a:t>И удача в проектировани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solidFill>
            <a:schemeClr val="lt1"/>
          </a:solidFill>
          <a:ln w="25560">
            <a:solidFill>
              <a:srgbClr val="a5644e"/>
            </a:solidFill>
            <a:round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chemeClr val="dk1"/>
                </a:solidFill>
                <a:latin typeface="Perpetua"/>
              </a:rPr>
              <a:t>Изучить с учащимися элементы и последовательность конструирования ,моделирования и проектирования изделий.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chemeClr val="dk1"/>
                </a:solidFill>
                <a:latin typeface="Perpetua"/>
              </a:rPr>
              <a:t>Оборудование: компьютер с интернетом, программа «</a:t>
            </a:r>
            <a:r>
              <a:rPr b="0" lang="en-US" sz="2800" spc="-1" strike="noStrike">
                <a:solidFill>
                  <a:schemeClr val="dk1"/>
                </a:solidFill>
                <a:latin typeface="Perpetua"/>
              </a:rPr>
              <a:t>Tinkercad</a:t>
            </a:r>
            <a:r>
              <a:rPr b="0" lang="ru-RU" sz="2800" spc="-1" strike="noStrike">
                <a:solidFill>
                  <a:schemeClr val="dk1"/>
                </a:solidFill>
                <a:latin typeface="Perpetua"/>
              </a:rPr>
              <a:t>»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8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D79E7DA-BC9B-45F0-8CF6-52BB9D2DD210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9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06309F-8BB2-4762-95A3-CEEB28E7C130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Franklin Gothic Book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Franklin Gothic Book"/>
              </a:rPr>
              <a:t>КОНСТРУ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3640" cy="4343040"/>
          </a:xfrm>
          <a:prstGeom prst="rect">
            <a:avLst/>
          </a:prstGeom>
          <a:solidFill>
            <a:schemeClr val="lt1"/>
          </a:solidFill>
          <a:ln w="25560">
            <a:solidFill>
              <a:srgbClr val="a5644e"/>
            </a:solidFill>
            <a:round/>
          </a:ln>
        </p:spPr>
        <p:txBody>
          <a:bodyPr lIns="90000" rIns="90000" tIns="45000" bIns="45000"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 u="sng">
                <a:solidFill>
                  <a:schemeClr val="dk1"/>
                </a:solidFill>
                <a:uFillTx/>
                <a:latin typeface="Perpetua"/>
                <a:hlinkClick r:id="rId1"/>
              </a:rPr>
              <a:t>Конструирование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 — это один из этапов создания изделия. («</a:t>
            </a:r>
            <a:r>
              <a:rPr b="0" lang="ru-RU" sz="2400" spc="-1" strike="noStrike" u="sng">
                <a:solidFill>
                  <a:schemeClr val="dk1"/>
                </a:solidFill>
                <a:uFillTx/>
                <a:latin typeface="Perpetua"/>
                <a:hlinkClick r:id="rId2"/>
              </a:rPr>
              <a:t>Конструкция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» — в переводе с латинского означает «устройство».)</a:t>
            </a:r>
            <a:br>
              <a:rPr sz="2400"/>
            </a:b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Конструирование является частью проектирования и будет необходимым элементом вашего будущего творческого проекта. Обычно конструирование начинают со зрительного представления изделия, составления его эскизов, технических рисунков, чертежей.</a:t>
            </a:r>
            <a:br>
              <a:rPr sz="2400"/>
            </a:b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Затем подбирают необходимые материалы.</a:t>
            </a:r>
            <a:br>
              <a:rPr sz="2400"/>
            </a:b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    Далее изготавливают опытный образец изделия или само изделие, испытывают его на прочность и работоспособность, дорабатывают с учетом недостатков, и так повторяют многократно, от одного варианта к другому, до создания наилучшего изделия согласно его назначению.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20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A179B20-EDDB-4A5B-98BE-65402F1ABD4D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21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DBFAF4-E5CE-4320-A063-F6E4117D00A2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Franklin Gothic Book"/>
              </a:rPr>
              <a:t>КОНСТРУ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3640" cy="4343040"/>
          </a:xfrm>
          <a:prstGeom prst="rect">
            <a:avLst/>
          </a:prstGeom>
          <a:solidFill>
            <a:schemeClr val="lt1"/>
          </a:solidFill>
          <a:ln w="25560">
            <a:solidFill>
              <a:srgbClr val="a5644e"/>
            </a:solidFill>
            <a:round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chemeClr val="hlink"/>
                </a:solidFill>
                <a:latin typeface="Perpetua"/>
              </a:rPr>
              <a:t>Конструирование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 — это сложный и многооперационный технологический процесс, который включает в себя: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chemeClr val="accent2"/>
                </a:solidFill>
                <a:latin typeface="Perpetua"/>
              </a:rPr>
              <a:t>зрительное 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представление изделия;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chemeClr val="accent2"/>
                </a:solidFill>
                <a:latin typeface="Perpetua"/>
              </a:rPr>
              <a:t>составление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 эскизов, технических рисунков, чертежей;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chemeClr val="accent2"/>
                </a:solidFill>
                <a:latin typeface="Perpetua"/>
              </a:rPr>
              <a:t>подбор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 необходимого материала;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chemeClr val="accent2"/>
                </a:solidFill>
                <a:latin typeface="Perpetua"/>
              </a:rPr>
              <a:t>изготовление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 опытного образца;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chemeClr val="accent2"/>
                </a:solidFill>
                <a:latin typeface="Perpetua"/>
              </a:rPr>
              <a:t>испытание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 на прочность и работоспособность;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chemeClr val="accent2"/>
                </a:solidFill>
                <a:latin typeface="Perpetua"/>
              </a:rPr>
              <a:t>устранение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 недостатков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</p:txBody>
      </p:sp>
      <p:pic>
        <p:nvPicPr>
          <p:cNvPr id="203" name="Picture 4" descr="AG00011_"/>
          <p:cNvPicPr/>
          <p:nvPr/>
        </p:nvPicPr>
        <p:blipFill>
          <a:blip r:embed="rId1"/>
          <a:stretch/>
        </p:blipFill>
        <p:spPr>
          <a:xfrm>
            <a:off x="7358040" y="4000680"/>
            <a:ext cx="1247400" cy="1409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3"/>
          <p:cNvSpPr>
            <a:spLocks noGrp="1"/>
          </p:cNvSpPr>
          <p:nvPr>
            <p:ph type="dt" idx="22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0AA5A5F-69CC-4930-84E1-B1DAA59D67D0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2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6DD44E-CCB9-4A49-B9F4-4D10A7FFC463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Book"/>
              </a:rPr>
              <a:t>При конструировании изделия необходимо, чтобы оно был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3640" cy="4876560"/>
          </a:xfrm>
          <a:prstGeom prst="rect">
            <a:avLst/>
          </a:prstGeom>
          <a:solidFill>
            <a:schemeClr val="lt1"/>
          </a:solidFill>
          <a:ln w="25560">
            <a:solidFill>
              <a:srgbClr val="a5644e"/>
            </a:solidFill>
            <a:round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chemeClr val="hlink"/>
                </a:solidFill>
                <a:latin typeface="Perpetua"/>
              </a:rPr>
              <a:t>Прочное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 – способность изделия воспринимать определённые нагрузки, не разрушаясь.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chemeClr val="hlink"/>
                </a:solidFill>
                <a:latin typeface="Perpetua"/>
              </a:rPr>
              <a:t>Надёжное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 – способность изделия выполнять заданное назначение при сохранении основных характеристик.  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chemeClr val="hlink"/>
                </a:solidFill>
                <a:latin typeface="Perpetua"/>
              </a:rPr>
              <a:t>Технологичное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 – соответствие изделия требованиям экономичной технологии его изготовления.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chemeClr val="hlink"/>
                </a:solidFill>
                <a:latin typeface="Perpetua"/>
              </a:rPr>
              <a:t>Экономичное</a:t>
            </a: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 – соответствие изделия наименьшим затратам труда и материалов при его изготовлении.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Perpetua"/>
              </a:rPr>
              <a:t>При изготовлении нескольких деталей из одной заготовки важно, чтобы их получилось как можно больше, а для этого необходимо учитывать их правильное (экономное) размещение и разметку.</a:t>
            </a: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2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5A49F67-0109-4CFD-BEE1-A23865B67328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25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3E345F-FECA-4A72-A3F6-0F4CAE927D48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Franklin Gothic Book"/>
              </a:rPr>
              <a:t>Принципы конструиров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3640" cy="58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Чтобы получить модное, красивое, удобное и безопасное в эксплуатации изделие конструктору приходиться рассматривать множество вариантов изделий, учитывать комплекс функциональных условий и требований: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удобство пользования; 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максимальное соответствие условиям эксплуатации;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Perpetua"/>
              </a:rPr>
              <a:t>создание гармоничной целостной формы, высоких эстетических качеств. </a:t>
            </a:r>
            <a:endParaRPr b="0" lang="en-US" sz="32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26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68AF70C-4718-45C2-8F58-B8C2AEB25E4F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27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38305E-40EE-42F6-BF7E-FBFDD382942D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Franklin Gothic Book"/>
              </a:rPr>
              <a:t>Модел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3640" cy="35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Одним из приёмов конструирования является моделирование.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chemeClr val="accent2"/>
                </a:solidFill>
                <a:latin typeface="Perpetua"/>
              </a:rPr>
              <a:t>Моделирование</a:t>
            </a: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 – это процесс изготовления по чертежу модели какого-либо предмета.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chemeClr val="accent2"/>
                </a:solidFill>
                <a:latin typeface="Perpetua"/>
              </a:rPr>
              <a:t>Модель</a:t>
            </a: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 – уменьшенная или увеличенная копия изделия, предназначенная для показа его устройства и принципа действия.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28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5B776FE-7B4E-4B32-A551-E3F265BABFE3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2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7F9185-7781-4C2F-9502-B0AF645DFBF2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" descr="E:\работа\труды\mdd076-1759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190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Franklin Gothic Book"/>
              </a:rPr>
              <a:t>Модел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83872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Perpetua"/>
              </a:rPr>
              <a:t>Создаётся модель, как и настоящее изделие по эскизам, техническим рисункам и чертежам.</a:t>
            </a: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30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B51EDAF-23CB-43DA-A361-0E751734955B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31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F4B3DF-1B32-4912-B9E0-740F645146E6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" descr="C:\Documents and Settings\николай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73080" y="2382840"/>
            <a:ext cx="8997480" cy="40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000000"/>
                </a:solidFill>
                <a:latin typeface="Franklin Gothic Book"/>
              </a:rPr>
              <a:t>примеры моделей созданных в тинкерка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7"/>
          <p:cNvGraphicFramePr/>
          <p:nvPr/>
        </p:nvGraphicFramePr>
        <p:xfrm>
          <a:off x="6786720" y="500040"/>
          <a:ext cx="2074680" cy="35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6720" y="500040"/>
                    <a:ext cx="2074680" cy="35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2"/>
          <p:cNvSpPr>
            <a:spLocks noGrp="1"/>
          </p:cNvSpPr>
          <p:nvPr>
            <p:ph type="dt" idx="32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E22CE0E-E8E5-47A6-AFCC-440239FD0366}" type="datetime1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3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45D3A9-3721-4855-81F4-AA0C93A3BD58}" type="slidenum">
              <a:rPr b="0" lang="ru-RU" sz="1200" spc="-1" strike="noStrike">
                <a:solidFill>
                  <a:srgbClr val="d38e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0" descr="Tinkercad - Быстрое знакомство [3D моделирование] - YouTube"/>
          <p:cNvPicPr/>
          <p:nvPr/>
        </p:nvPicPr>
        <p:blipFill>
          <a:blip r:embed="rId3"/>
          <a:stretch/>
        </p:blipFill>
        <p:spPr>
          <a:xfrm>
            <a:off x="428760" y="1285920"/>
            <a:ext cx="3403080" cy="1914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Программа для создания 3д моделей на русском для 3д принтера – Топ ..."/>
          <p:cNvPicPr/>
          <p:nvPr/>
        </p:nvPicPr>
        <p:blipFill>
          <a:blip r:embed="rId4"/>
          <a:stretch/>
        </p:blipFill>
        <p:spPr>
          <a:xfrm>
            <a:off x="214200" y="3357720"/>
            <a:ext cx="3981600" cy="3071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КОМПАС-3D v18 Home. Мини-курс проектирования под 3D-печать. От ..."/>
          <p:cNvPicPr/>
          <p:nvPr/>
        </p:nvPicPr>
        <p:blipFill>
          <a:blip r:embed="rId5"/>
          <a:stretch/>
        </p:blipFill>
        <p:spPr>
          <a:xfrm>
            <a:off x="4357800" y="4143240"/>
            <a:ext cx="4293000" cy="2325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6" descr="3d Minion building - TinkerCAD - YouTube"/>
          <p:cNvPicPr/>
          <p:nvPr/>
        </p:nvPicPr>
        <p:blipFill>
          <a:blip r:embed="rId6"/>
          <a:srcRect l="25002" t="0" r="0" b="0"/>
          <a:stretch/>
        </p:blipFill>
        <p:spPr>
          <a:xfrm flipH="1">
            <a:off x="3929400" y="1285920"/>
            <a:ext cx="285732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3611</TotalTime>
  <Application>LibreOffice/7.4.7.2$Linux_X86_64 LibreOffice_project/40$Build-2</Application>
  <AppVersion>15.0000</AppVersion>
  <Words>471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Игоревич</dc:creator>
  <dc:description/>
  <dc:language>en-US</dc:language>
  <cp:lastModifiedBy>user</cp:lastModifiedBy>
  <cp:lastPrinted>1601-01-01T00:00:00Z</cp:lastPrinted>
  <dcterms:modified xsi:type="dcterms:W3CDTF">2020-04-01T07:08:06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otes">
    <vt:r8>2</vt:r8>
  </property>
  <property fmtid="{D5CDD505-2E9C-101B-9397-08002B2CF9AE}" pid="4" name="PresentationFormat">
    <vt:lpwstr>Экран (4:3)</vt:lpwstr>
  </property>
  <property fmtid="{D5CDD505-2E9C-101B-9397-08002B2CF9AE}" pid="5" name="Slides">
    <vt:r8>12</vt:r8>
  </property>
  <property fmtid="{D5CDD505-2E9C-101B-9397-08002B2CF9AE}" pid="6" name="Version">
    <vt:r8>3</vt:r8>
  </property>
</Properties>
</file>