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2988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022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32590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78240" y="0"/>
            <a:ext cx="32590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0156680"/>
            <a:ext cx="325908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Num" idx="3"/>
          </p:nvPr>
        </p:nvSpPr>
        <p:spPr>
          <a:xfrm>
            <a:off x="4277880" y="10156320"/>
            <a:ext cx="323532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63091-1AE9-43D2-89A0-647FDE79E7B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278240" y="10156680"/>
            <a:ext cx="324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B9F6C-3C7F-4BC7-9437-3FFCD52DD9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78240" y="10156680"/>
            <a:ext cx="3249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FB7D3F-2D5D-4564-8983-0A51EB2C48E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78240" y="10156680"/>
            <a:ext cx="3251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2CC29-FCCB-4EF9-B96A-EF38E3AC876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8240" y="10156680"/>
            <a:ext cx="325440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FAA20-2858-4DB9-9F4D-746B9CEE22B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8240" y="10156680"/>
            <a:ext cx="325908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8CA19-CAF5-4633-91CA-BB29F85EEEF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278240" y="10156680"/>
            <a:ext cx="324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09FCE-7686-427E-BED4-95BDC6134C4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7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278240" y="10156680"/>
            <a:ext cx="324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A4057-B291-447E-B539-90411EEB1B2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278240" y="10156680"/>
            <a:ext cx="324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4B3A3-D8D5-45E5-85EC-D212EB64CE7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78240" y="10156680"/>
            <a:ext cx="3249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25723-9214-43E9-B49D-26B7BB71747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278240" y="10156680"/>
            <a:ext cx="3251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A16C4-0F8D-4A4B-9517-24B68DB55D3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78240" y="10156680"/>
            <a:ext cx="325440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768F9-BF6C-49A0-968D-B34F1991979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11320" y="812880"/>
            <a:ext cx="5311800" cy="3984480"/>
          </a:xfrm>
          <a:prstGeom prst="rect">
            <a:avLst/>
          </a:prstGeom>
          <a:ln w="0">
            <a:noFill/>
          </a:ln>
        </p:spPr>
      </p:sp>
      <p:sp>
        <p:nvSpPr>
          <p:cNvPr id="246" name=""/>
          <p:cNvSpPr/>
          <p:nvPr/>
        </p:nvSpPr>
        <p:spPr>
          <a:xfrm>
            <a:off x="755640" y="5078520"/>
            <a:ext cx="602460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4278240" y="10156680"/>
            <a:ext cx="324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A3FAF-3082-4FAC-BC01-B0D71B27944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78240" y="10156680"/>
            <a:ext cx="3249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AFF90D-730B-45AD-B81F-212BA65C419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78240" y="10156680"/>
            <a:ext cx="3251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48D36-5658-4561-B5E1-AB8842837B8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78240" y="10156680"/>
            <a:ext cx="325440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16B75-4E48-4E4F-AF1E-82EB87FE7A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78240" y="10156680"/>
            <a:ext cx="325908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F7C41-8661-43DE-8600-490BE39CF84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3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278240" y="10156680"/>
            <a:ext cx="324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D04BB-F348-425B-8FD2-3D85D5DD758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78240" y="10156680"/>
            <a:ext cx="3249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44BA9-FE8E-4812-A32E-7A7B60B7E2B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78240" y="10156680"/>
            <a:ext cx="3251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F0B39-5D3F-402A-99B4-F573FC3CE1E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8240" y="10156680"/>
            <a:ext cx="325440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F97B3-CE35-4351-94E6-CDFE8CB4DDF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78240" y="10156680"/>
            <a:ext cx="325908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FFCFE-BF31-4648-9E45-022A487E76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3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278240" y="10156680"/>
            <a:ext cx="324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1B689-C46C-4591-BD93-DD2E9410E89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6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278240" y="10156680"/>
            <a:ext cx="324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824B2-A9CD-424C-85D2-2392773353F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78240" y="10156680"/>
            <a:ext cx="3249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ED88C-9A41-4746-B522-92FC501D921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78240" y="10156680"/>
            <a:ext cx="3251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5462B-F4D5-4A59-ADFD-93FD26CA1D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78240" y="10156680"/>
            <a:ext cx="325440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D8A5B-3C4F-431C-A77B-EE7449B4DD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78240" y="10156680"/>
            <a:ext cx="325908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FFB33-47A6-4A6D-B8DF-750545C2985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3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278240" y="10156680"/>
            <a:ext cx="324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00BEF-EE26-4322-8C58-3458AF04E7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6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278240" y="10156680"/>
            <a:ext cx="324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7375F8-9D07-4575-AABC-FCE66CABB74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78240" y="10156680"/>
            <a:ext cx="3249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36A961-0347-41DD-AEDC-86319BBA223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78240" y="10156680"/>
            <a:ext cx="3251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D04CA-EEB3-4AAC-95BF-FECDE6B7D3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11320" y="812880"/>
            <a:ext cx="5308560" cy="3981240"/>
          </a:xfrm>
          <a:prstGeom prst="rect">
            <a:avLst/>
          </a:prstGeom>
          <a:ln w="0">
            <a:noFill/>
          </a:ln>
        </p:spPr>
      </p:sp>
      <p:sp>
        <p:nvSpPr>
          <p:cNvPr id="221" name=""/>
          <p:cNvSpPr/>
          <p:nvPr/>
        </p:nvSpPr>
        <p:spPr>
          <a:xfrm>
            <a:off x="755640" y="5078520"/>
            <a:ext cx="602136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278240" y="10156680"/>
            <a:ext cx="324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FB018-9EEB-43B8-9E2B-7EDAAC05AA2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278240" y="10156680"/>
            <a:ext cx="3249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BDE167-3F74-417E-8E65-D9F9835968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78240" y="10156680"/>
            <a:ext cx="3251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B7470-D307-4A5C-9114-22839B8A4BA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78240" y="10156680"/>
            <a:ext cx="325440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9E5AC-0B47-4D3B-92D0-792487A7DD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278240" y="10156680"/>
            <a:ext cx="325908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EB017C-9971-4B8F-BDB6-CE73EA6C85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8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4278240" y="10156680"/>
            <a:ext cx="324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7A4A7-5379-4234-A9C8-5EA7229ECFC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1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278240" y="10156680"/>
            <a:ext cx="324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2B6C9-502A-4732-A6D9-F1019349C07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4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5814D-79C4-475D-AF9D-3FCF728777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5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0200"/>
            <a:ext cx="81835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65B02-C665-48CC-817A-826C0982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48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0840" y="1600200"/>
            <a:ext cx="399348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0200"/>
            <a:ext cx="399348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0840" y="3940200"/>
            <a:ext cx="399348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4BCE2-12B2-4017-8107-91F5574D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348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160" y="1600200"/>
            <a:ext cx="26348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1120" y="1600200"/>
            <a:ext cx="26348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0200"/>
            <a:ext cx="26348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160" y="3940200"/>
            <a:ext cx="26348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1120" y="3940200"/>
            <a:ext cx="26348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AB285-55D0-488D-A072-C823535ECB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18352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6AE6E-F199-43AD-9CD2-E6C08006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5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CA1AD-F927-4ACA-82C4-42DDC4C2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48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0840" y="1600200"/>
            <a:ext cx="399348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75E46-D3FE-48B9-89BA-BCB7A04B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FDEAA-74BD-4A25-AA76-225058F07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1835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D3216-8ABC-4B58-AC63-3171A762B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48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0840" y="1600200"/>
            <a:ext cx="399348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0200"/>
            <a:ext cx="399348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E2A78-513F-41B3-97EE-58A0D625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48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0840" y="1600200"/>
            <a:ext cx="399348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0840" y="3940200"/>
            <a:ext cx="399348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3C1CA-DB4D-4561-A374-AE961AE2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48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0840" y="1600200"/>
            <a:ext cx="399348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0200"/>
            <a:ext cx="81835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66D5A-ACFE-481A-B6EA-6B68FB98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1835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08764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.11.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08764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03CD4-6E99-4E67-9F3B-135B8B7B7B7B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019160" y="1224000"/>
            <a:ext cx="72612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беспечение социально – психологического благополучия детей  </a:t>
            </a:r>
            <a:r>
              <a:rPr b="1" lang="ru-RU" sz="3200" spc="-1" strike="noStrike">
                <a:solidFill>
                  <a:srgbClr val="2d2db9"/>
                </a:solidFill>
                <a:latin typeface="Times New Roman"/>
              </a:rPr>
              <a:t>раннего возраста </a:t>
            </a:r>
            <a:r>
              <a:rPr b="1" lang="ru-RU" sz="32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в период адаптации к детскому саду </a:t>
            </a:r>
            <a:r>
              <a:rPr b="1" lang="ru-RU" sz="3200" spc="-1" strike="noStrike">
                <a:solidFill>
                  <a:srgbClr val="2d2db9"/>
                </a:solidFill>
                <a:latin typeface="Times New Roman"/>
              </a:rPr>
              <a:t> с применением метода анималотерап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11640" y="5040360"/>
            <a:ext cx="5329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ставитель: Шапкина Светлана Юрьевн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спитатель д/с № 50 «Кубик-Рубик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20720" y="1246320"/>
            <a:ext cx="7808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едагогические средства в работе по методу анималотерап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1640" y="2232000"/>
            <a:ext cx="8641080" cy="47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575"/>
              </a:spcAft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личные виды театров по произведениям со знакомым      персонажем – образом живот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792000" y="3510000"/>
            <a:ext cx="3168720" cy="23749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5065560" y="3546360"/>
            <a:ext cx="3430800" cy="257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03240" y="1152360"/>
            <a:ext cx="759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едагогические средства в работе по методу анималотерап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6360" y="2303640"/>
            <a:ext cx="7935840" cy="28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15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 музыкального материала в совместной музыкальной деятельности (песенки, танцы, муз. материал для слушания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матическая зарядка с использованием образов живот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016000" y="4535640"/>
            <a:ext cx="2303640" cy="1466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539640" y="2879640"/>
            <a:ext cx="2197080" cy="14353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2840040" y="1349280"/>
            <a:ext cx="1192320" cy="1746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444600" y="4464000"/>
            <a:ext cx="1211040" cy="1655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464000" y="1368360"/>
            <a:ext cx="503280" cy="4608720"/>
          </a:xfrm>
          <a:prstGeom prst="downArrow">
            <a:avLst>
              <a:gd name="adj1" fmla="val 50000"/>
              <a:gd name="adj2" fmla="val 228934"/>
            </a:avLst>
          </a:prstGeom>
          <a:solidFill>
            <a:srgbClr val="99ffff"/>
          </a:solidFill>
          <a:ln cap="sq" w="381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40360" y="1224000"/>
            <a:ext cx="2087640" cy="1441440"/>
          </a:xfrm>
          <a:prstGeom prst="irregularSeal2">
            <a:avLst/>
          </a:prstGeom>
          <a:solidFill>
            <a:srgbClr val="99ffff"/>
          </a:solidFill>
          <a:ln cap="sq" w="381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9080" rIns="109080" tIns="64080" bIns="640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гресс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08720" y="1944720"/>
            <a:ext cx="2449440" cy="1584360"/>
          </a:xfrm>
          <a:prstGeom prst="irregularSeal2">
            <a:avLst/>
          </a:prstGeom>
          <a:solidFill>
            <a:srgbClr val="99ffff"/>
          </a:solidFill>
          <a:ln cap="sq" w="381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9080" rIns="109080" tIns="64080" bIns="640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ышен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евож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896000" y="3384720"/>
            <a:ext cx="2663640" cy="1584000"/>
          </a:xfrm>
          <a:prstGeom prst="irregularSeal2">
            <a:avLst/>
          </a:prstGeom>
          <a:solidFill>
            <a:srgbClr val="99ffff"/>
          </a:solidFill>
          <a:ln cap="sq" w="381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х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551640" y="4680000"/>
            <a:ext cx="2158920" cy="1584360"/>
          </a:xfrm>
          <a:prstGeom prst="irregularSeal2">
            <a:avLst/>
          </a:prstGeom>
          <a:solidFill>
            <a:srgbClr val="99ffff"/>
          </a:solidFill>
          <a:ln cap="sq" w="381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9080" rIns="109080" tIns="64080" bIns="640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хожд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оциу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>
            <a:off x="700200" y="1511280"/>
            <a:ext cx="1819080" cy="106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600" y="12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584360" y="1728720"/>
            <a:ext cx="6408720" cy="31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Arial"/>
              </a:rPr>
              <a:t>СПАСИБО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Arial"/>
              </a:rPr>
              <a:t>З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Arial"/>
              </a:rPr>
              <a:t>ВНИМАНИ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19160" y="1224000"/>
            <a:ext cx="72612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1640" y="5040360"/>
            <a:ext cx="532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30640" y="946080"/>
            <a:ext cx="30686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Адаптац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6600" y="1584360"/>
            <a:ext cx="796284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сс привыкания и приспособления к изменяющимся условиям окружающей среды в том числе социаль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71640" y="2770200"/>
            <a:ext cx="58672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Социальная адаптац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3500280"/>
            <a:ext cx="7962840" cy="28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хождение ребенка в коллектив сверстников в социальную группу, принятие норм, правил поведения существующие в обществе, приспособление к условиям пребывания в процессе которого формируется самосознание и ролевое поведение, способность к самоконтролю, самообслуживанию, адекватных связей с окружающи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670040" y="2992320"/>
            <a:ext cx="59040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ранний возрас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48360" y="1224000"/>
            <a:ext cx="3095640" cy="2087640"/>
          </a:xfrm>
          <a:prstGeom prst="irregularSeal2">
            <a:avLst/>
          </a:prstGeom>
          <a:solidFill>
            <a:srgbClr val="99ffff"/>
          </a:solidFill>
          <a:ln cap="sq" w="381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681960" y="2022480"/>
            <a:ext cx="11667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трах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24360" y="863640"/>
            <a:ext cx="3240000" cy="1944720"/>
          </a:xfrm>
          <a:prstGeom prst="irregularSeal2">
            <a:avLst/>
          </a:prstGeom>
          <a:solidFill>
            <a:srgbClr val="99ffff"/>
          </a:solidFill>
          <a:ln cap="sq" w="381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9080" rIns="109080" tIns="64080" bIns="640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вышенн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евож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2960" y="1728720"/>
            <a:ext cx="2880000" cy="1944720"/>
          </a:xfrm>
          <a:prstGeom prst="irregularSeal2">
            <a:avLst/>
          </a:prstGeom>
          <a:solidFill>
            <a:srgbClr val="99ffff"/>
          </a:solidFill>
          <a:ln cap="sq" w="381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9080" rIns="109080" tIns="64080" bIns="640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гресс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63640" y="3816360"/>
            <a:ext cx="3724200" cy="2376360"/>
          </a:xfrm>
          <a:prstGeom prst="irregularSeal2">
            <a:avLst/>
          </a:prstGeom>
          <a:solidFill>
            <a:srgbClr val="99ffff"/>
          </a:solidFill>
          <a:ln cap="sq" w="381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9080" rIns="109080" tIns="64080" bIns="640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езадаптация в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ведени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96000" y="3527280"/>
            <a:ext cx="3311280" cy="2664000"/>
          </a:xfrm>
          <a:prstGeom prst="irregularSeal2">
            <a:avLst/>
          </a:prstGeom>
          <a:solidFill>
            <a:srgbClr val="99ffff"/>
          </a:solidFill>
          <a:ln cap="sq" w="381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9080" rIns="109080" tIns="64080" bIns="640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хождение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социу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644920" y="1077840"/>
            <a:ext cx="49147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Анималотерап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6360" y="1871640"/>
            <a:ext cx="8136000" cy="16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 латинского «animal» - животное)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д терапии, использующий животных или их образы для оказания психотерапевтической помощ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592360" y="3816360"/>
            <a:ext cx="1584360" cy="1187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805200" y="511164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896000" y="3743280"/>
            <a:ext cx="1728720" cy="12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152360" y="1008000"/>
            <a:ext cx="7140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Метод анималотерапии включает в себ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63640" y="1798560"/>
            <a:ext cx="3384360" cy="1944720"/>
          </a:xfrm>
          <a:prstGeom prst="rect">
            <a:avLst/>
          </a:prstGeom>
          <a:solidFill>
            <a:srgbClr val="99ffff"/>
          </a:solidFill>
          <a:ln cap="sq" w="381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48280" y="1798560"/>
            <a:ext cx="3238560" cy="1944720"/>
          </a:xfrm>
          <a:prstGeom prst="rect">
            <a:avLst/>
          </a:prstGeom>
          <a:solidFill>
            <a:srgbClr val="99ffff"/>
          </a:solidFill>
          <a:ln cap="sq" w="381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68720" y="3959280"/>
            <a:ext cx="3095640" cy="1871640"/>
          </a:xfrm>
          <a:prstGeom prst="rect">
            <a:avLst/>
          </a:prstGeom>
          <a:solidFill>
            <a:srgbClr val="99ffff"/>
          </a:solidFill>
          <a:ln cap="sq" w="381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73080" y="1800360"/>
            <a:ext cx="3167280" cy="19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казание психологической помощи через взаимодействие с животным или его символ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1800360"/>
            <a:ext cx="2808360" cy="19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5000"/>
              </a:lnSpc>
              <a:spcBef>
                <a:spcPts val="5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крывает дополнительные возможности в поведении и личности дет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68720" y="3959280"/>
            <a:ext cx="30956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огащает социально-адаптированный поведенческий репертуар через наблюд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92280" y="957240"/>
            <a:ext cx="597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Инструментарий анималотерап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0360" y="2340000"/>
            <a:ext cx="2519280" cy="1044720"/>
          </a:xfrm>
          <a:prstGeom prst="ellipse">
            <a:avLst/>
          </a:prstGeom>
          <a:solidFill>
            <a:srgbClr val="cfe7f5"/>
          </a:solidFill>
          <a:ln cap="sq"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6360" y="2397240"/>
            <a:ext cx="210492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Символы животных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664000" y="2006280"/>
            <a:ext cx="1439640" cy="522360"/>
          </a:xfrm>
          <a:prstGeom prst="line">
            <a:avLst/>
          </a:prstGeom>
          <a:ln cap="sq" w="29160">
            <a:solidFill>
              <a:srgbClr val="0000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81440" y="2879640"/>
            <a:ext cx="1187280" cy="71640"/>
          </a:xfrm>
          <a:prstGeom prst="line">
            <a:avLst/>
          </a:prstGeom>
          <a:ln cap="sq" w="29160">
            <a:solidFill>
              <a:srgbClr val="0000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19280" y="3240000"/>
            <a:ext cx="1584360" cy="936720"/>
          </a:xfrm>
          <a:prstGeom prst="line">
            <a:avLst/>
          </a:prstGeom>
          <a:ln cap="sq" w="29160">
            <a:solidFill>
              <a:srgbClr val="0000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03640" y="1620720"/>
            <a:ext cx="2735280" cy="720720"/>
          </a:xfrm>
          <a:prstGeom prst="rect">
            <a:avLst/>
          </a:prstGeom>
          <a:solidFill>
            <a:srgbClr val="cfe7f5"/>
          </a:solidFill>
          <a:ln cap="sq"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48000" y="1584360"/>
            <a:ext cx="259236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разы животных, рисун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68720" y="2665440"/>
            <a:ext cx="2735280" cy="720720"/>
          </a:xfrm>
          <a:prstGeom prst="rect">
            <a:avLst/>
          </a:prstGeom>
          <a:solidFill>
            <a:srgbClr val="cfe7f5"/>
          </a:solidFill>
          <a:ln cap="sq"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59280" y="2808360"/>
            <a:ext cx="1438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1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груш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71960" y="3711600"/>
            <a:ext cx="3235320" cy="785880"/>
          </a:xfrm>
          <a:prstGeom prst="rect">
            <a:avLst/>
          </a:prstGeom>
          <a:solidFill>
            <a:srgbClr val="cfe7f5"/>
          </a:solidFill>
          <a:ln cap="sq"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1640" y="4967280"/>
            <a:ext cx="2519640" cy="1079640"/>
          </a:xfrm>
          <a:prstGeom prst="ellipse">
            <a:avLst/>
          </a:prstGeom>
          <a:solidFill>
            <a:srgbClr val="cfe7f5"/>
          </a:solidFill>
          <a:ln cap="sq"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19280" y="5167440"/>
            <a:ext cx="20160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ящие животные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32360" y="3747960"/>
            <a:ext cx="32176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ерои литературных и сказочных произвед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079640" y="1008000"/>
            <a:ext cx="67672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едагогические средства в работе метода анималотерап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5240" y="2124000"/>
            <a:ext cx="784548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801800" y="2448000"/>
            <a:ext cx="1440" cy="5763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7280" y="3024360"/>
            <a:ext cx="1944720" cy="1081080"/>
          </a:xfrm>
          <a:prstGeom prst="ellipse">
            <a:avLst/>
          </a:prstGeom>
          <a:solidFill>
            <a:srgbClr val="cfe7f5"/>
          </a:solidFill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720" rIns="108720" tIns="63720" bIns="63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рагмент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епереда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48000" y="2448000"/>
            <a:ext cx="1440" cy="172872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7640" y="4176720"/>
            <a:ext cx="2538360" cy="1295280"/>
          </a:xfrm>
          <a:prstGeom prst="ellipse">
            <a:avLst/>
          </a:prstGeom>
          <a:solidFill>
            <a:srgbClr val="cfe7f5"/>
          </a:solidFill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720" rIns="108720" tIns="63720" bIns="63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льтфиль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05440" y="2448000"/>
            <a:ext cx="1440" cy="86364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08360" y="3311640"/>
            <a:ext cx="2448000" cy="1439640"/>
          </a:xfrm>
          <a:prstGeom prst="ellipse">
            <a:avLst/>
          </a:prstGeom>
          <a:solidFill>
            <a:srgbClr val="cfe7f5"/>
          </a:solidFill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9080" rIns="109080" tIns="64080" bIns="640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зент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43640" y="2448000"/>
            <a:ext cx="1440" cy="2305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03640" y="4824360"/>
            <a:ext cx="2665440" cy="1440000"/>
          </a:xfrm>
          <a:prstGeom prst="ellipse">
            <a:avLst/>
          </a:prstGeom>
          <a:solidFill>
            <a:srgbClr val="cfe7f5"/>
          </a:solidFill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9080" rIns="109080" tIns="64080" bIns="640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ументаль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рисов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913440" y="2448000"/>
            <a:ext cx="1800" cy="7920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688000" y="3240000"/>
            <a:ext cx="3168720" cy="1871640"/>
          </a:xfrm>
          <a:prstGeom prst="ellipse">
            <a:avLst/>
          </a:prstGeom>
          <a:solidFill>
            <a:srgbClr val="cfe7f5"/>
          </a:solidFill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9080" rIns="109080" tIns="64080" bIns="640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еоряд различн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ображ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вот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применение ИК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68360" y="1944720"/>
            <a:ext cx="5994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 использование видеоматериалов: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40000" y="2448000"/>
            <a:ext cx="5832360" cy="144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079640" y="1079640"/>
            <a:ext cx="676728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едагогические средства в работе по методу анималотерап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6360" y="2087640"/>
            <a:ext cx="95756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дактические игры, в содержание которых входит                              образ знакомого животн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52" idx="3"/>
            <a:endCxn id="152" idx="3"/>
          </p:cNvCxnSpPr>
          <p:nvPr/>
        </p:nvCxnSpPr>
        <p:spPr>
          <a:xfrm rot="5400000">
            <a:off x="9155880" y="3428640"/>
            <a:ext cx="2160" cy="2520"/>
          </a:xfrm>
          <a:prstGeom prst="bentConnector2">
            <a:avLst/>
          </a:prstGeom>
          <a:ln cap="sq"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399960" y="2952720"/>
            <a:ext cx="824076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079640" y="1224000"/>
            <a:ext cx="676728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едагогические средства в работе по методу анималотерап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3280" y="2232000"/>
            <a:ext cx="8280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использование художественной литературы с                 образами животных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581280" y="3170160"/>
            <a:ext cx="1890720" cy="2517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8</TotalTime>
  <Application>LibreOffice/7.4.7.2$Linux_X86_64 LibreOffice_project/40$Build-2</Application>
  <AppVersion>15.0000</AppVersion>
  <Company>Grizli77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07:40:49Z</dcterms:created>
  <dc:creator/>
  <dc:description/>
  <dc:language>en-US</dc:language>
  <cp:lastModifiedBy/>
  <dcterms:modified xsi:type="dcterms:W3CDTF">2020-04-02T08:45:53Z</dcterms:modified>
  <cp:revision>13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19</vt:r8>
  </property>
</Properties>
</file>