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27E4-4945-4914-9C71-A43B03872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DD49-B182-42E0-A72A-C13A8DD6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9058-625F-4241-B3E6-B8B9A6F0A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F539-1301-4627-8D90-87D64BF9E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3CA4-9057-4F95-B661-C4492FC5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82F0-0479-4985-8C77-16303BE8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62CD-0FCC-4003-86F0-E43E3CDA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B85D-379B-4308-A4F8-A8742222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3C98-2BE6-49C4-A583-E394F07A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5E2B-9FD6-497E-869E-9671D6FC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788A-8C3A-45D8-84A9-728DD977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0101-8C9D-40CE-A44E-E06178AB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24E9-63DC-42C7-9EBB-830ABB5F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996F-09CD-42ED-BE46-9040E7E9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03C5-5184-4561-88A2-78C1228A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7941-0CF8-4452-A40C-F73F6DDA2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17EE-DF28-4A08-96C2-FE6F5A79E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6CEF-0421-4674-9735-55463F35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0F81-DA81-40DF-B9F6-CAE96340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D28C-953E-48A9-B764-5CC18531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9F9D-9066-45AE-9D49-2D2F6FCC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1F20-AF71-4678-A288-1979D199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2E10-8372-48DA-AEE2-62103FF3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4861-F1D6-4DE5-A79B-81E14013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3178-6217-4AEF-A87B-84D6B47970E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7CC2-577A-4330-991C-410AF3DFEF0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7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4. Предписывающие знаки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3886200" cy="44197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ий признак этих знаков – круг, на голубом фоне которого белой краской нанесены стрелки, виды транспортных средств, фигуры  пешеходов, циф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и разрешают движение только в определенном направлении, с определенной скор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5. Информационно – 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                  указательные знак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3886200" cy="46479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3809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и имеют  форму квадратов или прямоуг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писи на  белом фоне - для данного населенного пунк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зеленом фоне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автомагистра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голубом  фоне –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прочим дорогам за пределами населенного пун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1286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6. Знаки сервис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и информируют о расположении на пути следования соответствующих объектов  серви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щий признак – прямоугольник с голубым фоном с вписанным белым квадра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белом квадрате рисунок,  характеризующий вид серви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и устанавливаются  непосредственно  у самих объектов, на расстоянии от них, указанном на нижней части знака, или у мест поворота к н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4495680" y="1371600"/>
            <a:ext cx="3886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7. Знаки дополнительной 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   информации (таблички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3886200" cy="44197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и знаки служат дополнительным средством информ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и уточняют  или ограничивают действия других зна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опросы  по теме.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чем на улицах и дорогах устанавливают дорожные зна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ую форму и цвет имеют предупредительные зна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ую форму и цвет имеют предписывающие и информационно- указательные зна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рудуются ли дорожными знаками железнодорожные переезды, пешеходные переходы, перекрестки дорог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ли  дорожный знак, предупреждающий водителей о пешеходах-детя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пиши название зна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1" descr=""/>
          <p:cNvPicPr/>
          <p:nvPr/>
        </p:nvPicPr>
        <p:blipFill>
          <a:blip r:embed="rId1"/>
          <a:stretch/>
        </p:blipFill>
        <p:spPr>
          <a:xfrm>
            <a:off x="5638680" y="4191120"/>
            <a:ext cx="2362320" cy="1904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"/>
          <p:cNvPicPr/>
          <p:nvPr/>
        </p:nvPicPr>
        <p:blipFill>
          <a:blip r:embed="rId2"/>
          <a:stretch/>
        </p:blipFill>
        <p:spPr>
          <a:xfrm>
            <a:off x="838080" y="1371600"/>
            <a:ext cx="2971800" cy="2362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"/>
          <p:cNvPicPr/>
          <p:nvPr/>
        </p:nvPicPr>
        <p:blipFill>
          <a:blip r:embed="rId3"/>
          <a:stretch/>
        </p:blipFill>
        <p:spPr>
          <a:xfrm>
            <a:off x="5410080" y="13716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"/>
          <p:cNvPicPr/>
          <p:nvPr/>
        </p:nvPicPr>
        <p:blipFill>
          <a:blip r:embed="rId4"/>
          <a:stretch/>
        </p:blipFill>
        <p:spPr>
          <a:xfrm>
            <a:off x="1371600" y="3886200"/>
            <a:ext cx="1933560" cy="1933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"/>
          <p:cNvPicPr/>
          <p:nvPr/>
        </p:nvPicPr>
        <p:blipFill>
          <a:blip r:embed="rId5"/>
          <a:stretch/>
        </p:blipFill>
        <p:spPr>
          <a:xfrm>
            <a:off x="990720" y="1523880"/>
            <a:ext cx="2971800" cy="2362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2" descr=""/>
          <p:cNvPicPr/>
          <p:nvPr/>
        </p:nvPicPr>
        <p:blipFill>
          <a:blip r:embed="rId6"/>
          <a:stretch/>
        </p:blipFill>
        <p:spPr>
          <a:xfrm>
            <a:off x="990720" y="1523880"/>
            <a:ext cx="2971800" cy="2362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"/>
          <p:cNvPicPr/>
          <p:nvPr/>
        </p:nvPicPr>
        <p:blipFill>
          <a:blip r:embed="rId7"/>
          <a:stretch/>
        </p:blipFill>
        <p:spPr>
          <a:xfrm>
            <a:off x="1066680" y="1371600"/>
            <a:ext cx="2971800" cy="23623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8"/>
          <a:stretch/>
        </p:blipFill>
        <p:spPr>
          <a:xfrm>
            <a:off x="5638680" y="4191120"/>
            <a:ext cx="2362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пиши название зна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1768320" cy="1981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"/>
          <p:cNvPicPr/>
          <p:nvPr/>
        </p:nvPicPr>
        <p:blipFill>
          <a:blip r:embed="rId2"/>
          <a:stretch/>
        </p:blipFill>
        <p:spPr>
          <a:xfrm>
            <a:off x="1371600" y="4029120"/>
            <a:ext cx="2133720" cy="1990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"/>
          <p:cNvPicPr/>
          <p:nvPr/>
        </p:nvPicPr>
        <p:blipFill>
          <a:blip r:embed="rId3"/>
          <a:stretch/>
        </p:blipFill>
        <p:spPr>
          <a:xfrm>
            <a:off x="1351080" y="1600200"/>
            <a:ext cx="2401920" cy="2133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"/>
          <p:cNvPicPr/>
          <p:nvPr/>
        </p:nvPicPr>
        <p:blipFill>
          <a:blip r:embed="rId4"/>
          <a:stretch/>
        </p:blipFill>
        <p:spPr>
          <a:xfrm>
            <a:off x="5638680" y="3895560"/>
            <a:ext cx="1905120" cy="21146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0"/>
          <p:cNvSpPr/>
          <p:nvPr/>
        </p:nvSpPr>
        <p:spPr>
          <a:xfrm>
            <a:off x="-4056840" y="1675800"/>
            <a:ext cx="54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685800" y="4037760"/>
            <a:ext cx="75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4343400" y="1675800"/>
            <a:ext cx="75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4495680" y="4037760"/>
            <a:ext cx="75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пиши название зна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2210040" cy="2133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2"/>
          <a:stretch/>
        </p:blipFill>
        <p:spPr>
          <a:xfrm>
            <a:off x="1338120" y="3886200"/>
            <a:ext cx="2428920" cy="2133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"/>
          <p:cNvPicPr/>
          <p:nvPr/>
        </p:nvPicPr>
        <p:blipFill>
          <a:blip r:embed="rId3"/>
          <a:stretch/>
        </p:blipFill>
        <p:spPr>
          <a:xfrm>
            <a:off x="5376960" y="1600200"/>
            <a:ext cx="2428920" cy="2133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"/>
          <p:cNvPicPr/>
          <p:nvPr/>
        </p:nvPicPr>
        <p:blipFill>
          <a:blip r:embed="rId4"/>
          <a:stretch/>
        </p:blipFill>
        <p:spPr>
          <a:xfrm>
            <a:off x="5376960" y="3886200"/>
            <a:ext cx="2428920" cy="21337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1"/>
          <p:cNvSpPr/>
          <p:nvPr/>
        </p:nvSpPr>
        <p:spPr>
          <a:xfrm>
            <a:off x="4878720" y="403776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2"/>
          <p:cNvSpPr/>
          <p:nvPr/>
        </p:nvSpPr>
        <p:spPr>
          <a:xfrm>
            <a:off x="4800960" y="175176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3"/>
          <p:cNvSpPr/>
          <p:nvPr/>
        </p:nvSpPr>
        <p:spPr>
          <a:xfrm>
            <a:off x="839160" y="411408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4"/>
          <p:cNvSpPr/>
          <p:nvPr/>
        </p:nvSpPr>
        <p:spPr>
          <a:xfrm>
            <a:off x="610200" y="167580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начение дорожных знаков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3276720" cy="44197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ый водитель, велосипедист должен быть предупрежден о возможных опасностях в пути. Для этого по краям дорог, на обочине или тротуаре улиц устанавливают  либо подвешивают на тросах знаки, смысл которых легко понять. Эти знаки приведе-ны в соответствие с между-народной «Конвенцией о дорожных знаках и сигналах», выработанной в Вене в 1968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7 групп знаков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редупреждающие зна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Знаки приорит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Запрещающие знаки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Предписывающие знаки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Информационно-указа-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ьные знаки .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Знаки сервиса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Знаки дополнительной информации (табличк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ла движения запрещают снимать, повреждать или загораживать дорожные зна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ьники должны сообщать органам Госавтоинспекции о всех замеченных неисправностях средств организации и регулирования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1. Предупреждающие зна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3885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инство предупреждающих знаков имеют форму треугольника, обращенного вершиной вверх, с красной каймой и нарисованным на белом фоне символ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и знаки предупреждают  об опасных участках пу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ысл предупреждения знаков легко установить из их названия и рассмотрения изображенных на них симво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предупредительные знаки легко сгруппировать по признакам предупреж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"/>
          <p:cNvPicPr/>
          <p:nvPr/>
        </p:nvPicPr>
        <p:blipFill>
          <a:blip r:embed="rId1"/>
          <a:stretch/>
        </p:blipFill>
        <p:spPr>
          <a:xfrm>
            <a:off x="2525760" y="1600200"/>
            <a:ext cx="4092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ересечение дорог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10" descr=""/>
          <p:cNvPicPr/>
          <p:nvPr/>
        </p:nvPicPr>
        <p:blipFill>
          <a:blip r:embed="rId1"/>
          <a:stretch/>
        </p:blipFill>
        <p:spPr>
          <a:xfrm>
            <a:off x="1066680" y="3886200"/>
            <a:ext cx="2667240" cy="1820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"/>
          <p:cNvPicPr/>
          <p:nvPr/>
        </p:nvPicPr>
        <p:blipFill>
          <a:blip r:embed="rId2"/>
          <a:stretch/>
        </p:blipFill>
        <p:spPr>
          <a:xfrm>
            <a:off x="990720" y="1600200"/>
            <a:ext cx="2438280" cy="1844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"/>
          <p:cNvPicPr/>
          <p:nvPr/>
        </p:nvPicPr>
        <p:blipFill>
          <a:blip r:embed="rId3"/>
          <a:stretch/>
        </p:blipFill>
        <p:spPr>
          <a:xfrm>
            <a:off x="5334120" y="3886200"/>
            <a:ext cx="2514600" cy="1852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"/>
          <p:cNvPicPr/>
          <p:nvPr/>
        </p:nvPicPr>
        <p:blipFill>
          <a:blip r:embed="rId4"/>
          <a:stretch/>
        </p:blipFill>
        <p:spPr>
          <a:xfrm>
            <a:off x="4876920" y="1627200"/>
            <a:ext cx="289548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Возможность появления на дороге препятствий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286000" cy="1828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"/>
          <p:cNvPicPr/>
          <p:nvPr/>
        </p:nvPicPr>
        <p:blipFill>
          <a:blip r:embed="rId2"/>
          <a:stretch/>
        </p:blipFill>
        <p:spPr>
          <a:xfrm>
            <a:off x="685800" y="3886200"/>
            <a:ext cx="1981080" cy="2133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"/>
          <p:cNvPicPr/>
          <p:nvPr/>
        </p:nvPicPr>
        <p:blipFill>
          <a:blip r:embed="rId3"/>
          <a:stretch/>
        </p:blipFill>
        <p:spPr>
          <a:xfrm>
            <a:off x="6400800" y="3886200"/>
            <a:ext cx="2209680" cy="1600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"/>
          <p:cNvPicPr/>
          <p:nvPr/>
        </p:nvPicPr>
        <p:blipFill>
          <a:blip r:embed="rId4"/>
          <a:stretch/>
        </p:blipFill>
        <p:spPr>
          <a:xfrm>
            <a:off x="609480" y="1371600"/>
            <a:ext cx="2832120" cy="1981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"/>
          <p:cNvPicPr/>
          <p:nvPr/>
        </p:nvPicPr>
        <p:blipFill>
          <a:blip r:embed="rId5"/>
          <a:stretch/>
        </p:blipFill>
        <p:spPr>
          <a:xfrm>
            <a:off x="3657600" y="1371600"/>
            <a:ext cx="2309760" cy="1816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"/>
          <p:cNvPicPr/>
          <p:nvPr/>
        </p:nvPicPr>
        <p:blipFill>
          <a:blip r:embed="rId6"/>
          <a:stretch/>
        </p:blipFill>
        <p:spPr>
          <a:xfrm>
            <a:off x="3581280" y="3733920"/>
            <a:ext cx="2324160" cy="17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Изменение направления дороги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243864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5867280" y="1676520"/>
            <a:ext cx="2362320" cy="1904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3"/>
          <a:stretch/>
        </p:blipFill>
        <p:spPr>
          <a:xfrm>
            <a:off x="1143000" y="3886200"/>
            <a:ext cx="2590920" cy="2133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"/>
          <p:cNvPicPr/>
          <p:nvPr/>
        </p:nvPicPr>
        <p:blipFill>
          <a:blip r:embed="rId4"/>
          <a:stretch/>
        </p:blipFill>
        <p:spPr>
          <a:xfrm>
            <a:off x="6019920" y="3886200"/>
            <a:ext cx="2438280" cy="1916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5"/>
          <a:stretch/>
        </p:blipFill>
        <p:spPr>
          <a:xfrm>
            <a:off x="3657600" y="3276720"/>
            <a:ext cx="24382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2. Знаки приоритет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925040" cy="35812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4952880"/>
            <a:ext cx="792504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щего признака у этих знаков н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и имеют различную форму и окрас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и указывают на очередность проезда нерегулируемых перекрест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имущественное право переезда перекрестка имеет транспортное средство, движущееся по главной дорог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3. Запрещающие зна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ий признак – круг с красной каймой и нарисованный на белом фоне симво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и знаки ограничивают или запрещают движение  транспортных средств или пешех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и группируются  по характеру запрещ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86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мара</cp:lastModifiedBy>
  <dcterms:modified xsi:type="dcterms:W3CDTF">2010-03-18T18:18:3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