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81D-233A-4C1D-8260-035E0E3E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DAD-F4FB-49EB-A90B-5BDCC946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CF7-8318-4BC0-B894-4F64FDF6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70E-B897-46BB-AE3A-66E8B0E4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7165-AAED-4126-858C-70CEDBA2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9360-0548-4532-99E0-0DB6B23F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E760-BE0C-4576-B901-C3152A69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4654-7010-4E2E-980C-F3926665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D429-0E45-47DB-88F9-E5A30298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F0AA-59E3-40F0-8E63-3FE1D0CF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985B-699A-480B-B970-2480200A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2E2-2B20-4577-9A2D-D72984A3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EFD3-88CD-4176-A61F-70ECD2C9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FAAE-1DA3-477B-9506-890F02FE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15A0-51B7-49E4-A337-6E271E85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041F-A35E-4B75-97F8-6DBEFCDC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EF2F-2AC6-4F2C-B8CF-7894B08C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23E-E2C7-429A-994E-F9AEB1D9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8B6-DCFC-4448-B835-A3CFBEC3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CEF-84B2-4799-A7FA-E49F9673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98C-A6C8-461F-8254-BB14E4F0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479-554A-49A3-B12B-D9B1CC9D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78D-0D59-4460-9992-46C899CD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4B4-7EBE-4A9B-82E3-A2FD9C34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8ABA-D36C-45D4-986D-E199E3F10C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0517-D0C8-4029-B60C-BEE4B5DBFA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7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4. Предписывающие знак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886200" cy="4419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признак этих знаков – круг, на голубом фоне которого белой краской нанесены стрелки, виды транспортных средств, фигуры  пешеходов,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и разрешают движение только в определенном направлении, с определенной скор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5. Информационно –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       указательные знак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886200" cy="4647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и имеют  форму квадратов или прямоуг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писи на  белом фоне - для данного населенного пун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зеленом фон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автомагистра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голубом  фоне –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прочим дорогам за пределами населенного пун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1286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6. Знаки сервис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и информируют о расположении на пути следования соответствующих объектов  серви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й признак – прямоугольник с голубым фоном с вписанным белым квадра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елом квадрате рисунок,  характеризующий вид серви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и устанавливаются  непосредственно  у самих объектов, на расстоянии от них, указанном на нижней части знака, или у мест поворота к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4495680" y="13716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7. Знаки дополнительной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информации (таблички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886200" cy="44197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 знаки служат дополнительным средством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уточняют  или ограничивают действия других зна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ы  по теме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чем на улицах и дорогах устанавливают дорожные зн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форму и цвет имеют предупредительные зн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форму и цвет имеют предписывающие и информационно- указательные зн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рудуются ли дорожными знаками железнодорожные переезды, пешеходные переходы, перекрестки доро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ли  дорожный знак, предупреждающий водителей о пешеходах-дет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пиши название зна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2362320" cy="1904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3"/>
          <a:stretch/>
        </p:blipFill>
        <p:spPr>
          <a:xfrm>
            <a:off x="5410080" y="1371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"/>
          <p:cNvPicPr/>
          <p:nvPr/>
        </p:nvPicPr>
        <p:blipFill>
          <a:blip r:embed="rId4"/>
          <a:stretch/>
        </p:blipFill>
        <p:spPr>
          <a:xfrm>
            <a:off x="1371600" y="3886200"/>
            <a:ext cx="1933560" cy="1933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6"/>
          <a:stretch/>
        </p:blipFill>
        <p:spPr>
          <a:xfrm>
            <a:off x="990720" y="152388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7"/>
          <a:stretch/>
        </p:blipFill>
        <p:spPr>
          <a:xfrm>
            <a:off x="1066680" y="137160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8"/>
          <a:stretch/>
        </p:blipFill>
        <p:spPr>
          <a:xfrm>
            <a:off x="5638680" y="4191120"/>
            <a:ext cx="2362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пиши название зна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1768320" cy="1981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1371600" y="4029120"/>
            <a:ext cx="2133720" cy="1990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3"/>
          <a:stretch/>
        </p:blipFill>
        <p:spPr>
          <a:xfrm>
            <a:off x="1351080" y="1600200"/>
            <a:ext cx="2401920" cy="213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4"/>
          <a:stretch/>
        </p:blipFill>
        <p:spPr>
          <a:xfrm>
            <a:off x="5638680" y="3895560"/>
            <a:ext cx="1905120" cy="2114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0"/>
          <p:cNvSpPr/>
          <p:nvPr/>
        </p:nvSpPr>
        <p:spPr>
          <a:xfrm>
            <a:off x="-4056840" y="1675800"/>
            <a:ext cx="54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685800" y="403776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343400" y="167580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495680" y="403776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пиши название зна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2210040" cy="2133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2"/>
          <a:stretch/>
        </p:blipFill>
        <p:spPr>
          <a:xfrm>
            <a:off x="1338120" y="3886200"/>
            <a:ext cx="2428920" cy="2133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3"/>
          <a:stretch/>
        </p:blipFill>
        <p:spPr>
          <a:xfrm>
            <a:off x="5376960" y="1600200"/>
            <a:ext cx="2428920" cy="2133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"/>
          <p:cNvPicPr/>
          <p:nvPr/>
        </p:nvPicPr>
        <p:blipFill>
          <a:blip r:embed="rId4"/>
          <a:stretch/>
        </p:blipFill>
        <p:spPr>
          <a:xfrm>
            <a:off x="5376960" y="3886200"/>
            <a:ext cx="2428920" cy="2133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1"/>
          <p:cNvSpPr/>
          <p:nvPr/>
        </p:nvSpPr>
        <p:spPr>
          <a:xfrm>
            <a:off x="4878720" y="40377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4800960" y="175176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839160" y="41140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610200" y="167580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ение дорожных знак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27672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водитель, велосипедист должен быть предупрежден о возможных опасностях в пути. Для этого по краям дорог, на обочине или тротуаре улиц устанавливают  либо подвешивают на тросах знаки, смысл которых легко понять. Эти знаки приведе-ны в соответствие с между-народной «Конвенцией о дорожных знаках и сигналах», выработанной в Вене в 1968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7 групп знаков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едупреждающие зна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Знаки приорит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Запрещающие знак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редписывающие знак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нформационно-указа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ные знаки 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Знаки сервис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Знаки дополнительной информации (табличк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движения запрещают снимать, повреждать или загораживать дорожные зн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ики должны сообщать органам Госавтоинспекции о всех замеченных неисправностях средств организации и регулирования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1. Предупреждающие зна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предупреждающих знаков имеют форму треугольника, обращенного вершиной вверх, с красной каймой и нарисованным на белом фоне симво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знаки предупреждают  об опасных участках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ысл предупреждения знаков легко установить из их названия и рассмотрения изображенных на них симво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предупредительные знаки легко сгруппировать по признакам предупре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2525760" y="1600200"/>
            <a:ext cx="4092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ересечение дорог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2667240" cy="182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2438280" cy="184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/>
          <p:cNvPicPr/>
          <p:nvPr/>
        </p:nvPicPr>
        <p:blipFill>
          <a:blip r:embed="rId3"/>
          <a:stretch/>
        </p:blipFill>
        <p:spPr>
          <a:xfrm>
            <a:off x="5334120" y="3886200"/>
            <a:ext cx="2514600" cy="18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"/>
          <p:cNvPicPr/>
          <p:nvPr/>
        </p:nvPicPr>
        <p:blipFill>
          <a:blip r:embed="rId4"/>
          <a:stretch/>
        </p:blipFill>
        <p:spPr>
          <a:xfrm>
            <a:off x="4876920" y="1627200"/>
            <a:ext cx="28954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озможность появления на дороге препятствий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3"/>
          <a:stretch/>
        </p:blipFill>
        <p:spPr>
          <a:xfrm>
            <a:off x="6400800" y="3886200"/>
            <a:ext cx="220968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4"/>
          <a:stretch/>
        </p:blipFill>
        <p:spPr>
          <a:xfrm>
            <a:off x="609480" y="1371600"/>
            <a:ext cx="283212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5"/>
          <a:stretch/>
        </p:blipFill>
        <p:spPr>
          <a:xfrm>
            <a:off x="3657600" y="1371600"/>
            <a:ext cx="2309760" cy="181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6"/>
          <a:stretch/>
        </p:blipFill>
        <p:spPr>
          <a:xfrm>
            <a:off x="3581280" y="3733920"/>
            <a:ext cx="232416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менение направления дороги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243864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5867280" y="1676520"/>
            <a:ext cx="2362320" cy="1904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1143000" y="3886200"/>
            <a:ext cx="2590920" cy="213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>
            <a:off x="6019920" y="3886200"/>
            <a:ext cx="2438280" cy="1916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3657600" y="3276720"/>
            <a:ext cx="2438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2. Знаки приорите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3581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4952880"/>
            <a:ext cx="79250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его признака у этих знаков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имеют различную форму и окрас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указывают на очередность проезда нерегулируемых перекрес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имущественное право переезда перекрестка имеет транспортное средство, движущееся по главной доро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3. Запрещающие зна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признак – круг с красной каймой и нарисованный на белом фоне симв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знаки ограничивают или запрещают движение  транспортных средств или пеше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и группируются  по характеру запре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мара</cp:lastModifiedBy>
  <dcterms:modified xsi:type="dcterms:W3CDTF">2010-03-18T18:18:3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