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  <p:custShowLst>
    <p:custShow name="Произвольный показ 1" id="0">
      <p:sldLst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</p:sldLst>
    </p:custShow>
    <p:custShow name="Произвольный показ 2" id="1">
      <p:sldLst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FB19-F4CB-4031-9EC9-316A850DDA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99ED-9694-416F-A306-BFB38EFFAC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6AC3-9941-48C7-AF29-B14F37EE6D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9869-E17F-40C2-9C2A-27D524BA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AD35-3DB3-4171-9FE8-0641460B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4417-9833-4614-B5C5-FE855E2E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D865-0372-4118-924F-3C16EB0A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454-E2A2-4415-AB16-72DDBD0C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650C-BE9C-416B-A6D5-ABF05040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30D7-D0F8-4642-8459-54257070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438E-3AAC-4432-BEFF-89EF185A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4E37-7FDD-434F-9B50-6FDBE6C0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CD29-31DB-458E-9AD2-1D1BE043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67E-CB99-425B-ACE4-9851FA7B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62C-BF80-4907-B400-12124FDD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C479-31A5-48D3-BBBB-AA7B31434B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7802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/не проводит электрический 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связи, какие частицы связываю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(дистил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овод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ПС/ молеку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l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ухая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овод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/ прочно связанные и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(сухой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овод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ПС/молеку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l  +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/ свободные и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 +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ПС/ свободные и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овод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ПС/ молеку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49" name="TextBox 2"/>
          <p:cNvSpPr/>
          <p:nvPr/>
        </p:nvSpPr>
        <p:spPr>
          <a:xfrm>
            <a:off x="3143160" y="1285920"/>
            <a:ext cx="2214720" cy="369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143160" y="1987560"/>
            <a:ext cx="2286000" cy="369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071880" y="2857680"/>
            <a:ext cx="2428920" cy="369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143160" y="3844800"/>
            <a:ext cx="2000520" cy="37008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071880" y="4857840"/>
            <a:ext cx="1928880" cy="369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3143160" y="5786280"/>
            <a:ext cx="2428920" cy="37008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6143760" y="1143000"/>
            <a:ext cx="2286000" cy="369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6072120" y="1928880"/>
            <a:ext cx="2571840" cy="6426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6215040" y="2928960"/>
            <a:ext cx="2071800" cy="369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6072120" y="3786120"/>
            <a:ext cx="2357640" cy="9169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6215040" y="4786200"/>
            <a:ext cx="2928960" cy="6426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6215040" y="5572080"/>
            <a:ext cx="2428920" cy="6426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Screenshot-16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Screenshot-3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Screenshot-17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Screenshot-4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Screenshot-18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Screenshot-6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Screenshot-19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Screenshot-20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Screenshot-21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Screenshot-7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797200" y="1413000"/>
            <a:ext cx="354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по растворим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763640" y="22780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творимы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тв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588000" y="22780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раствори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50920" y="292572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роводят электрический                     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637080" y="292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е проводят электрический 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95280" y="4149720"/>
            <a:ext cx="1944720" cy="368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электрол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565440" y="4148280"/>
            <a:ext cx="201456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еэлектрол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403280" y="260280"/>
            <a:ext cx="684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Электролитическая диссоциация –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распад электролита на и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"/>
          <p:cNvSpPr/>
          <p:nvPr/>
        </p:nvSpPr>
        <p:spPr>
          <a:xfrm flipH="1">
            <a:off x="2843280" y="1989000"/>
            <a:ext cx="4334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 flipH="1">
            <a:off x="1476000" y="270828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133200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4643280" y="37879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1187280" y="46530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ионная        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1474920" y="530064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ионная         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3492360" y="46450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раствор сах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3492360" y="50007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пир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"/>
          <p:cNvSpPr/>
          <p:nvPr/>
        </p:nvSpPr>
        <p:spPr>
          <a:xfrm>
            <a:off x="5940360" y="1989000"/>
            <a:ext cx="1656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4"/>
          <p:cNvSpPr/>
          <p:nvPr/>
        </p:nvSpPr>
        <p:spPr>
          <a:xfrm>
            <a:off x="3492360" y="2708280"/>
            <a:ext cx="1079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5"/>
          <p:cNvSpPr/>
          <p:nvPr/>
        </p:nvSpPr>
        <p:spPr>
          <a:xfrm>
            <a:off x="360360" y="465300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. 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395280" y="5294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2. щёло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500"/>
                            </p:stCondLst>
                            <p:childTnLst>
                              <p:par>
                                <p:cTn id="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8500"/>
                            </p:stCondLst>
                            <p:childTnLst>
                              <p:par>
                                <p:cTn id="1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25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Screenshot-8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Screenshot-22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Screenshot-9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Screenshot-11"/>
          <p:cNvPicPr/>
          <p:nvPr/>
        </p:nvPicPr>
        <p:blipFill>
          <a:blip r:embed="rId1"/>
          <a:stretch/>
        </p:blipFill>
        <p:spPr>
          <a:xfrm>
            <a:off x="-179280" y="-17928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044720" y="476280"/>
            <a:ext cx="68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ханизм диссоциации (Кистяковски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755640" y="2060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онная свя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50920" y="2554200"/>
            <a:ext cx="309708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 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лекул – диполей вод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оло ионов крист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2857680" y="3286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252360" y="3562200"/>
            <a:ext cx="31672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идрат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заимодействие молекул воды с ионами поверхностного слоя крист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1547640" y="4869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250920" y="5146560"/>
            <a:ext cx="3889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иссоци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спад кристалла электролита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дратированные и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7"/>
          <p:cNvSpPr/>
          <p:nvPr/>
        </p:nvSpPr>
        <p:spPr>
          <a:xfrm>
            <a:off x="3924360" y="2349360"/>
            <a:ext cx="0" cy="388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225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775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0" y="16192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Ковалентная полярная связ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Screenshot-20"/>
          <p:cNvPicPr/>
          <p:nvPr/>
        </p:nvPicPr>
        <p:blipFill>
          <a:blip r:embed="rId1"/>
          <a:stretch/>
        </p:blipFill>
        <p:spPr>
          <a:xfrm>
            <a:off x="-179280" y="-108000"/>
            <a:ext cx="9501120" cy="71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creenshot-21"/>
          <p:cNvPicPr/>
          <p:nvPr/>
        </p:nvPicPr>
        <p:blipFill>
          <a:blip r:embed="rId1"/>
          <a:stretch/>
        </p:blipFill>
        <p:spPr>
          <a:xfrm>
            <a:off x="-179280" y="-108000"/>
            <a:ext cx="9501120" cy="71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Screenshot-22"/>
          <p:cNvPicPr/>
          <p:nvPr/>
        </p:nvPicPr>
        <p:blipFill>
          <a:blip r:embed="rId1"/>
          <a:stretch/>
        </p:blipFill>
        <p:spPr>
          <a:xfrm>
            <a:off x="-179280" y="-108000"/>
            <a:ext cx="9501120" cy="71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creenshot-23"/>
          <p:cNvPicPr/>
          <p:nvPr/>
        </p:nvPicPr>
        <p:blipFill>
          <a:blip r:embed="rId1"/>
          <a:stretch/>
        </p:blipFill>
        <p:spPr>
          <a:xfrm>
            <a:off x="-179280" y="-108000"/>
            <a:ext cx="9501120" cy="71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797200" y="1413000"/>
            <a:ext cx="354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по растворим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763640" y="22780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творимы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тв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588000" y="22780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раствори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50920" y="292572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роводят электрический                     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637080" y="292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е проводят электрический 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95280" y="4149720"/>
            <a:ext cx="1944720" cy="368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электрол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3565440" y="4148280"/>
            <a:ext cx="201456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еэлектрол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403280" y="260280"/>
            <a:ext cx="684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Электролитическая диссоциация –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распад электролита на и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 flipH="1">
            <a:off x="2843280" y="1989000"/>
            <a:ext cx="4334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1"/>
          <p:cNvSpPr/>
          <p:nvPr/>
        </p:nvSpPr>
        <p:spPr>
          <a:xfrm flipH="1">
            <a:off x="1476000" y="270828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133200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4643280" y="37879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1187280" y="46530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ионная        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1474920" y="530064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ионная         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1692360" y="6093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П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3492360" y="46450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раствор сах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3492360" y="5292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пир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3"/>
          <p:cNvSpPr/>
          <p:nvPr/>
        </p:nvSpPr>
        <p:spPr>
          <a:xfrm>
            <a:off x="5940360" y="1989000"/>
            <a:ext cx="1656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4"/>
          <p:cNvSpPr/>
          <p:nvPr/>
        </p:nvSpPr>
        <p:spPr>
          <a:xfrm>
            <a:off x="3492360" y="2708280"/>
            <a:ext cx="1079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360360" y="465300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. 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6"/>
          <p:cNvSpPr/>
          <p:nvPr/>
        </p:nvSpPr>
        <p:spPr>
          <a:xfrm>
            <a:off x="395280" y="5294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2. щёло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7"/>
          <p:cNvSpPr/>
          <p:nvPr/>
        </p:nvSpPr>
        <p:spPr>
          <a:xfrm>
            <a:off x="395280" y="6093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Screenshot-24"/>
          <p:cNvPicPr/>
          <p:nvPr/>
        </p:nvPicPr>
        <p:blipFill>
          <a:blip r:embed="rId1"/>
          <a:stretch/>
        </p:blipFill>
        <p:spPr>
          <a:xfrm>
            <a:off x="-179280" y="-108000"/>
            <a:ext cx="9501120" cy="71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creenshot-25"/>
          <p:cNvPicPr/>
          <p:nvPr/>
        </p:nvPicPr>
        <p:blipFill>
          <a:blip r:embed="rId1"/>
          <a:stretch/>
        </p:blipFill>
        <p:spPr>
          <a:xfrm>
            <a:off x="-179280" y="-108000"/>
            <a:ext cx="9501120" cy="71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Screenshot-26"/>
          <p:cNvPicPr/>
          <p:nvPr/>
        </p:nvPicPr>
        <p:blipFill>
          <a:blip r:embed="rId1"/>
          <a:stretch/>
        </p:blipFill>
        <p:spPr>
          <a:xfrm>
            <a:off x="-179280" y="-108000"/>
            <a:ext cx="9501120" cy="71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creenshot-27"/>
          <p:cNvPicPr/>
          <p:nvPr/>
        </p:nvPicPr>
        <p:blipFill>
          <a:blip r:embed="rId1"/>
          <a:stretch/>
        </p:blipFill>
        <p:spPr>
          <a:xfrm>
            <a:off x="-179280" y="-108000"/>
            <a:ext cx="9501120" cy="71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Screenshot-28"/>
          <p:cNvPicPr/>
          <p:nvPr/>
        </p:nvPicPr>
        <p:blipFill>
          <a:blip r:embed="rId1"/>
          <a:stretch/>
        </p:blipFill>
        <p:spPr>
          <a:xfrm>
            <a:off x="-179280" y="-108000"/>
            <a:ext cx="9501120" cy="71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creenshot-29"/>
          <p:cNvPicPr/>
          <p:nvPr/>
        </p:nvPicPr>
        <p:blipFill>
          <a:blip r:embed="rId1"/>
          <a:stretch/>
        </p:blipFill>
        <p:spPr>
          <a:xfrm>
            <a:off x="-179280" y="-108000"/>
            <a:ext cx="9501120" cy="71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Screenshot-30"/>
          <p:cNvPicPr/>
          <p:nvPr/>
        </p:nvPicPr>
        <p:blipFill>
          <a:blip r:embed="rId1"/>
          <a:stretch/>
        </p:blipFill>
        <p:spPr>
          <a:xfrm>
            <a:off x="-179280" y="-108000"/>
            <a:ext cx="9501120" cy="71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creenshot-31"/>
          <p:cNvPicPr/>
          <p:nvPr/>
        </p:nvPicPr>
        <p:blipFill>
          <a:blip r:embed="rId1"/>
          <a:stretch/>
        </p:blipFill>
        <p:spPr>
          <a:xfrm>
            <a:off x="-179280" y="-108000"/>
            <a:ext cx="9501120" cy="71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044720" y="476280"/>
            <a:ext cx="68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ханизм диссоциации (Кистяковски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755640" y="2060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онная свя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651640" y="2060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250920" y="2554200"/>
            <a:ext cx="3097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 молеку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диполей воды около ионов крист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1476360" y="3284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252360" y="3562200"/>
            <a:ext cx="31672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идрат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заимодействие молекул воды с ионами поверхностного слоя крист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1547640" y="4869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250920" y="5146560"/>
            <a:ext cx="3889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иссоци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спад кристалла электролита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дратированные и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4500720" y="2565360"/>
            <a:ext cx="403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лекул воды вокруг полюсов молекулы электрол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8099280" y="2997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4500720" y="3294000"/>
            <a:ext cx="4103640" cy="13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идрат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заимодействие молекул воды с молекулами электрол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6012000" y="40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4500720" y="4341960"/>
            <a:ext cx="424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ониз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лекул электролита (превращение КПС в ионну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7812000" y="4797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4500720" y="5084640"/>
            <a:ext cx="3960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иссоци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аспад молекул электролита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дратированные и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3924360" y="2349360"/>
            <a:ext cx="0" cy="388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75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275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857840" y="5500800"/>
            <a:ext cx="3995640" cy="785880"/>
          </a:xfrm>
          <a:prstGeom prst="rect">
            <a:avLst/>
          </a:prstGeom>
          <a:solidFill>
            <a:srgbClr val="99cc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5445000"/>
            <a:ext cx="3247920" cy="984240"/>
          </a:xfrm>
          <a:prstGeom prst="rect">
            <a:avLst/>
          </a:prstGeom>
          <a:solidFill>
            <a:srgbClr val="ffff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2771640" y="3932280"/>
            <a:ext cx="3384720" cy="936720"/>
          </a:xfrm>
          <a:prstGeom prst="rect">
            <a:avLst/>
          </a:prstGeom>
          <a:solidFill>
            <a:srgbClr val="ffff00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348000" y="3357720"/>
            <a:ext cx="1944720" cy="358560"/>
          </a:xfrm>
          <a:prstGeom prst="rect">
            <a:avLst/>
          </a:prstGeom>
          <a:solidFill>
            <a:srgbClr val="99cc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2071800" y="1857240"/>
            <a:ext cx="4857480" cy="1000440"/>
          </a:xfrm>
          <a:prstGeom prst="rect">
            <a:avLst/>
          </a:prstGeom>
          <a:solidFill>
            <a:srgbClr val="99ccff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684360" y="189000"/>
            <a:ext cx="77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горитм отнесения вещества к электролитам или неэлектроли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268360" y="13413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класс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2214720" y="1928880"/>
            <a:ext cx="41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Простые вещества (Ме и Нем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2357280" y="2357280"/>
            <a:ext cx="35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4429080" y="2500200"/>
            <a:ext cx="46080" cy="714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3274920" y="3357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электрол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2698920" y="3932280"/>
            <a:ext cx="3528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Соли, основания, кисло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о таблице растворимост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 flipH="1">
            <a:off x="1834920" y="4653000"/>
            <a:ext cx="936360" cy="71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"/>
          <p:cNvSpPr/>
          <p:nvPr/>
        </p:nvSpPr>
        <p:spPr>
          <a:xfrm>
            <a:off x="6156360" y="4579920"/>
            <a:ext cx="934920" cy="71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285840" y="5429160"/>
            <a:ext cx="37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воримые - электрол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4932360" y="537372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растворимые - неэлектрол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7500"/>
                            </p:stCondLst>
                            <p:childTnLst>
                              <p:par>
                                <p:cTn id="4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975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042920" y="47628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роение молекулы 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3"/>
          <p:cNvSpPr/>
          <p:nvPr/>
        </p:nvSpPr>
        <p:spPr>
          <a:xfrm>
            <a:off x="2268360" y="3789360"/>
            <a:ext cx="1224000" cy="1295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"/>
          <p:cNvSpPr/>
          <p:nvPr/>
        </p:nvSpPr>
        <p:spPr>
          <a:xfrm>
            <a:off x="2124000" y="4869000"/>
            <a:ext cx="433440" cy="433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3205080" y="4867200"/>
            <a:ext cx="4334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205080" y="472428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124000" y="472428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627280" y="407664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 flipV="1">
            <a:off x="3708360" y="4436640"/>
            <a:ext cx="15829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5580000" y="3719520"/>
            <a:ext cx="792360" cy="1366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5796000" y="4078440"/>
            <a:ext cx="358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726880" y="43657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4984920" y="5248440"/>
            <a:ext cx="203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п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два полю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205080" y="1557360"/>
            <a:ext cx="1943280" cy="151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"/>
          <p:cNvSpPr/>
          <p:nvPr/>
        </p:nvSpPr>
        <p:spPr>
          <a:xfrm flipV="1">
            <a:off x="3419640" y="198864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 flipH="1" flipV="1">
            <a:off x="4211280" y="198864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2797200" y="1413000"/>
            <a:ext cx="354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по растворим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763640" y="22780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творимы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тв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6588000" y="22780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раствори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50920" y="292572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роводят электрический                     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3637080" y="292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е проводят электрический 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395280" y="4149720"/>
            <a:ext cx="1944720" cy="368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электрол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3565440" y="4148280"/>
            <a:ext cx="201456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еэлектрол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1403280" y="260280"/>
            <a:ext cx="684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Электролитическая диссоциация –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распад электролита на и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0"/>
          <p:cNvSpPr/>
          <p:nvPr/>
        </p:nvSpPr>
        <p:spPr>
          <a:xfrm flipH="1">
            <a:off x="2843280" y="1989000"/>
            <a:ext cx="4334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 flipH="1">
            <a:off x="1476000" y="270828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133200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4643280" y="37879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1187280" y="46530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ионная        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1474920" y="530064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ионная         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1692360" y="6093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П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3492360" y="46450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раствор сах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3492360" y="5292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пир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7667640" y="2708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6516720" y="4581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Ме и Н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6516720" y="5013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6516720" y="546588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Нерастворимыекислоты, соли, осн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3"/>
          <p:cNvSpPr/>
          <p:nvPr/>
        </p:nvSpPr>
        <p:spPr>
          <a:xfrm>
            <a:off x="5940360" y="1989000"/>
            <a:ext cx="1656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4"/>
          <p:cNvSpPr/>
          <p:nvPr/>
        </p:nvSpPr>
        <p:spPr>
          <a:xfrm>
            <a:off x="3492360" y="2708280"/>
            <a:ext cx="1079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5"/>
          <p:cNvSpPr/>
          <p:nvPr/>
        </p:nvSpPr>
        <p:spPr>
          <a:xfrm>
            <a:off x="360360" y="465300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. 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6"/>
          <p:cNvSpPr/>
          <p:nvPr/>
        </p:nvSpPr>
        <p:spPr>
          <a:xfrm>
            <a:off x="395280" y="5294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2. щёло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7"/>
          <p:cNvSpPr/>
          <p:nvPr/>
        </p:nvSpPr>
        <p:spPr>
          <a:xfrm>
            <a:off x="395280" y="6093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8"/>
          <p:cNvSpPr/>
          <p:nvPr/>
        </p:nvSpPr>
        <p:spPr>
          <a:xfrm>
            <a:off x="6661080" y="4129200"/>
            <a:ext cx="201456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еэлектрол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500"/>
                            </p:stCondLst>
                            <p:childTnLst>
                              <p:par>
                                <p:cTn id="5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8000"/>
                            </p:stCondLst>
                            <p:childTnLst>
                              <p:par>
                                <p:cTn id="5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250"/>
                            </p:stCondLst>
                            <p:childTnLst>
                              <p:par>
                                <p:cTn id="5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3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4572000" y="4643280"/>
            <a:ext cx="4572000" cy="428760"/>
          </a:xfrm>
          <a:prstGeom prst="rect">
            <a:avLst/>
          </a:prstGeom>
          <a:solidFill>
            <a:srgbClr val="99cc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0" y="4643280"/>
            <a:ext cx="4500720" cy="428760"/>
          </a:xfrm>
          <a:prstGeom prst="rect">
            <a:avLst/>
          </a:prstGeom>
          <a:solidFill>
            <a:srgbClr val="ffff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857680" y="3357720"/>
            <a:ext cx="3384360" cy="936360"/>
          </a:xfrm>
          <a:prstGeom prst="rect">
            <a:avLst/>
          </a:prstGeom>
          <a:solidFill>
            <a:srgbClr val="ffff00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429000" y="2643120"/>
            <a:ext cx="1944720" cy="358920"/>
          </a:xfrm>
          <a:prstGeom prst="rect">
            <a:avLst/>
          </a:prstGeom>
          <a:solidFill>
            <a:srgbClr val="99cc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электрол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1785960" y="1428840"/>
            <a:ext cx="6215040" cy="1214280"/>
          </a:xfrm>
          <a:prstGeom prst="rect">
            <a:avLst/>
          </a:prstGeom>
          <a:solidFill>
            <a:srgbClr val="99ccff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84360" y="18900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горитм отнесения вещест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 электролитам или неэлектроли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2000160" y="928800"/>
            <a:ext cx="5857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Определите класс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1928880" y="1428840"/>
            <a:ext cx="6000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ые вещества (Ме и Нем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с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2714760" y="3357720"/>
            <a:ext cx="3528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Соли, основания, кисло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о таблице растворимост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 flipH="1">
            <a:off x="2642760" y="4286160"/>
            <a:ext cx="500040" cy="362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5"/>
          <p:cNvSpPr/>
          <p:nvPr/>
        </p:nvSpPr>
        <p:spPr>
          <a:xfrm>
            <a:off x="5643720" y="4286160"/>
            <a:ext cx="506160" cy="4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0" y="4714920"/>
            <a:ext cx="39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творимые - электрол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4572000" y="464328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растворимые-неэлектрол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0" y="5143680"/>
            <a:ext cx="9144000" cy="1500120"/>
          </a:xfrm>
          <a:prstGeom prst="rect">
            <a:avLst/>
          </a:prstGeom>
          <a:solidFill>
            <a:srgbClr val="99ccff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рать: 1 вариант - электролиты, 2 вариант - неэлектролиты</a:t>
            </a: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N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KOH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O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C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трелка вниз 16"/>
          <p:cNvSpPr/>
          <p:nvPr/>
        </p:nvSpPr>
        <p:spPr>
          <a:xfrm>
            <a:off x="4500720" y="2286000"/>
            <a:ext cx="71280" cy="357120"/>
          </a:xfrm>
          <a:prstGeom prst="downArrow">
            <a:avLst>
              <a:gd name="adj1" fmla="val 50000"/>
              <a:gd name="adj2" fmla="val 50101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вариант                          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CuS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KOH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aC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HCl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2Si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Screenshot-24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Screenshot-13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Screenshot-1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Screenshot-2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Screenshot-15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6:24:24Z</dcterms:created>
  <dc:creator>Хозяин</dc:creator>
  <dc:description/>
  <dc:language>en-US</dc:language>
  <cp:lastModifiedBy>Ирина</cp:lastModifiedBy>
  <dcterms:modified xsi:type="dcterms:W3CDTF">2017-02-12T18:03:08Z</dcterms:modified>
  <cp:revision>18</cp:revision>
  <dc:subject/>
  <dc:title>Слайд 1</dc:title>
</cp:coreProperties>
</file>