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2.jpeg" ContentType="image/jpeg"/>
  <Override PartName="/ppt/media/image1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DC40-B26C-4C6B-9D77-B95CA4BC1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8DEC-1C42-46A5-B345-244F8699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7351-591E-48F8-97ED-69FE806F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C1AD-FAB5-4269-AA8E-208FD6B69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0785-9FCF-4468-9F71-695166DD1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EA36-58C2-413C-BFC9-1602D12C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4B99-3E9A-43FE-BAF6-41C4694A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D774-4050-44B7-96E4-E24280DC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BA6F-D278-4A81-B75F-C769603C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0B15-C8D7-4880-A15E-215C71F2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B601-18DB-420A-9FEA-21AE455F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FFC9-250E-43E6-9BAD-8A928117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FCD8-9528-4156-ACB8-4A9CBBAE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A2B8-2029-4C40-8333-AB76EBBC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6CED-9298-46D8-8397-516DD9AC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4ADF-D5F7-45A3-B620-18549E1F0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F3F9-D43C-4314-801C-B292582EE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1E9E5-6AC2-48A3-94ED-BAA5ABFEB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EACC4-D08A-484C-8FE4-ED387D10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60651-3A9F-447E-BBCB-ED702FC8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9685B-F192-45DD-B176-965FCC06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391D0-E3DF-43D7-A915-2785B357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CF6A-7426-41E3-88F5-66AC788C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B2151-A666-4077-979F-49B371F8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7155C-FF3E-488E-8FC2-09B39539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22C9C-8553-452C-983A-32F7D7AB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C81E6-B265-4F04-9F9B-DC62C865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BEBA3-9B7F-4833-9BED-180F06CA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72155-FC40-42F4-B18A-BC8979F33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1AE51-467B-4151-876B-6EB459B88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C0DBD-D657-4920-9D1A-0C39423AD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B498E-56D6-4909-9099-31C7CB75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F7849-0960-4D3E-8798-0A0BD15B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726F-3916-49D2-A161-2C203C59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78493-3EC5-4BD7-ADDF-19B632F8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F6905-F8C7-4316-9F2D-336D3000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A326D-3CF7-4290-A2B7-A9D9F496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DBF76-E694-4A43-932A-1F179C2A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6711C-BE05-46AA-82EB-F44EF575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E8040-87E9-411C-B185-82320009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3AB42-9CF0-4132-9282-D5014014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DB794-9DD2-48A0-AA83-8539C8A49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7E3C7-6C5A-444B-A963-C1EC4E3E5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7C658-4FC3-461F-B284-E2DA0DC99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A9E5-D97C-470F-A9EC-0173907A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73C74-51AB-4665-91EB-3E536D83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A5AF1-13A8-4AF8-AFBF-AA80342D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704EB-989D-4DC5-85E0-83090C08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F7939-8498-4D6E-90D0-4DB3C228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C5E1B-DBAC-49C2-ACFD-B8250C4E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760F2-4B5D-45AB-B2A6-4FE9AD55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6F721-6058-429E-A1A9-61FD4E64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C8118-9A49-4F15-AB64-797523F8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0A7EC-E0E8-4D83-8ECD-191C4431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7C370-411E-4910-B5C1-A1570CAC3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1691-372C-4B44-9C9F-C6E0B033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A6219-09C8-4BBA-81E7-0E63CB3DF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DB914-53D5-42D2-93EC-381ACCF9A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19390-22C9-4FB3-81E4-89E5B11E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13446-D3CB-4378-A387-44F3B580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CDC90-9F52-4387-B8E7-3FD061AD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EEEDF-7DE0-44D5-804C-2B93D8F9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7951D-C1A0-446E-B3F7-E8E848CC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3B946-20C9-4609-865E-854C5796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03BC3-E74C-4353-A2A7-0AFA1F65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15E34-D703-4A47-9794-4A705A73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D9D6-A0A9-4691-B6ED-2F03B9C2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C531E-777C-4985-A647-D865ABCB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54D34-26CF-4CCB-A617-AB26A3C97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4B01E-0878-4BCC-A945-869CD1CCC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535AB-C2AB-4717-A292-F371390B5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4FF11-CAA5-4E3E-9634-D91DED90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85782-36BE-4A41-AF47-42C40283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0C7F7-A193-457B-92CE-22D20367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A59E0-B6AA-4EFF-8E51-D7F2B168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C617E-295B-4482-9CE9-1576E00F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36E19-491C-4F3D-BD66-03876194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2F26-E246-4DE3-9C1D-E97998A4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B527D-4C34-4322-9AC2-C38E0976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4DEB3-C5DE-4A90-80AB-322BD3D3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8866E-02BA-4A18-BF4D-6240FFB6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ED53C-0F78-4260-9B30-4066E0E14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26714-495B-4ED6-BB1D-92E6810E8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66114-0169-4E92-B59C-79DE4562D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CBB54-42FB-4704-88F7-808C7A68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3AB42-E263-4110-9D9C-64B27E68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42E2D-BA4E-4D55-B9E5-C9BB7D29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9AC96-294F-4511-AB9B-268716AA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F4C0-30AA-444D-99E4-EFA4BF71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24B4D-8677-4FDE-BAD9-48044918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20FAB-BCE3-49BD-A588-7887A8B6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0B2F0-987D-4078-BEAE-089B7B10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22161-BF7D-49B9-ADC8-0BA4EFF7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254C4-FB11-41EF-807D-179B4DAE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4F8A4-00A3-46E6-9C92-5EF3DEBA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1A297-9B9F-4B37-8DE1-4D187773A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E296-7956-4FB6-8838-1D18B1426B9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6DA3-4086-4D32-90EF-D41AACAD4F3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9F1B-9539-404A-96CA-62782F41896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2E1A-D6A1-4B09-BF71-F74E1E65FA9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448E-A64D-4F9B-B023-DC6BF7B1258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329E-08F5-46D9-AAA1-4AB6182A46D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A83B-8BA3-4494-9A00-5133D9C5983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53BE-C4DF-4C24-9504-1BD66AA98A5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3"/>
          <p:cNvSpPr/>
          <p:nvPr/>
        </p:nvSpPr>
        <p:spPr>
          <a:xfrm>
            <a:off x="357120" y="3000240"/>
            <a:ext cx="52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рик Бёрн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Рисунок 5" descr="d8e2eba201e0.jpg"/>
          <p:cNvPicPr/>
          <p:nvPr/>
        </p:nvPicPr>
        <p:blipFill>
          <a:blip r:embed="rId1"/>
          <a:stretch/>
        </p:blipFill>
        <p:spPr>
          <a:xfrm>
            <a:off x="5429160" y="214200"/>
            <a:ext cx="3326040" cy="33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3"/>
          <p:cNvSpPr/>
          <p:nvPr/>
        </p:nvSpPr>
        <p:spPr>
          <a:xfrm>
            <a:off x="642960" y="28584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ы Эрика Бёрна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TextBox 4"/>
          <p:cNvSpPr/>
          <p:nvPr/>
        </p:nvSpPr>
        <p:spPr>
          <a:xfrm>
            <a:off x="214200" y="928800"/>
            <a:ext cx="87868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61 год первая книг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рансанкционный анализ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даётся общее представление о новом методе индивидуальной и групповой психотерапии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руктура и динамика организации групп»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63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64 году выходит в свет книга, принесшая Э.Бёрну мировую известность 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гры, в которые играют люд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нципы группового лечения»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66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екс в человеческой любви»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70), стал последней прижизненной публикацией Бёрна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ниг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о ты говоришь после того, как поздоровался»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отечественной интерпретации 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юди, которые играют в игры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опубликованной посмертно (1972), изложены взгляды Берна на становление личности, составляющие теорию сценарного анализа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73" name="TextBox 3"/>
          <p:cNvSpPr/>
          <p:nvPr/>
        </p:nvSpPr>
        <p:spPr>
          <a:xfrm>
            <a:off x="4143240" y="1643040"/>
            <a:ext cx="4643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0000"/>
                </a:solidFill>
                <a:latin typeface="Lucida Sans Unicode"/>
              </a:rPr>
              <a:t>Э́рик Ле́ннард Б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ё</a:t>
            </a:r>
            <a:r>
              <a:rPr b="1" lang="vi-VN" sz="1800" spc="-1" strike="noStrike">
                <a:solidFill>
                  <a:srgbClr val="000000"/>
                </a:solidFill>
                <a:latin typeface="Lucida Sans Unicode"/>
              </a:rPr>
              <a:t>рн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наст. Имя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Леонард Бёрнстайн американский психолог и психиатр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Lucida Sans Unicode"/>
              </a:rPr>
              <a:t>(10 мая 1910 – 15 июля 1970г.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Родился в Монреале в семье выходцев из Российской империи, доктора Давида Гиллеля Бёрнстайна и литератора Сары Гордон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Известен, прежде всего, как разработчик 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транзактного анализа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Рисунок 4" descr="Eric_Berne.gif"/>
          <p:cNvPicPr/>
          <p:nvPr/>
        </p:nvPicPr>
        <p:blipFill>
          <a:blip r:embed="rId2"/>
          <a:stretch/>
        </p:blipFill>
        <p:spPr>
          <a:xfrm>
            <a:off x="642960" y="1214280"/>
            <a:ext cx="31431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Box 4"/>
          <p:cNvSpPr/>
          <p:nvPr/>
        </p:nvSpPr>
        <p:spPr>
          <a:xfrm>
            <a:off x="1428840" y="214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зактный анализ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TextBox 23"/>
          <p:cNvSpPr/>
          <p:nvPr/>
        </p:nvSpPr>
        <p:spPr>
          <a:xfrm>
            <a:off x="785880" y="1285920"/>
            <a:ext cx="757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ет собой психологическую модель, служащую для описания и анализа поведения человека — как индивидуально, так и в составе групп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TextBox 24"/>
          <p:cNvSpPr/>
          <p:nvPr/>
        </p:nvSpPr>
        <p:spPr>
          <a:xfrm>
            <a:off x="714240" y="2428920"/>
            <a:ext cx="757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ациональный метод понимания поведения, основанный на заключении, что каждый человек может научиться доверять себе, думать за себя, принимать самостоятельные решения и открыто выражать свои чувства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Picture 2" descr="C:\Documents and Settings\admin\Рабочий стол\Yana\Психология\260_10075043_znak_voprosa.gif"/>
          <p:cNvPicPr/>
          <p:nvPr/>
        </p:nvPicPr>
        <p:blipFill>
          <a:blip r:embed="rId1"/>
          <a:stretch/>
        </p:blipFill>
        <p:spPr>
          <a:xfrm>
            <a:off x="5643720" y="3786120"/>
            <a:ext cx="2643120" cy="2921040"/>
          </a:xfrm>
          <a:prstGeom prst="rect">
            <a:avLst/>
          </a:prstGeom>
          <a:ln w="0">
            <a:noFill/>
          </a:ln>
        </p:spPr>
      </p:pic>
      <p:sp>
        <p:nvSpPr>
          <p:cNvPr id="379" name="Прямоугольник 26"/>
          <p:cNvSpPr/>
          <p:nvPr/>
        </p:nvSpPr>
        <p:spPr>
          <a:xfrm>
            <a:off x="714240" y="42861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закц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это единица общения, которая состоит из стимула и реакции. Например, стимул — «Привет!», реакция — «Привет! Как дела?»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Box 3"/>
          <p:cNvSpPr/>
          <p:nvPr/>
        </p:nvSpPr>
        <p:spPr>
          <a:xfrm>
            <a:off x="571680" y="285840"/>
            <a:ext cx="807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рик Бёрн считал, что в каждый момент времени наше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» находится в одном их трех состояний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Прямоугольник 4" descr=""/>
          <p:cNvPicPr/>
          <p:nvPr/>
        </p:nvPicPr>
        <p:blipFill>
          <a:blip r:embed="rId1"/>
          <a:stretch/>
        </p:blipFill>
        <p:spPr>
          <a:xfrm>
            <a:off x="2919240" y="1590840"/>
            <a:ext cx="2945160" cy="1877760"/>
          </a:xfrm>
          <a:prstGeom prst="rect">
            <a:avLst/>
          </a:prstGeom>
          <a:ln w="0">
            <a:noFill/>
          </a:ln>
        </p:spPr>
      </p:pic>
      <p:cxnSp>
        <p:nvCxnSpPr>
          <p:cNvPr id="382" name="Прямая со стрелкой 5"/>
          <p:cNvCxnSpPr/>
          <p:nvPr/>
        </p:nvCxnSpPr>
        <p:spPr>
          <a:xfrm flipH="1">
            <a:off x="1714680" y="3071880"/>
            <a:ext cx="2071800" cy="643320"/>
          </a:xfrm>
          <a:prstGeom prst="straightConnector1">
            <a:avLst/>
          </a:prstGeom>
          <a:ln w="63360">
            <a:solidFill>
              <a:srgbClr val="da1f28"/>
            </a:solidFill>
            <a:miter/>
            <a:tailEnd len="med" type="arrow" w="med"/>
          </a:ln>
        </p:spPr>
      </p:cxnSp>
      <p:cxnSp>
        <p:nvCxnSpPr>
          <p:cNvPr id="383" name="Прямая со стрелкой 6"/>
          <p:cNvCxnSpPr/>
          <p:nvPr/>
        </p:nvCxnSpPr>
        <p:spPr>
          <a:xfrm flipH="1">
            <a:off x="4428360" y="3071520"/>
            <a:ext cx="2520" cy="1429560"/>
          </a:xfrm>
          <a:prstGeom prst="straightConnector1">
            <a:avLst/>
          </a:prstGeom>
          <a:ln w="63360">
            <a:solidFill>
              <a:srgbClr val="da1f28"/>
            </a:solidFill>
            <a:miter/>
            <a:tailEnd len="med" type="arrow" w="med"/>
          </a:ln>
        </p:spPr>
      </p:cxnSp>
      <p:cxnSp>
        <p:nvCxnSpPr>
          <p:cNvPr id="384" name="Прямая со стрелкой 7"/>
          <p:cNvCxnSpPr/>
          <p:nvPr/>
        </p:nvCxnSpPr>
        <p:spPr>
          <a:xfrm>
            <a:off x="5071680" y="3071880"/>
            <a:ext cx="2608920" cy="429120"/>
          </a:xfrm>
          <a:prstGeom prst="straightConnector1">
            <a:avLst/>
          </a:prstGeom>
          <a:ln w="63360">
            <a:solidFill>
              <a:srgbClr val="da1f28"/>
            </a:solidFill>
            <a:miter/>
            <a:tailEnd len="med" type="arrow" w="med"/>
          </a:ln>
        </p:spPr>
      </p:cxnSp>
      <p:sp>
        <p:nvSpPr>
          <p:cNvPr id="385" name="TextBox 8"/>
          <p:cNvSpPr/>
          <p:nvPr/>
        </p:nvSpPr>
        <p:spPr>
          <a:xfrm>
            <a:off x="428760" y="385776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й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TextBox 9"/>
          <p:cNvSpPr/>
          <p:nvPr/>
        </p:nvSpPr>
        <p:spPr>
          <a:xfrm>
            <a:off x="3429000" y="4643280"/>
            <a:ext cx="20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TextBox 10"/>
          <p:cNvSpPr/>
          <p:nvPr/>
        </p:nvSpPr>
        <p:spPr>
          <a:xfrm>
            <a:off x="6786720" y="371484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Box 4"/>
          <p:cNvSpPr/>
          <p:nvPr/>
        </p:nvSpPr>
        <p:spPr>
          <a:xfrm>
            <a:off x="357120" y="214200"/>
            <a:ext cx="8358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дител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Р):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рассудки, предубеждения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ичном, оценочном поведении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еческих высказываниях и замечаниях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е покровительства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зрослый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)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ая оценка фактов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стическое состояние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таивает собственное мнение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бенок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)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етательность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знательность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рчивость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ризность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дчивость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ритичность к себе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вастливость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надеянность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TextBox 5"/>
          <p:cNvSpPr/>
          <p:nvPr/>
        </p:nvSpPr>
        <p:spPr>
          <a:xfrm>
            <a:off x="5715000" y="4857840"/>
            <a:ext cx="271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ждый момент времени каждый из нас находится в одном из 3-х Эго-состояний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Picture 2" descr="C:\Documents and Settings\admin\Рабочий стол\_____01.jpg"/>
          <p:cNvPicPr/>
          <p:nvPr/>
        </p:nvPicPr>
        <p:blipFill>
          <a:blip r:embed="rId1"/>
          <a:stretch/>
        </p:blipFill>
        <p:spPr>
          <a:xfrm>
            <a:off x="3786120" y="3714840"/>
            <a:ext cx="1428840" cy="19047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C:\Documents and Settings\admin\Рабочий стол\243af02a5a0c.jpg"/>
          <p:cNvPicPr/>
          <p:nvPr/>
        </p:nvPicPr>
        <p:blipFill>
          <a:blip r:embed="rId2"/>
          <a:stretch/>
        </p:blipFill>
        <p:spPr>
          <a:xfrm>
            <a:off x="6286680" y="0"/>
            <a:ext cx="1428480" cy="17524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C:\Documents and Settings\admin\Рабочий стол\233012_6291-150x0.jpg"/>
          <p:cNvPicPr/>
          <p:nvPr/>
        </p:nvPicPr>
        <p:blipFill>
          <a:blip r:embed="rId3"/>
          <a:stretch/>
        </p:blipFill>
        <p:spPr>
          <a:xfrm>
            <a:off x="4786200" y="1857240"/>
            <a:ext cx="1371600" cy="17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Прямоугольник 3"/>
          <p:cNvSpPr/>
          <p:nvPr/>
        </p:nvSpPr>
        <p:spPr>
          <a:xfrm>
            <a:off x="857160" y="214200"/>
            <a:ext cx="728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гры в которые играют люди»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Picture 2" descr="C:\Documents and Settings\admin\Рабочий стол\toys.jpg"/>
          <p:cNvPicPr/>
          <p:nvPr/>
        </p:nvPicPr>
        <p:blipFill>
          <a:blip r:embed="rId1"/>
          <a:stretch/>
        </p:blipFill>
        <p:spPr>
          <a:xfrm>
            <a:off x="3500280" y="3214800"/>
            <a:ext cx="2435400" cy="2143080"/>
          </a:xfrm>
          <a:prstGeom prst="rect">
            <a:avLst/>
          </a:prstGeom>
          <a:ln w="0">
            <a:noFill/>
          </a:ln>
        </p:spPr>
      </p:pic>
      <p:sp>
        <p:nvSpPr>
          <p:cNvPr id="395" name="Прямоугольник 7"/>
          <p:cNvSpPr/>
          <p:nvPr/>
        </p:nvSpPr>
        <p:spPr>
          <a:xfrm>
            <a:off x="428760" y="1000080"/>
            <a:ext cx="79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оследовательность скрытых транзакций с четко определенным или предсказуемым исходом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TextBox 8"/>
          <p:cNvSpPr/>
          <p:nvPr/>
        </p:nvSpPr>
        <p:spPr>
          <a:xfrm>
            <a:off x="428760" y="2071800"/>
            <a:ext cx="700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 Игра под названием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Т («Если бы не ты»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роли угнетенной жены и деспотичного мужа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C:\Documents and Settings\admin\Рабочий стол\PR20071003140751.GIF.jpg"/>
          <p:cNvPicPr/>
          <p:nvPr/>
        </p:nvPicPr>
        <p:blipFill>
          <a:blip r:embed="rId1"/>
          <a:stretch/>
        </p:blipFill>
        <p:spPr>
          <a:xfrm>
            <a:off x="3357720" y="3929040"/>
            <a:ext cx="3000240" cy="2251080"/>
          </a:xfrm>
          <a:prstGeom prst="rect">
            <a:avLst/>
          </a:prstGeom>
          <a:ln w="0">
            <a:noFill/>
          </a:ln>
        </p:spPr>
      </p:pic>
      <p:sp>
        <p:nvSpPr>
          <p:cNvPr id="398" name="Скругленная прямоугольная выноска 7"/>
          <p:cNvSpPr/>
          <p:nvPr/>
        </p:nvSpPr>
        <p:spPr>
          <a:xfrm>
            <a:off x="214200" y="2643120"/>
            <a:ext cx="2286000" cy="1143000"/>
          </a:xfrm>
          <a:prstGeom prst="wedgeRoundRectCallout">
            <a:avLst>
              <a:gd name="adj1" fmla="val 72851"/>
              <a:gd name="adj2" fmla="val 44439"/>
              <a:gd name="adj3" fmla="val 16667"/>
            </a:avLst>
          </a:prstGeom>
          <a:solidFill>
            <a:srgbClr val="ffffff"/>
          </a:solidFill>
          <a:ln w="5508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авайся дома и занимайся хозяйством!!!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Скругленная прямоугольная выноска 8"/>
          <p:cNvSpPr/>
          <p:nvPr/>
        </p:nvSpPr>
        <p:spPr>
          <a:xfrm>
            <a:off x="6572160" y="2643120"/>
            <a:ext cx="2357640" cy="1143000"/>
          </a:xfrm>
          <a:prstGeom prst="wedgeRoundRectCallout">
            <a:avLst>
              <a:gd name="adj1" fmla="val -71060"/>
              <a:gd name="adj2" fmla="val 49518"/>
              <a:gd name="adj3" fmla="val 16667"/>
            </a:avLst>
          </a:prstGeom>
          <a:solidFill>
            <a:srgbClr val="ffffff"/>
          </a:solidFill>
          <a:ln w="5508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бы не 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я могла бы пойти учиться танцам!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Выноска-облако 9"/>
          <p:cNvSpPr/>
          <p:nvPr/>
        </p:nvSpPr>
        <p:spPr>
          <a:xfrm>
            <a:off x="142920" y="214200"/>
            <a:ext cx="3071880" cy="1928880"/>
          </a:xfrm>
          <a:prstGeom prst="cloudCallout">
            <a:avLst>
              <a:gd name="adj1" fmla="val 68300"/>
              <a:gd name="adj2" fmla="val 128250"/>
            </a:avLst>
          </a:prstGeom>
          <a:solidFill>
            <a:srgbClr val="ffffff"/>
          </a:solidFill>
          <a:ln w="5508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ы всегда должна быть дома, когда я возвращаюсь. Я боюсь, что ты меня бросиш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Выноска-облако 10"/>
          <p:cNvSpPr/>
          <p:nvPr/>
        </p:nvSpPr>
        <p:spPr>
          <a:xfrm>
            <a:off x="5643720" y="285840"/>
            <a:ext cx="3214440" cy="2143080"/>
          </a:xfrm>
          <a:prstGeom prst="cloudCallout">
            <a:avLst>
              <a:gd name="adj1" fmla="val -50726"/>
              <a:gd name="adj2" fmla="val 106861"/>
            </a:avLst>
          </a:prstGeom>
          <a:solidFill>
            <a:srgbClr val="ffffff"/>
          </a:solidFill>
          <a:ln w="5508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 так и сделаю, если ты поможешь мне избежать пугающих ситуаций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начать учиться танцам)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Прямоугольник 11"/>
          <p:cNvSpPr/>
          <p:nvPr/>
        </p:nvSpPr>
        <p:spPr>
          <a:xfrm>
            <a:off x="3857760" y="1000080"/>
            <a:ext cx="13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рытый брачный контрак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Стрелка влево 12"/>
          <p:cNvSpPr/>
          <p:nvPr/>
        </p:nvSpPr>
        <p:spPr>
          <a:xfrm>
            <a:off x="3357720" y="1357200"/>
            <a:ext cx="285480" cy="214560"/>
          </a:xfrm>
          <a:prstGeom prst="leftArrow">
            <a:avLst>
              <a:gd name="adj1" fmla="val 50000"/>
              <a:gd name="adj2" fmla="val 49895"/>
            </a:avLst>
          </a:prstGeom>
          <a:solidFill>
            <a:srgbClr val="da1f28"/>
          </a:solidFill>
          <a:ln w="55080">
            <a:solidFill>
              <a:srgbClr val="a01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Стрелка влево 15" descr=""/>
          <p:cNvPicPr/>
          <p:nvPr/>
        </p:nvPicPr>
        <p:blipFill>
          <a:blip r:embed="rId2"/>
          <a:stretch/>
        </p:blipFill>
        <p:spPr>
          <a:xfrm>
            <a:off x="5095800" y="1311120"/>
            <a:ext cx="37152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Box 6"/>
          <p:cNvSpPr/>
          <p:nvPr/>
        </p:nvSpPr>
        <p:spPr>
          <a:xfrm>
            <a:off x="2857680" y="357120"/>
            <a:ext cx="35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ценарий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Прямоугольник 7"/>
          <p:cNvSpPr/>
          <p:nvPr/>
        </p:nvSpPr>
        <p:spPr>
          <a:xfrm>
            <a:off x="571680" y="121428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Сценарий, по Бёрну, - постоянно развертывающийся жизненный план, формирующийся в раннем детстве под влиянием родителей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TextBox 15"/>
          <p:cNvSpPr/>
          <p:nvPr/>
        </p:nvSpPr>
        <p:spPr>
          <a:xfrm>
            <a:off x="642960" y="2000160"/>
            <a:ext cx="3429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ёрн выделил 3 типа сценариев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дители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бедители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дачники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TextBox 16"/>
          <p:cNvSpPr/>
          <p:nvPr/>
        </p:nvSpPr>
        <p:spPr>
          <a:xfrm>
            <a:off x="3571920" y="2571840"/>
            <a:ext cx="55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Я допустил ошибку, но больше она не повторится" или "Теперь я знаю, что нужно делать"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Прямоугольник 17"/>
          <p:cNvSpPr/>
          <p:nvPr/>
        </p:nvSpPr>
        <p:spPr>
          <a:xfrm>
            <a:off x="3714840" y="4786200"/>
            <a:ext cx="52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бы только..." или "Мне не следовало..."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"Да, но..."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Прямоугольник 18"/>
          <p:cNvSpPr/>
          <p:nvPr/>
        </p:nvSpPr>
        <p:spPr>
          <a:xfrm>
            <a:off x="3500280" y="3571920"/>
            <a:ext cx="52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Ну, по крайней мере я..." или "По крайней мере мне есть за что быть благодарным"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Двойная стрелка влево/вправо 19"/>
          <p:cNvSpPr/>
          <p:nvPr/>
        </p:nvSpPr>
        <p:spPr>
          <a:xfrm>
            <a:off x="2428920" y="2714760"/>
            <a:ext cx="785880" cy="285480"/>
          </a:xfrm>
          <a:prstGeom prst="leftRightArrow">
            <a:avLst>
              <a:gd name="adj1" fmla="val 50000"/>
              <a:gd name="adj2" fmla="val 50048"/>
            </a:avLst>
          </a:prstGeom>
          <a:solidFill>
            <a:srgbClr val="eb641b"/>
          </a:solidFill>
          <a:ln w="55080">
            <a:solidFill>
              <a:srgbClr val="ad47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Двойная стрелка влево/вправо 20"/>
          <p:cNvSpPr/>
          <p:nvPr/>
        </p:nvSpPr>
        <p:spPr>
          <a:xfrm>
            <a:off x="2500200" y="3786120"/>
            <a:ext cx="785880" cy="285840"/>
          </a:xfrm>
          <a:prstGeom prst="leftRightArrow">
            <a:avLst>
              <a:gd name="adj1" fmla="val 50000"/>
              <a:gd name="adj2" fmla="val 49985"/>
            </a:avLst>
          </a:prstGeom>
          <a:solidFill>
            <a:srgbClr val="eb641b"/>
          </a:solidFill>
          <a:ln w="55080">
            <a:solidFill>
              <a:srgbClr val="ad47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Двойная стрелка влево/вправо 21"/>
          <p:cNvSpPr/>
          <p:nvPr/>
        </p:nvSpPr>
        <p:spPr>
          <a:xfrm>
            <a:off x="2500200" y="4857840"/>
            <a:ext cx="785880" cy="285840"/>
          </a:xfrm>
          <a:prstGeom prst="leftRightArrow">
            <a:avLst>
              <a:gd name="adj1" fmla="val 50000"/>
              <a:gd name="adj2" fmla="val 49985"/>
            </a:avLst>
          </a:prstGeom>
          <a:solidFill>
            <a:srgbClr val="eb641b"/>
          </a:solidFill>
          <a:ln w="55080">
            <a:solidFill>
              <a:srgbClr val="ad47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C:\Documents and Settings\admin\Рабочий стол\Yana\Психология\stack-of-books.jpg"/>
          <p:cNvPicPr/>
          <p:nvPr/>
        </p:nvPicPr>
        <p:blipFill>
          <a:blip r:embed="rId1"/>
          <a:stretch/>
        </p:blipFill>
        <p:spPr>
          <a:xfrm>
            <a:off x="857160" y="3643200"/>
            <a:ext cx="2793960" cy="2070360"/>
          </a:xfrm>
          <a:prstGeom prst="rect">
            <a:avLst/>
          </a:prstGeom>
          <a:ln w="0">
            <a:noFill/>
          </a:ln>
        </p:spPr>
      </p:pic>
      <p:sp>
        <p:nvSpPr>
          <p:cNvPr id="415" name="Прямоугольник 4"/>
          <p:cNvSpPr/>
          <p:nvPr/>
        </p:nvSpPr>
        <p:spPr>
          <a:xfrm>
            <a:off x="1000080" y="1571760"/>
            <a:ext cx="7429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онца своей жизни Э.Бёрн вёл активную научную и практическую деятельность. Умер он на взлёте своей карьеры, когда его метод получил мировое признание, а во многих странах появились последователи и преемники транзактного анализа. 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8:47:41Z</dcterms:created>
  <dc:creator>admin</dc:creator>
  <dc:description/>
  <dc:language>en-US</dc:language>
  <cp:lastModifiedBy>ПМА</cp:lastModifiedBy>
  <dcterms:modified xsi:type="dcterms:W3CDTF">2010-11-22T13:44:26Z</dcterms:modified>
  <cp:revision>32</cp:revision>
  <dc:subject/>
  <dc:title>Слайд 1</dc:title>
</cp:coreProperties>
</file>