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FA2-2854-4200-BA91-078DBE34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E45-7ED6-453C-BC63-F2C1DA84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09B4-9A52-4B65-9453-0E1F4693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C50-4B28-48BA-9272-CA2214F2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7887-8B0E-4B89-A54F-599847A2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17DE-AAF1-4CB8-9983-D2309DB0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B893-03F5-4FC4-82B9-DF120A77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1665-7251-4C96-ADAF-139A3513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241E-970D-4E8C-8464-822AC354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200E-B84B-465C-BE91-B61C2D3E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AD1C-8CEC-4C4D-8FD5-CC97FF5C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7560-9948-4D65-AD7C-CA349019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82F0-1ED0-40CC-BDCF-0162A347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F9FF-9262-4A32-9EB3-DF9F7B1F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B6B9-0A1C-467E-8430-19AF5725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5828-27CF-4268-B889-73208A6E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3E95-7729-4F9F-9D25-EFCD0E23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32660-4116-4EA9-AAB1-AA89F4D2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8CB82-783D-40EE-A68A-1A0D69D2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8B665-6F70-441C-B2CF-D8EDDACA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C74E8-12A9-4471-9B5E-6C23A953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97856-F145-41B1-BB9B-147DB2DF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1622-7157-4033-B03E-6A2A6507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55FAB-AD8D-481E-A408-B7DF59F0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7B9EB-AC14-415C-9AED-DEBB979E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1244-58BD-4179-AED9-C16314E7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F4554-A958-4889-8FD9-F7807EF3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76BC4-BEE9-48A5-9455-F13B0489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12D0E-2789-4900-A7A8-2A557581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A3D73-FB96-4199-80E6-210CE492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991F1-17E9-4A59-AA3C-C053F01E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95170-CA54-4B9C-AE3A-B3C456ED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4062D-EFF7-4844-957C-E40FBCD9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0CE-7E6F-4D77-BB64-65534EAB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9C243-FA2E-48F1-A685-C4F06FCD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08C4A-76B0-4BA2-B7FA-C7820FDF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50559-F8D2-4C36-9378-4797088C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2D6EF-89DF-403B-8665-791BE013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720D0-8B6E-439A-ADC4-E694562F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05F43-425F-41B6-9990-509E050F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55D35-7CF9-4102-B3DB-3E1216C2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7129F-F368-4E9C-8682-BB509FC8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95732-6DB6-4FB0-9AA3-A65CF11B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E1845-AC43-47B0-92D6-084EFAD7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749-EE05-45ED-9D37-3AB2894A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DA9E9-6E15-4507-9F89-7F2A869B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74224-E691-4CFA-BB02-365E9D4D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E80F0-F01B-4A88-84E9-AB7BF852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C6AE5-6A7F-4F0B-A4B3-CB25300A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4BBEA-F633-41E0-BA8F-ADB0B6E5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742EA-96CF-446F-833B-8005C54E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EC07F-9806-43D9-9C45-8C797B02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92223-1F74-4503-AF8A-4F3D5AED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3FFA3-C63B-42CA-91B5-5CB390F5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437AC-621B-4B4E-9C8D-064AD8FD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B57-0B4A-4A3F-B2A7-75E7F2BC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DE061-1F6A-4D86-83F3-0E0DB4F5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AE185-E312-430F-A55B-29408E39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896C3-CA4A-4E04-9A80-7FE72FB2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35A14-9C29-4B40-861E-8236BBDD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FB756-1CA8-499F-9BC8-9EF64694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9CAEC-8BFC-4CC0-AD38-0D08DE99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F7392-11BD-4F26-A3F9-AA512668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E50F8-B611-4C4E-B973-D740158D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9A9E4-3A3B-43CE-A537-AF2B0FD6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B70B0-266F-43F5-B1E5-56C9BE2C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46E-AD1F-4D29-BB35-8B8AC06E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66124-C3D5-4C1B-B6EF-DBE659DD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C1340-4EF0-474B-A241-5AB50A68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C38DD-5DB0-44A3-BC28-D0A068A3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D489D-4B47-4E13-A40F-B0479BAA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0D2F0-6470-4925-826B-543704DA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DD047-95A5-4301-BCF6-A6AF993E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334F1-95D7-47F0-97B9-AD424AFF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B1D8F-C1DF-444A-8FD5-812CF423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F5FD7-F834-43EE-82AC-086B472E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3D416-9452-4F2A-A525-8BA7AB9F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D21-9A10-4D6B-8642-3A823A39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B08C6-6259-44FE-BFAF-3B2AA1F8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D79FF-B5E6-4EF8-B675-174719AD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C66C0-245D-48EE-B9F7-93E2D8FF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C4DCF-CEFE-41E2-BEA7-0AE6A3E4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347FE-4A83-47E7-8932-88A39FFD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2D942-D45A-40AD-A63B-05EC20A1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F188E-A7AB-4DCF-B528-6897A00A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608CB-8347-4B42-A843-6C27697A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7F6EA-9F63-4D99-8798-24ABE55C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C9726-BF92-4F6B-9090-FDDDB688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2BE-F5F2-4E4E-B80F-62002192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C62CD-F60B-407B-BA8E-5B5E26C8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0A11C-BBA1-4E2F-8E45-FC8BCC21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01F4A-57C6-4953-A836-703978A3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0DBBE-9F23-42C3-A843-EEABBB4D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21579-382F-4134-9327-5BD24530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688C6-D1B8-4706-B143-598BF373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F94BA-10C6-4409-8BF6-96D38370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5479-E3D8-462A-8C26-081340DC3F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9636-5716-46ED-91A9-13CB6D1356E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33AE-997F-4E19-94C4-251164F06C1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BC39-DA98-44BA-8E1D-015BA940758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F62F-3A93-44BE-A64F-859A44074E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F18F-CE1E-44BB-B0A4-1137DA5FA11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DEB4-5563-41B6-9490-91B5707029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8172-57D0-4A57-8C68-C83C8F96C5E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3"/>
          <p:cNvSpPr/>
          <p:nvPr/>
        </p:nvSpPr>
        <p:spPr>
          <a:xfrm>
            <a:off x="357120" y="3000240"/>
            <a:ext cx="52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ик Бёрн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Рисунок 5" descr="d8e2eba201e0.jpg"/>
          <p:cNvPicPr/>
          <p:nvPr/>
        </p:nvPicPr>
        <p:blipFill>
          <a:blip r:embed="rId1"/>
          <a:stretch/>
        </p:blipFill>
        <p:spPr>
          <a:xfrm>
            <a:off x="5429160" y="214200"/>
            <a:ext cx="332604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3"/>
          <p:cNvSpPr/>
          <p:nvPr/>
        </p:nvSpPr>
        <p:spPr>
          <a:xfrm>
            <a:off x="642960" y="2858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ы Эрика Бёрна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214200" y="928800"/>
            <a:ext cx="8786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61 год первая книг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рансанкционный анализ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даётся общее представление о новом методе индивидуальной и групповой психотерапи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уктура и динамика организации групп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63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64 году выходит в свет книга, принесшая Э.Бёрну мировую известность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ы, в которые играют люд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нципы группового лечения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66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кс в человеческой любви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70), стал последней прижизненной публикацией Бёрна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ниг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ты говоришь после того, как поздоровался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отечественной интерпретации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юди, которые играют в игры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опубликованной посмертно (1972), изложены взгляды Берна на становление личности, составляющие теорию сценарного анализа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3" name="TextBox 3"/>
          <p:cNvSpPr/>
          <p:nvPr/>
        </p:nvSpPr>
        <p:spPr>
          <a:xfrm>
            <a:off x="4143240" y="1643040"/>
            <a:ext cx="464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Э́рик Ле́ннард Б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ё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рн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аст. Им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Леонард Бёрнстайн американский психолог и психиатр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(10 мая 1910 – 15 июля 1970г.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одился в Монреале в семье выходцев из Российской империи, доктора Давида Гиллеля Бёрнстайна и литератора Сары Гордон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звестен, прежде всего, как разработчик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транзактного анализа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Рисунок 4" descr="Eric_Berne.gif"/>
          <p:cNvPicPr/>
          <p:nvPr/>
        </p:nvPicPr>
        <p:blipFill>
          <a:blip r:embed="rId2"/>
          <a:stretch/>
        </p:blipFill>
        <p:spPr>
          <a:xfrm>
            <a:off x="642960" y="1214280"/>
            <a:ext cx="3143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4"/>
          <p:cNvSpPr/>
          <p:nvPr/>
        </p:nvSpPr>
        <p:spPr>
          <a:xfrm>
            <a:off x="1428840" y="214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актный анали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TextBox 23"/>
          <p:cNvSpPr/>
          <p:nvPr/>
        </p:nvSpPr>
        <p:spPr>
          <a:xfrm>
            <a:off x="785880" y="128592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психологическую модель, служащую для описания и анализа поведения человека — как индивидуально, так и в составе групп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TextBox 24"/>
          <p:cNvSpPr/>
          <p:nvPr/>
        </p:nvSpPr>
        <p:spPr>
          <a:xfrm>
            <a:off x="714240" y="2428920"/>
            <a:ext cx="75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ациональный метод понимания поведения, основанный на заключении, что каждый человек может научиться доверять себе, думать за себя, принимать самостоятельные решения и открыто выражать свои чувства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Picture 2" descr="C:\Documents and Settings\admin\Рабочий стол\Yana\Психология\260_10075043_znak_voprosa.gif"/>
          <p:cNvPicPr/>
          <p:nvPr/>
        </p:nvPicPr>
        <p:blipFill>
          <a:blip r:embed="rId1"/>
          <a:stretch/>
        </p:blipFill>
        <p:spPr>
          <a:xfrm>
            <a:off x="5643720" y="3786120"/>
            <a:ext cx="2643120" cy="292104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26"/>
          <p:cNvSpPr/>
          <p:nvPr/>
        </p:nvSpPr>
        <p:spPr>
          <a:xfrm>
            <a:off x="714240" y="4286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ак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это единица общения, которая состоит из стимула и реакции. Например, стимул — «Привет!», реакция — «Привет! Как дела?»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3"/>
          <p:cNvSpPr/>
          <p:nvPr/>
        </p:nvSpPr>
        <p:spPr>
          <a:xfrm>
            <a:off x="571680" y="28584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ик Бёрн считал, что в каждый момент времени наше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» находится в одном их трех состояний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Прямоугольник 4" descr=""/>
          <p:cNvPicPr/>
          <p:nvPr/>
        </p:nvPicPr>
        <p:blipFill>
          <a:blip r:embed="rId1"/>
          <a:stretch/>
        </p:blipFill>
        <p:spPr>
          <a:xfrm>
            <a:off x="2919240" y="1590840"/>
            <a:ext cx="2945160" cy="1877760"/>
          </a:xfrm>
          <a:prstGeom prst="rect">
            <a:avLst/>
          </a:prstGeom>
          <a:ln w="0">
            <a:noFill/>
          </a:ln>
        </p:spPr>
      </p:pic>
      <p:cxnSp>
        <p:nvCxnSpPr>
          <p:cNvPr id="382" name="Прямая со стрелкой 5"/>
          <p:cNvCxnSpPr/>
          <p:nvPr/>
        </p:nvCxnSpPr>
        <p:spPr>
          <a:xfrm flipH="1">
            <a:off x="1714680" y="3071880"/>
            <a:ext cx="2071800" cy="64332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cxnSp>
        <p:nvCxnSpPr>
          <p:cNvPr id="383" name="Прямая со стрелкой 6"/>
          <p:cNvCxnSpPr/>
          <p:nvPr/>
        </p:nvCxnSpPr>
        <p:spPr>
          <a:xfrm flipH="1">
            <a:off x="4428360" y="3071520"/>
            <a:ext cx="2520" cy="142956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cxnSp>
        <p:nvCxnSpPr>
          <p:cNvPr id="384" name="Прямая со стрелкой 7"/>
          <p:cNvCxnSpPr/>
          <p:nvPr/>
        </p:nvCxnSpPr>
        <p:spPr>
          <a:xfrm>
            <a:off x="5071680" y="3071880"/>
            <a:ext cx="2608920" cy="42912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385" name="TextBox 8"/>
          <p:cNvSpPr/>
          <p:nvPr/>
        </p:nvSpPr>
        <p:spPr>
          <a:xfrm>
            <a:off x="428760" y="385776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TextBox 9"/>
          <p:cNvSpPr/>
          <p:nvPr/>
        </p:nvSpPr>
        <p:spPr>
          <a:xfrm>
            <a:off x="3429000" y="464328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6786720" y="371484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4"/>
          <p:cNvSpPr/>
          <p:nvPr/>
        </p:nvSpPr>
        <p:spPr>
          <a:xfrm>
            <a:off x="357120" y="214200"/>
            <a:ext cx="835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те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)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рассудки, предубеждения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ном, оценочном поведении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ческих высказываниях и замечаниях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кровительства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рослы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ая оценка фактов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стическое состояние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таивает собственное мнение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о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етательность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знательность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чивость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ризность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чивость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ритичность к себе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астливость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надеянность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5715000" y="485784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ый момент времени каждый из нас находится в одном из 3-х Эго-состоян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Picture 2" descr="C:\Documents and Settings\admin\Рабочий стол\_____01.jpg"/>
          <p:cNvPicPr/>
          <p:nvPr/>
        </p:nvPicPr>
        <p:blipFill>
          <a:blip r:embed="rId1"/>
          <a:stretch/>
        </p:blipFill>
        <p:spPr>
          <a:xfrm>
            <a:off x="3786120" y="371484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Documents and Settings\admin\Рабочий стол\243af02a5a0c.jpg"/>
          <p:cNvPicPr/>
          <p:nvPr/>
        </p:nvPicPr>
        <p:blipFill>
          <a:blip r:embed="rId2"/>
          <a:stretch/>
        </p:blipFill>
        <p:spPr>
          <a:xfrm>
            <a:off x="6286680" y="0"/>
            <a:ext cx="1428480" cy="17524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C:\Documents and Settings\admin\Рабочий стол\233012_6291-150x0.jpg"/>
          <p:cNvPicPr/>
          <p:nvPr/>
        </p:nvPicPr>
        <p:blipFill>
          <a:blip r:embed="rId3"/>
          <a:stretch/>
        </p:blipFill>
        <p:spPr>
          <a:xfrm>
            <a:off x="4786200" y="1857240"/>
            <a:ext cx="1371600" cy="17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3"/>
          <p:cNvSpPr/>
          <p:nvPr/>
        </p:nvSpPr>
        <p:spPr>
          <a:xfrm>
            <a:off x="857160" y="21420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ы в которые играют люди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Picture 2" descr="C:\Documents and Settings\admin\Рабочий стол\toys.jpg"/>
          <p:cNvPicPr/>
          <p:nvPr/>
        </p:nvPicPr>
        <p:blipFill>
          <a:blip r:embed="rId1"/>
          <a:stretch/>
        </p:blipFill>
        <p:spPr>
          <a:xfrm>
            <a:off x="3500280" y="3214800"/>
            <a:ext cx="2435400" cy="214308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7"/>
          <p:cNvSpPr/>
          <p:nvPr/>
        </p:nvSpPr>
        <p:spPr>
          <a:xfrm>
            <a:off x="428760" y="100008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следовательность скрытых транзакций с четко определенным или предсказуемым исходом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TextBox 8"/>
          <p:cNvSpPr/>
          <p:nvPr/>
        </p:nvSpPr>
        <p:spPr>
          <a:xfrm>
            <a:off x="428760" y="2071800"/>
            <a:ext cx="700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Игра под названием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 («Если бы не ты»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роли угнетенной жены и деспотичного муж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admin\Рабочий стол\PR20071003140751.GIF.jpg"/>
          <p:cNvPicPr/>
          <p:nvPr/>
        </p:nvPicPr>
        <p:blipFill>
          <a:blip r:embed="rId1"/>
          <a:stretch/>
        </p:blipFill>
        <p:spPr>
          <a:xfrm>
            <a:off x="3357720" y="3929040"/>
            <a:ext cx="3000240" cy="2251080"/>
          </a:xfrm>
          <a:prstGeom prst="rect">
            <a:avLst/>
          </a:prstGeom>
          <a:ln w="0">
            <a:noFill/>
          </a:ln>
        </p:spPr>
      </p:pic>
      <p:sp>
        <p:nvSpPr>
          <p:cNvPr id="398" name="Скругленная прямоугольная выноска 7"/>
          <p:cNvSpPr/>
          <p:nvPr/>
        </p:nvSpPr>
        <p:spPr>
          <a:xfrm>
            <a:off x="214200" y="2643120"/>
            <a:ext cx="2286000" cy="1143000"/>
          </a:xfrm>
          <a:prstGeom prst="wedgeRoundRectCallout">
            <a:avLst>
              <a:gd name="adj1" fmla="val 72851"/>
              <a:gd name="adj2" fmla="val 44439"/>
              <a:gd name="adj3" fmla="val 16667"/>
            </a:avLst>
          </a:pr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вайся дома и занимайся хозяйством!!!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Скругленная прямоугольная выноска 8"/>
          <p:cNvSpPr/>
          <p:nvPr/>
        </p:nvSpPr>
        <p:spPr>
          <a:xfrm>
            <a:off x="6572160" y="2643120"/>
            <a:ext cx="2357640" cy="1143000"/>
          </a:xfrm>
          <a:prstGeom prst="wedgeRoundRectCallout">
            <a:avLst>
              <a:gd name="adj1" fmla="val -71060"/>
              <a:gd name="adj2" fmla="val 49518"/>
              <a:gd name="adj3" fmla="val 16667"/>
            </a:avLst>
          </a:pr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бы не 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я могла бы пойти учиться танцам!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Выноска-облако 9"/>
          <p:cNvSpPr/>
          <p:nvPr/>
        </p:nvSpPr>
        <p:spPr>
          <a:xfrm>
            <a:off x="142920" y="214200"/>
            <a:ext cx="3071880" cy="1928880"/>
          </a:xfrm>
          <a:prstGeom prst="cloudCallout">
            <a:avLst>
              <a:gd name="adj1" fmla="val 68300"/>
              <a:gd name="adj2" fmla="val 128250"/>
            </a:avLst>
          </a:pr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ы всегда должна быть дома, когда я возвращаюсь. Я боюсь, что ты меня броси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Выноска-облако 10"/>
          <p:cNvSpPr/>
          <p:nvPr/>
        </p:nvSpPr>
        <p:spPr>
          <a:xfrm>
            <a:off x="5643720" y="285840"/>
            <a:ext cx="3214440" cy="2143080"/>
          </a:xfrm>
          <a:prstGeom prst="cloudCallout">
            <a:avLst>
              <a:gd name="adj1" fmla="val -50726"/>
              <a:gd name="adj2" fmla="val 106861"/>
            </a:avLst>
          </a:pr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так и сделаю, если ты поможешь мне избежать пугающих ситуаций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начать учиться танцам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Прямоугольник 11"/>
          <p:cNvSpPr/>
          <p:nvPr/>
        </p:nvSpPr>
        <p:spPr>
          <a:xfrm>
            <a:off x="3857760" y="100008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ытый брачный контрак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Стрелка влево 12"/>
          <p:cNvSpPr/>
          <p:nvPr/>
        </p:nvSpPr>
        <p:spPr>
          <a:xfrm>
            <a:off x="3357720" y="1357200"/>
            <a:ext cx="285480" cy="214560"/>
          </a:xfrm>
          <a:prstGeom prst="leftArrow">
            <a:avLst>
              <a:gd name="adj1" fmla="val 50000"/>
              <a:gd name="adj2" fmla="val 49895"/>
            </a:avLst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Стрелка влево 15" descr=""/>
          <p:cNvPicPr/>
          <p:nvPr/>
        </p:nvPicPr>
        <p:blipFill>
          <a:blip r:embed="rId2"/>
          <a:stretch/>
        </p:blipFill>
        <p:spPr>
          <a:xfrm>
            <a:off x="5095800" y="1311120"/>
            <a:ext cx="37152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6"/>
          <p:cNvSpPr/>
          <p:nvPr/>
        </p:nvSpPr>
        <p:spPr>
          <a:xfrm>
            <a:off x="2857680" y="35712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арий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Прямоугольник 7"/>
          <p:cNvSpPr/>
          <p:nvPr/>
        </p:nvSpPr>
        <p:spPr>
          <a:xfrm>
            <a:off x="571680" y="121428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ценарий, по Бёрну, - постоянно развертывающийся жизненный план, формирующийся в раннем детстве под влиянием родителе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TextBox 15"/>
          <p:cNvSpPr/>
          <p:nvPr/>
        </p:nvSpPr>
        <p:spPr>
          <a:xfrm>
            <a:off x="642960" y="200016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ёрн выделил 3 типа сценариев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бедител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дачник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TextBox 16"/>
          <p:cNvSpPr/>
          <p:nvPr/>
        </p:nvSpPr>
        <p:spPr>
          <a:xfrm>
            <a:off x="3571920" y="257184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Я допустил ошибку, но больше она не повторится" или "Теперь я знаю, что нужно делать"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Прямоугольник 17"/>
          <p:cNvSpPr/>
          <p:nvPr/>
        </p:nvSpPr>
        <p:spPr>
          <a:xfrm>
            <a:off x="3714840" y="478620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 только..." или "Мне не следовало..."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"Да, но..."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Прямоугольник 18"/>
          <p:cNvSpPr/>
          <p:nvPr/>
        </p:nvSpPr>
        <p:spPr>
          <a:xfrm>
            <a:off x="3500280" y="357192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Ну, по крайней мере я..." или "По крайней мере мне есть за что быть благодарным"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Двойная стрелка влево/вправо 19"/>
          <p:cNvSpPr/>
          <p:nvPr/>
        </p:nvSpPr>
        <p:spPr>
          <a:xfrm>
            <a:off x="2428920" y="2714760"/>
            <a:ext cx="785880" cy="285480"/>
          </a:xfrm>
          <a:prstGeom prst="leftRightArrow">
            <a:avLst>
              <a:gd name="adj1" fmla="val 50000"/>
              <a:gd name="adj2" fmla="val 50048"/>
            </a:avLst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Двойная стрелка влево/вправо 20"/>
          <p:cNvSpPr/>
          <p:nvPr/>
        </p:nvSpPr>
        <p:spPr>
          <a:xfrm>
            <a:off x="2500200" y="3786120"/>
            <a:ext cx="785880" cy="285840"/>
          </a:xfrm>
          <a:prstGeom prst="leftRightArrow">
            <a:avLst>
              <a:gd name="adj1" fmla="val 50000"/>
              <a:gd name="adj2" fmla="val 49985"/>
            </a:avLst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Двойная стрелка влево/вправо 21"/>
          <p:cNvSpPr/>
          <p:nvPr/>
        </p:nvSpPr>
        <p:spPr>
          <a:xfrm>
            <a:off x="2500200" y="4857840"/>
            <a:ext cx="785880" cy="285840"/>
          </a:xfrm>
          <a:prstGeom prst="leftRightArrow">
            <a:avLst>
              <a:gd name="adj1" fmla="val 50000"/>
              <a:gd name="adj2" fmla="val 49985"/>
            </a:avLst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C:\Documents and Settings\admin\Рабочий стол\Yana\Психология\stack-of-books.jpg"/>
          <p:cNvPicPr/>
          <p:nvPr/>
        </p:nvPicPr>
        <p:blipFill>
          <a:blip r:embed="rId1"/>
          <a:stretch/>
        </p:blipFill>
        <p:spPr>
          <a:xfrm>
            <a:off x="857160" y="3643200"/>
            <a:ext cx="2793960" cy="207036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4"/>
          <p:cNvSpPr/>
          <p:nvPr/>
        </p:nvSpPr>
        <p:spPr>
          <a:xfrm>
            <a:off x="1000080" y="1571760"/>
            <a:ext cx="742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онца своей жизни Э.Бёрн вёл активную научную и практическую деятельность. Умер он на взлёте своей карьеры, когда его метод получил мировое признание, а во многих странах появились последователи и преемники транзактного анализа.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8:47:41Z</dcterms:created>
  <dc:creator>admin</dc:creator>
  <dc:description/>
  <dc:language>en-US</dc:language>
  <cp:lastModifiedBy>ПМА</cp:lastModifiedBy>
  <dcterms:modified xsi:type="dcterms:W3CDTF">2010-11-22T13:44:26Z</dcterms:modified>
  <cp:revision>32</cp:revision>
  <dc:subject/>
  <dc:title>Слайд 1</dc:title>
</cp:coreProperties>
</file>