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E1BC-D431-4A9A-9D66-B99D7D2FC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2421-BEA6-4618-A72A-D0CFF283D7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F46-A9BA-4924-A604-32F7692F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D57-3C6B-443D-9D09-2C6F2C82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830-5D8B-454F-8604-1B6FF6C9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390-2B4E-4F27-996A-FAD53D84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D0FF-0981-4A0F-BCF7-4CBBA614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90A3-92D0-4908-B4EE-2BE9B79C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5CB0-DD70-4701-BF6C-962A03A7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B550-2D18-4037-BCBB-1ACD2E9B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5A5E-B19C-4D27-B319-DE7E66A1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E871-BBE7-48F7-987B-5FC270D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C067-24A2-4360-B76F-FB4F345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D80-B9C0-4DEA-924E-A827C05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081A-D9EC-482A-AF24-B74DBB3D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0C36-DEAC-4CA7-A81E-FD45F0A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29B3-A2AE-4EDD-8CA2-ACD0BA4A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DF3E-5EA0-4C14-85B6-E3EE4B8D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E9E5-F635-444C-A350-99D9783F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9191-1FD9-4A66-A6C3-F312C21B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40F1-3F04-44B5-90F1-CD61AF3A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0E5E-D691-403D-B07A-16F600CB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A664-C447-405F-BD90-90900083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85F1-2629-44FC-BF56-C9A23D2D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D72-B646-4C95-B5F9-C95C737F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B741-4020-4B80-BB11-3711F926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D43C-12AF-4A7B-8433-5B3CDC7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9ED4-CB87-45D0-A70E-1EAE1A0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C119-8BBD-4EE2-B824-1C9E1087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5089-14FB-40D0-B85C-1296A7EB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F25E-20A2-43A1-AAA3-009D8859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03DA-7D67-4CB3-987F-8AB5635F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8B778-A0F2-483F-8EB3-530A00D6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F7B7-1FB0-4E97-BAA1-55F67971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E076-D33F-4A64-9400-D21743E6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6BA-E382-4C31-88E4-BCFD9EDB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8E4A-5F08-493D-A1E0-82842B09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DCFE-AC57-451E-BB64-F6BC9E3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AF30-16DF-426B-9509-E9B6AEEE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B8D3-3835-4EA5-8CFD-8B8B581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CBD8-BF36-4EBA-83EC-EE37C02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1257-2179-4207-885A-9406E79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6AFD-7661-4B3B-9B10-A20174DA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3DA7-5964-4134-AD48-69A61024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FFB8-6B6A-4E7C-97FA-E6815C88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D2742-DF48-42BF-8464-C1EAD783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124-8517-454C-A209-3CAFC835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8EFF-C2E0-40A5-BFF5-FC97E34E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26BA1-AD26-4530-A63C-03DB0CC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5D0DF-AB84-4716-818A-FBDFDC2E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5E4A-D70B-4F83-B913-EB4FC66A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CE76B-3F97-4CDF-8365-B947C5AF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2ECD-6F19-4CAD-A00D-E5E29C92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77F4F-5DAD-43AD-B4EC-C16E0606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034F5-872E-47B7-A6B6-66ECB4FD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8FE09-61EA-4956-9222-1155F0B3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13A2E-965C-4DF2-A7D2-6842DAC4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756-1669-4709-BD65-90B22738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62AE-3ED9-415C-BAF6-3EBDDD0A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734D0-229E-4BE6-8DFA-8AEC3AFF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E83A3-91C8-4DEB-B49C-50AB425E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E7CB-0AA1-47B4-8F8C-4103C2F4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9F81-C0D6-44F2-978C-DE1F4F82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90CE3-95A1-42AF-94A0-20E2F35B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61E86-01B6-4FB0-8EA2-E668B85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88F6B-7310-47F4-A3EF-A603E27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A55D-6BFA-4C69-869A-34F9740B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FA20-E37A-4162-AE74-9A73BFFD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041-C5A5-4C21-AE4C-F76A0829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B784F-3A3C-4DD8-A0DC-4C8220CF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889B-0A8E-46A9-917D-426A4A7C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A545-E6EA-4107-B987-B13C43AC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5A93C-A366-4779-945B-12137856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F12A-0384-481A-884A-F96286B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96E14-F723-4B92-AF6F-C303BB03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5AE25-B4D1-4AF6-9D27-1892D427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6D0FF-B493-4ED2-B7F8-2E336C6F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18B3F-D19B-4EF8-ACD3-4DF28C65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C7E93-AF67-4B70-B16E-07317F3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C05-469D-431E-B265-19D3A4F7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9B792-4770-4B2B-9BAD-10BF46AB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FCE0F-97D7-41C2-8CFF-A4CDC209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37FE8-09F7-41F1-9856-C71170E9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70D6A-EFA8-4442-B0E2-4AA9447A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A103-EE57-49BB-98F5-35BFCE20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34E-EDE1-4A7C-BDCF-A597EEA8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27BA-FEA2-4207-BCDA-7EAB88244F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6D39-DBE2-4F43-BB54-F05307060E2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6F1-6B4F-4A8E-8566-0F1B0FA384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773-3EB8-46E2-87FF-DC892E2E22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A76-2343-4B5A-958F-3717E4EBA74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2C2-E254-4354-855D-D3A027060AF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323C-FE29-4D88-8681-5E7D5129C8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ект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31f43"/>
                </a:solidFill>
                <a:latin typeface="Candara"/>
              </a:rPr>
              <a:t>«Имена прилагательные в загадках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560520" y="321300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мя прилагательное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– часть речи, которая обозначает признак предмета и отвечает на вопросы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акой?  какая?  какое? какие?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д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агадк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– один из древних жанров устного народного творчества. Слов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агадк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произошло от слова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«гадати»,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что в переводе означает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«думать, размышлять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загадках часто используются имена прилагательные. По признакам загаданного предмета можно отгадать сам предм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Имена прилагательные в загадк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18920" y="1773360"/>
            <a:ext cx="66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Стоят в лугах сестрички-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олотой глазок, белые реснич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Красненькая Матрешка, беленькое сердечк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Маленький , горький , луку бра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Шарик розовый пушист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арит пчелам мед душисты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У этого кустарника гроздья махровые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о голубые , а то и лиловы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х в старину называли синелью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ы  называем кустарник …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Имена прилагательные в загадк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6188040" y="1322280"/>
            <a:ext cx="1149480" cy="1530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324000" y="2419200"/>
            <a:ext cx="1282680" cy="1040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3"/>
          <a:stretch/>
        </p:blipFill>
        <p:spPr>
          <a:xfrm>
            <a:off x="155520" y="3881520"/>
            <a:ext cx="1141560" cy="1298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4"/>
          <a:stretch/>
        </p:blipFill>
        <p:spPr>
          <a:xfrm>
            <a:off x="6804000" y="4894200"/>
            <a:ext cx="1986120" cy="1692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5"/>
          <a:stretch/>
        </p:blipFill>
        <p:spPr>
          <a:xfrm>
            <a:off x="6804000" y="31464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908000" y="1557000"/>
            <a:ext cx="60753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6.  Был белый дом, чудесный дом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И что-то застучало в не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И он разбился, и оттуд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Живое выбежало чудо –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акое теплое, тако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ушистое и золотое.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Candar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Гудит мохнатенький, летит за сладеньки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8. В клетке он живет на дач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н пушистый , но кусач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Апельсина съел шесть долек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инноухий толстый …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Имена прилагательные в загадк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292480" cy="2292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324000" y="31352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6676920" y="4552920"/>
            <a:ext cx="1106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71640" y="1628280"/>
            <a:ext cx="75880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9. Дачу сторожит смешн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верь, лохматый и больш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0. У кого усы большие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апы мягкие такие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1. Он куриный предводитель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тичий он руководите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расный гребень, пышный хво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н неприхотлив и прост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Имя прилагательное в загадка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1656000" cy="17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482760" y="4437000"/>
            <a:ext cx="2611440" cy="1900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"/>
          <p:cNvPicPr/>
          <p:nvPr/>
        </p:nvPicPr>
        <p:blipFill>
          <a:blip r:embed="rId3"/>
          <a:stretch/>
        </p:blipFill>
        <p:spPr>
          <a:xfrm>
            <a:off x="1258920" y="1395360"/>
            <a:ext cx="1828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Имя прилагательное в загадках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(мои загадки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94920" y="2491920"/>
            <a:ext cx="410364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1. Плоский, круглый барабан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Бьет в него рукой шаман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2. Птица белая зимой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 красной бровною дугой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е  летает далек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Тундра родина ее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3. На болоте среди мх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расная ягода видн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ислая , полезная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сем она известна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932000" y="249228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4. С горки снежной по утр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Она катает детвору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Развеселая подружка 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А зовут её …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Розой северной зову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Ароматный этот куст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Цветы малинового цвета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Ягод ждите в конце лет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1195200" cy="1212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3708360" y="350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173160" y="5448240"/>
            <a:ext cx="1554120" cy="1239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6659640" y="1089000"/>
            <a:ext cx="1762200" cy="1320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5"/>
          <a:stretch/>
        </p:blipFill>
        <p:spPr>
          <a:xfrm>
            <a:off x="8013600" y="5259240"/>
            <a:ext cx="1086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Имена прилагательные в загадках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(отгадки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76440" y="2133720"/>
            <a:ext cx="3822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1. ромашк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2. малина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3. чеснок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4. клеве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5. сирень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6. яйцо и цыпленок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7. пчел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8. кролик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9. пес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10. ко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11. петух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58920" y="1989000"/>
            <a:ext cx="382284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ои загадки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бубе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куропат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клюк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атруш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.  шиповни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891040" y="4869000"/>
            <a:ext cx="2028960" cy="1428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3"/>
          <a:stretch/>
        </p:blipFill>
        <p:spPr>
          <a:xfrm>
            <a:off x="2556000" y="1986120"/>
            <a:ext cx="1761840" cy="1428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4"/>
          <a:stretch/>
        </p:blipFill>
        <p:spPr>
          <a:xfrm>
            <a:off x="7043760" y="2432160"/>
            <a:ext cx="166356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Имена прилагательные в загадк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707040" y="2276640"/>
            <a:ext cx="7623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писок использованной литературы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К. Чуковский «25 загадок 25 отгадок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«Веселые загадки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М. Давыдова, И. Агапова «Праздник в семье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Т. А. Шорыгина « Травы . Какие они?», «Кустарники. Какие они?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05:11:32Z</dcterms:created>
  <dc:creator>пк</dc:creator>
  <dc:description/>
  <dc:language>en-US</dc:language>
  <cp:lastModifiedBy>Татьяна</cp:lastModifiedBy>
  <dcterms:modified xsi:type="dcterms:W3CDTF">2020-04-02T07:27:48Z</dcterms:modified>
  <cp:revision>29</cp:revision>
  <dc:subject/>
  <dc:title>Презентация PowerPoint</dc:title>
</cp:coreProperties>
</file>