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camera.wav" ContentType="audio/x-wav"/>
  <Override PartName="/ppt/media/image17.gif" ContentType="image/gif"/>
  <Override PartName="/ppt/media/image2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8.jpeg" ContentType="image/jpeg"/>
  <Override PartName="/ppt/media/image22.jpeg" ContentType="image/jpeg"/>
  <Override PartName="/ppt/media/image1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F8F-1D03-414A-86B8-203EAFFE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950-2FAE-4499-BEEF-B6B34FE7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856-E321-4099-84EF-1467178B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3FF-B1D3-42D1-A540-C8EECAEF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432-A837-4EA2-9C6C-65D3FD78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7F5-67EC-4552-A3A6-EB1DCE5B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4C9-3B80-4660-B319-CAD7A116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5A2-BC1F-4E1E-A100-A6B84F99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C31-3AE1-4A02-95F6-9BBD9D34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45D-81F4-44BB-9BB9-65CD2262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BFB-1EB6-4E1C-8722-B45DBC24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860-E0C1-4BD9-8CCB-EF5EEB6F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2233-9E75-437C-AC9C-7DA3E4DC5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image" Target="../media/image18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2"/>
          <a:stretch/>
        </p:blipFill>
        <p:spPr>
          <a:xfrm>
            <a:off x="622440" y="719280"/>
            <a:ext cx="8051760" cy="201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black"/>
          <p:cNvPicPr/>
          <p:nvPr/>
        </p:nvPicPr>
        <p:blipFill>
          <a:blip r:embed="rId3"/>
          <a:stretch/>
        </p:blipFill>
        <p:spPr>
          <a:xfrm>
            <a:off x="0" y="30481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9" descr="111"/>
          <p:cNvPicPr/>
          <p:nvPr/>
        </p:nvPicPr>
        <p:blipFill>
          <a:blip r:embed="rId4"/>
          <a:stretch/>
        </p:blipFill>
        <p:spPr>
          <a:xfrm>
            <a:off x="5410080" y="3200400"/>
            <a:ext cx="34290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5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Принципы работы пленочной и цифровой фотокамер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13716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еночные и цифровые камеры имеют похожий дизайн. Основное различие в том, как записывается изображение, которое проходит через объектив, - на пленку или как цифровые да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principle_of_operation_1"/>
          <p:cNvPicPr/>
          <p:nvPr/>
        </p:nvPicPr>
        <p:blipFill>
          <a:blip r:embed="rId2"/>
          <a:stretch/>
        </p:blipFill>
        <p:spPr>
          <a:xfrm>
            <a:off x="152280" y="2743200"/>
            <a:ext cx="2457720" cy="116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principle_of_operation_2"/>
          <p:cNvPicPr/>
          <p:nvPr/>
        </p:nvPicPr>
        <p:blipFill>
          <a:blip r:embed="rId3"/>
          <a:stretch/>
        </p:blipFill>
        <p:spPr>
          <a:xfrm>
            <a:off x="6477120" y="2743200"/>
            <a:ext cx="2419200" cy="1171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3961800"/>
            <a:ext cx="3922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ера, записывающая изображение, которое проходит через объектив, на пленку, называется пленочной фотокамер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ывает изображение, которое проходит через объектив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ъекти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объектива - собирать отраженный от предмета свет и передавать его на поверхность плен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724280" y="3961800"/>
            <a:ext cx="4419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фровая камера преобразует изображение в цифровой формат и записывает 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ъекти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ет отражаемый от предмета свет и передает его на ПЗС-матрицу или другой сенсор изображения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ор изображ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ет ту же функцию, что и пленка: сенсор запечатлевает изображени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ор изображ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ует изображение в цифровые данные и выполняет различную обработку изображений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сители информ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ывает цифровую информацию на карту памяти или другой цифровой носи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41360" y="21700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2438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еночная фотокаме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477120" y="2438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овая каме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4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52280" y="71280"/>
            <a:ext cx="883944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Физическая фиксация изображен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цифровом фотоаппарате происходит совершенно на иной основе, нежели в плёночн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В традиционной фотографии изображение фиксируется на промежуточном носителе - плёнке, которая затем требует проявки. После проявки изображение через увеличитель или станок для контактной печати переносят на фотобумаг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Цифровая камера записывает изображение не на плёнку, а в оперативную память того или иного формата. Затем полученные кадры можно сохранять (а можно и не сохранять) на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lash-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копителе. А позже сохранить их на компьютере или сразу же отправить на печать на принте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5637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Фотография наших дней – это и область науки о ней самой и область техники, это методы исследования и документации, это художественное призвание людей, это и различные виды прикладной деятельности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3" descr="p1.jpg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378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img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Как всё начинало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12952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греческих фото – свет, граф – рисую, пишу) – рисование светом, светопись – была открыта не сразу и не одним человеком. В это изобретение вложен труд ученых многих поколений разных стран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давно стремились найти способ получения изображений, который не требовал бы долгого и утомительного труда художн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am-obscur1"/>
          <p:cNvPicPr/>
          <p:nvPr/>
        </p:nvPicPr>
        <p:blipFill>
          <a:blip r:embed="rId2"/>
          <a:stretch/>
        </p:blipFill>
        <p:spPr>
          <a:xfrm>
            <a:off x="152280" y="2438280"/>
            <a:ext cx="5257800" cy="3726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486400" y="2362320"/>
            <a:ext cx="3352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незапамятных времен, например, было замечено, что луч солнца, проникая сквозь небольшое отверстие в темное помещение, оставляет на плоскости световой рисунок предметов внешнего мира. Предметы изображаются в точных пропорциях и цветах, но в уменьшенных, по сравнению с натурой, размерах и в перевернутом виде. Это свойство темной комнаты (или камеры-обскуры) было известно еще древнегреческому мыслителю Аристотелю, жившему в IV веке до нашей эры. Принцип работы камеры-обскуры описал в своих трудах Леонардо да Вин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Камера-обск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1143000"/>
            <a:ext cx="876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о, что еще в XIII веке были изобретены очки. Очковое стекло перекочевало затем в зрительную трубу Галилео Галилея. В России великий ученый М. В. Ломоносов положил начало развитию светосильных труб и оптических приб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am-obscur4"/>
          <p:cNvPicPr/>
          <p:nvPr/>
        </p:nvPicPr>
        <p:blipFill>
          <a:blip r:embed="rId2"/>
          <a:stretch/>
        </p:blipFill>
        <p:spPr>
          <a:xfrm>
            <a:off x="304920" y="3732120"/>
            <a:ext cx="3733560" cy="246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am-obscur3"/>
          <p:cNvPicPr/>
          <p:nvPr/>
        </p:nvPicPr>
        <p:blipFill>
          <a:blip r:embed="rId3"/>
          <a:stretch/>
        </p:blipFill>
        <p:spPr>
          <a:xfrm>
            <a:off x="4800600" y="3276720"/>
            <a:ext cx="419112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46280" y="2855880"/>
            <a:ext cx="374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80880" y="1905120"/>
            <a:ext cx="38102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шло время, когда камерой-обскурой стали называть ящик с двояковыпуклой линзой в передней стенке и полупрозрачной бумагой или матовым стеклом в задней стенке. Такой прибор надежно служил для механической зарисовки предметов внешнего мира. Перевернутое изображение достаточно было с помощью зеркала поставить прямо и обвести карандашом на листе бума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165640" y="2932200"/>
            <a:ext cx="344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952880" y="1905120"/>
            <a:ext cx="4038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ередине XVIII века в России, например, имела распространение камера-обскура, носившая название «махина для снимания першпектив», сделанная в виде походной палатки. С ее помощью были документально запечатлены виды Петербурга, Петергофа, Крондштата и других русских гор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4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Камера Ньеп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5248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ЬЕПС (Niepce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исефор (полное имя Жозеф Нисефор) (7 марта 1765, Шалон-сюр-Сон, Франция — 5 июля 1833, там же), французский изобретатель, один из создателей фотографии. Впервые (1820-е гг.) нашел способ закрепления изображения, получаемого в камере-обскуре, используя в качестве светочувствительного вещества асфальтовый лак (гелиография). С 1829 сотрудничал с Л. Дагер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niepce-picture"/>
          <p:cNvPicPr/>
          <p:nvPr/>
        </p:nvPicPr>
        <p:blipFill>
          <a:blip r:embed="rId2"/>
          <a:stretch/>
        </p:blipFill>
        <p:spPr>
          <a:xfrm>
            <a:off x="4419720" y="2971800"/>
            <a:ext cx="4419360" cy="321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niepce"/>
          <p:cNvPicPr/>
          <p:nvPr/>
        </p:nvPicPr>
        <p:blipFill>
          <a:blip r:embed="rId3"/>
          <a:stretch/>
        </p:blipFill>
        <p:spPr>
          <a:xfrm>
            <a:off x="0" y="0"/>
            <a:ext cx="171468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am-niepce"/>
          <p:cNvPicPr/>
          <p:nvPr/>
        </p:nvPicPr>
        <p:blipFill>
          <a:blip r:embed="rId4"/>
          <a:stretch/>
        </p:blipFill>
        <p:spPr>
          <a:xfrm>
            <a:off x="533520" y="2819520"/>
            <a:ext cx="3276360" cy="2966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762120" y="2438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8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ра Нье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648320" y="609588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елиографический снимок Ньепса – вид из окна его мастерской (1826г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419720" y="2286000"/>
            <a:ext cx="4724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вое стойкое изображение в камере-обскуре Ньепс получил в 1822. Однако сохранилась лишь гелиография 1826 года, когда Ньепс начал использовать вместо медных и цинковых пластин сплав олова со свинцом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спозиция длилась восемь часов(!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3300"/>
                </a:solidFill>
                <a:latin typeface="Times New Roman"/>
              </a:rPr>
              <a:t>Снимок У.Г.Тол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80880" y="160020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ЛБОТ (Тальбот, Таlbot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ильям Генри Фокс (1800-1877), английский физик, химик, изобретатель негативно-позитивного процесса в фотографии (калотипии). Занимался также математикой, спектроскопией, астрономией, археологией и лингвисти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0880" y="2286000"/>
            <a:ext cx="7620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35 Толбот с помощью камеры делал снимки на своей светочувствительной бумаге, пропитанной хлористым серебром. Первым был снимок решетчатого окна его дома. Выдержка длилась в течение часа. Так он получил первый в мире негатив. К нему он прикладывал другой такой же лист бумаги и засвечивал их. Так Толбот сделал позитивный отпечаток. Первые снимки были темными, нечеткими и пятнистыми, а чувствительность его бумаги была очень низ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talbot-picture"/>
          <p:cNvPicPr/>
          <p:nvPr/>
        </p:nvPicPr>
        <p:blipFill>
          <a:blip r:embed="rId2"/>
          <a:stretch/>
        </p:blipFill>
        <p:spPr>
          <a:xfrm>
            <a:off x="5181480" y="3124080"/>
            <a:ext cx="278928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Снимки Даг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1836720"/>
            <a:ext cx="426708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гер не изобрел фотографию (это сделал до него Ньепс), но сделал ее действующей и популярной. В 1829 он заключил контракт с Ньепсом о развитии его метода гелиографии. После 1829 и до своей смерти в 1833 Ньепс и его сын Исидор, ставший партнером Дагера после смерти отца, не сумели развить свое изобретение, тогда как Дагер, проводивший свои опыты самостоятельно, продвинулся. Его идея заключалась в том, чтобы получать изображение на полированной поверхности серебряной пластины, пропитанной парами йодида: они делали ее чувствительной к свету. Эту пластину он помещал в камеру-обскуру и подвергал экспозиции, а проявлял парами рту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 он достиг в 1837, после 11 лет опытов. Полученное и проявленное в парах ртути изображение он фиксировал, промывая экспонированную пластину сильным раствором соли и горячей водой. После 1839 соль в процессе фиксации была заменена гипосульфитом натрия — фиксирующим элементом, открытым Джоном Гершелем. В результате смывались частицы йодида серебра, не подвергшиеся воздействию света. Время экспозиции пластины в камере-обскуре составляло от 15 до 30 минут (в то время как при гелиографии Ньепса требовалась экспозиция до 8 часов). В результате получалась единственная фотография — позитив, названная автором дагеротип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dager"/>
          <p:cNvPicPr/>
          <p:nvPr/>
        </p:nvPicPr>
        <p:blipFill>
          <a:blip r:embed="rId2"/>
          <a:stretch/>
        </p:blipFill>
        <p:spPr>
          <a:xfrm>
            <a:off x="0" y="0"/>
            <a:ext cx="1714680" cy="190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dager-picture"/>
          <p:cNvPicPr/>
          <p:nvPr/>
        </p:nvPicPr>
        <p:blipFill>
          <a:blip r:embed="rId3"/>
          <a:stretch/>
        </p:blipFill>
        <p:spPr>
          <a:xfrm>
            <a:off x="4267080" y="2133720"/>
            <a:ext cx="4648320" cy="3330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4343400" y="54864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дагеротипный снимок Дагера – натюрморт из произведений живописи и скульптуры. Выполнен в 183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676520" y="1143000"/>
            <a:ext cx="69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ГЕР (Daguerr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Луи Жак Манде (18 ноября 1787, Кормей, Франция — 10 июля 1851, Бри сюр Марн), французский художник и изобретатель, один из создателей фотографии. Разработал (используя опыты Н. Ньепса) первый практически пригодный способ фотографии — дагеротипию (1839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Совершенствование и развитие фотогра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1523880"/>
            <a:ext cx="87631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дагерротипии просуществовал немного. Изображение на серебряной пластинке стоило дорого, было зеркально обращенным, изготовлялось в одном экземпляре, рассматривать его из-за блеска было крайне затруднитель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типный способ обладал большими достоинствами, поэтому он и получил дальнейшее развитие. Уже в конце 40-х годов XIX века изобретатель из семьи Ньепсов – Ньепс де Сен-Виктор - заменил в этом способе негативную подложку из бумаги стеклом, покрытым слоем крахмального клейстера или яичного белка. Слой очувствили к свету солями сереб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51 году англичанин С. Арчер покрыл стекло коллодионом. Позитивы стали печатать на альбуминной бумаге. Фотографии можно было размнож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через два с небольшим десятилетия Ричард Меддокс предложил съемку на сухих броможелатиновых пластинках. Такое усовершенствование сделало фотографию родственной современ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73 году Г. Фогель изготовил ортохроматические пластинки. Позднее были сконструированы объективы-анастигматы. В 1889 году Д. Истмен (основатель фирмы "Кодак") наладил производство целлулоидных пленок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04 году появились первые пластинки для цветной фотогра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пущенные фирмой "Люмьер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Аналоговый фотоаппа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Устройство аналогового фотоаппарата"/>
          <p:cNvPicPr/>
          <p:nvPr/>
        </p:nvPicPr>
        <p:blipFill>
          <a:blip r:embed="rId2"/>
          <a:stretch/>
        </p:blipFill>
        <p:spPr>
          <a:xfrm>
            <a:off x="228600" y="838080"/>
            <a:ext cx="7010280" cy="4329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228600" y="511812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части фотоаппарат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фотоплен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орпу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затвор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объектив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диафраг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Цифровой фотоаппа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7000"/>
            <a:ext cx="48769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ифровой фотоаппар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, являющееся разновидностью фотоаппарата, в котором светочувствительным материалом является матрица или несколько матриц, состоящая из отдельных пикселей, сигнал с которых представляется, обрабатывается и хранится в самом аппарате в цифровом ви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80880" y="6171840"/>
            <a:ext cx="4114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ujiFilm Finepix S900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цифровой зеркальный фотоаппарат со сменной оптико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764px-S9000"/>
          <p:cNvPicPr/>
          <p:nvPr/>
        </p:nvPicPr>
        <p:blipFill>
          <a:blip r:embed="rId2"/>
          <a:stretch/>
        </p:blipFill>
        <p:spPr>
          <a:xfrm>
            <a:off x="380880" y="3505320"/>
            <a:ext cx="3505320" cy="2752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60"/>
          <p:cNvPicPr/>
          <p:nvPr/>
        </p:nvPicPr>
        <p:blipFill>
          <a:blip r:embed="rId3"/>
          <a:stretch/>
        </p:blipFill>
        <p:spPr>
          <a:xfrm>
            <a:off x="480060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4800600" y="6172200"/>
            <a:ext cx="4038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Shot A6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типичная «мыльница» (фотоаппарат со встроенной оптик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olor_filter_array1"/>
          <p:cNvPicPr/>
          <p:nvPr/>
        </p:nvPicPr>
        <p:blipFill>
          <a:blip r:embed="rId4"/>
          <a:stretch/>
        </p:blipFill>
        <p:spPr>
          <a:xfrm>
            <a:off x="152280" y="2286000"/>
            <a:ext cx="4496040" cy="114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800px-Digital_camera_image_sensor"/>
          <p:cNvPicPr/>
          <p:nvPr/>
        </p:nvPicPr>
        <p:blipFill>
          <a:blip r:embed="rId5"/>
          <a:stretch/>
        </p:blipFill>
        <p:spPr>
          <a:xfrm>
            <a:off x="6172200" y="7621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609480" y="19810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работы филь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6324480" y="289548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главная составляющая цифрового фотоаппа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</cp:lastModifiedBy>
  <dcterms:modified xsi:type="dcterms:W3CDTF">2020-04-02T09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