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566-58CF-47E6-935D-A38741F5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C0E-EDC7-4E68-AAE6-1AD94D7D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132-48B9-498B-948C-400F5482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777-CE19-48D9-9A36-EC2D97E4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7B8D-7852-4F45-9090-42D09310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5C6F-5DD0-4074-8282-B513DC48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9AC4-DB12-4E67-8C2B-87F988A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D6B2-0163-43E2-AA02-96BFC684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B094-D53D-47C3-8CD7-AC0FBD95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E2AC-0916-496C-80A7-8568F2FB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F9FF-629A-4DF7-A6CC-12E1F5B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995-6387-415E-ABCF-02447DB3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A167-18C8-45FB-8028-684C5C63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DFB9-24C2-4295-8EC6-FC9B93EC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7B42-16F4-44DD-8919-76210AEA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2AC3-278C-41BB-BCED-BF15D39B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B770-F7A5-4A10-9A2D-E09536FB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AEA-37EA-4205-AFB8-F2753188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9F6-9FAC-43D2-9B67-E639DD2E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053-8BB7-44AD-9981-501F3051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16B-ADF8-424B-9EA1-0CE766D5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274-CF61-41EC-9DE3-C8FCB606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BAB-8C4C-4A44-81B7-3E2681F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A02-74A8-45A5-A38C-C0430EC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CB7F-83FB-49AA-8D76-A022F3C0B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F1F3-1A78-4C93-8466-371DEB235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6480" y="1189080"/>
            <a:ext cx="9156960" cy="1577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86000" y="3500280"/>
            <a:ext cx="485784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ячина Алла Виктор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МБОУ лицей №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. Вороне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020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1\Рабочий стол\Зима Какого цвета снег\Холькина Какого цвета снег\картинки\Какого цвета снег Холькина\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1\Рабочий стол\Зима Какого цвета снег\Холькина Какого цвета снег\картинки\Какого цвета снег Холькина\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1\Рабочий стол\Зима Какого цвета снег\Холькина Какого цвета снег\картинки\Какого цвета снег Холькина\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1\Рабочий стол\Зима Какого цвета снег\Холькина Какого цвета снег\картинки\Какого цвета снег Холькина\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1\Рабочий стол\Зима Какого цвета снег\Холькина Какого цвета снег\картинки\Какого цвета снег Холькина\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1\Рабочий стол\Зима Какого цвета снег\Холькина Какого цвета снег\картинки\Какого цвета снег Холькина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\Рабочий стол\Зима Какого цвета снег\Холькина Какого цвета снег\картинки\Какого цвета снег Холькина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1\Рабочий стол\Зима Какого цвета снег\Холькина Какого цвета снег\картинки\Какого цвета снег Холькина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1\Рабочий стол\Зима Какого цвета снег\Холькина Какого цвета снег\картинки\Какого цвета снег Холькина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1\Рабочий стол\Зима Какого цвета снег\Холькина Какого цвета снег\картинки\Какого цвета снег Холькина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\Рабочий стол\Зима Какого цвета снег\Холькина Какого цвета снег\картинки\Какого цвета снег Холькина\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Danila</cp:lastModifiedBy>
  <dcterms:modified xsi:type="dcterms:W3CDTF">2020-04-02T16:42:53Z</dcterms:modified>
  <cp:revision>11</cp:revision>
  <dc:subject/>
  <dc:title>Слайд 1</dc:title>
</cp:coreProperties>
</file>