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7377-9192-49F6-BF38-5125EFD4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74B-88E9-437A-A3F5-747A0C53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9A3-BE69-49D5-92E8-1AF420FE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21B-C18E-4FB1-B7CC-2BFDD22E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9F54-62ED-44F2-ADE7-BDC480D1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5DFB-6272-4C42-8B3D-F050C3FF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8D6E-8DF0-4394-91C1-49D2556A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10F9-76B0-475A-BAD5-E99AD9AC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57E4-2882-442C-9CA9-2FC48177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824C-E71B-442E-8778-174E55A4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B4FF-2BBB-4BC6-9C49-8CAC8599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7FE-56E1-460C-B659-1A29160D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D7D6-9827-4EA6-A770-85189DAC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1151-238A-4390-BE10-9FBAA407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C706-F09D-44E3-9C8D-F326F23A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41E6-81EF-4DEF-86F6-9B356205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F2F3-782A-425B-B71D-F927A8B8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0AC-5D15-4A20-A729-F9AF3983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B15-5024-4357-9B4C-61C5E1C1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D086-4D94-41D9-B8EF-E8568A2C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B13-4A66-4F27-AC2E-92926149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C43-33AD-4A73-8183-8D92AE9A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F3D-C313-4551-B7FD-790D821B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5F8-A9B5-4324-8BC9-F45EA45E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C454-3464-4F16-900F-DCBE0B1359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0972-7852-4476-81C1-30D33D0A14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-6480" y="1189080"/>
            <a:ext cx="9156960" cy="1577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286000" y="3500280"/>
            <a:ext cx="485784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ячина Алла Викторо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МБОУ лицей №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г. Вороне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2020 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Documents and Settings\1\Рабочий стол\Зима Какого цвета снег\Холькина Какого цвета снег\картинки\Какого цвета снег Холькина\Слайд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1\Рабочий стол\Зима Какого цвета снег\Холькина Какого цвета снег\картинки\Какого цвета снег Холькина\Слайд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1\Рабочий стол\Зима Какого цвета снег\Холькина Какого цвета снег\картинки\Какого цвета снег Холькина\Слайд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1\Рабочий стол\Зима Какого цвета снег\Холькина Какого цвета снег\картинки\Какого цвета снег Холькина\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1\Рабочий стол\Зима Какого цвета снег\Холькина Какого цвета снег\картинки\Какого цвета снег Холькина\Слайд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1\Рабочий стол\Зима Какого цвета снег\Холькина Какого цвета снег\картинки\Какого цвета снег Холькина\Слайд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1\Рабочий стол\Зима Какого цвета снег\Холькина Какого цвета снег\картинки\Какого цвета снег Холькина\Слайд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1\Рабочий стол\Зима Какого цвета снег\Холькина Какого цвета снег\картинки\Какого цвета снег Холькина\Слайд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1\Рабочий стол\Зима Какого цвета снег\Холькина Какого цвета снег\картинки\Какого цвета снег Холькина\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1\Рабочий стол\Зима Какого цвета снег\Холькина Какого цвета снег\картинки\Какого цвета снег Холькина\Слайд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1\Рабочий стол\Зима Какого цвета снег\Холькина Какого цвета снег\картинки\Какого цвета снег Холькина\Слайд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5:54:40Z</dcterms:created>
  <dc:creator>Comp</dc:creator>
  <dc:description/>
  <dc:language>en-US</dc:language>
  <cp:lastModifiedBy>Danila</cp:lastModifiedBy>
  <dcterms:modified xsi:type="dcterms:W3CDTF">2020-04-02T16:42:53Z</dcterms:modified>
  <cp:revision>11</cp:revision>
  <dc:subject/>
  <dc:title>Слайд 1</dc:title>
</cp:coreProperties>
</file>